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407520" y="706320"/>
            <a:ext cx="61930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F79DB-2C54-4067-8EB1-22F3F924DF1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0B8DB-CDCB-4585-B904-97DAB65459B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8EA21-D3C9-4B11-8FC6-FA17EEA5A15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68851-7D92-40D0-B659-E254911AB65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C233-BD35-4F54-AD67-26FC72E578A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6E8A-BAC0-4CC6-AC22-0B773BAA2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DFC8-F48B-45B0-9280-B46904BA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318C-322F-4CB2-AC28-27D7BD5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5530-8468-4693-9B8B-7B02A0D19D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C747-637B-40C3-89DF-FEA2B412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C80C-2EB7-4162-9E01-2755743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E8E0-898C-43D9-AFEB-F9A96418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21FC-B889-4E58-AE21-99DA0376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ECBB-5F5A-459F-99F3-7AA34616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D53A-3817-43DA-806E-22393210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2845-4DC1-474B-8D53-E56772BD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C829-5098-4964-8BDD-BC31F686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/18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07028-E1AE-4ED8-BFB6-ADAF7BE732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057400" y="1523880"/>
            <a:ext cx="7772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1. High Level Design Overvie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AutoShape 56"/>
          <p:cNvCxnSpPr>
            <a:stCxn id="337" idx="2"/>
            <a:endCxn id="338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2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60"/>
          <p:cNvCxnSpPr>
            <a:stCxn id="338" idx="2"/>
            <a:endCxn id="346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7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73"/>
          <p:cNvCxnSpPr>
            <a:stCxn id="343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49" name="AutoShape 74"/>
          <p:cNvCxnSpPr>
            <a:stCxn id="343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50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9"/>
          <p:cNvSpPr/>
          <p:nvPr/>
        </p:nvSpPr>
        <p:spPr>
          <a:xfrm>
            <a:off x="5410080" y="3052800"/>
            <a:ext cx="838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60"/>
          <p:cNvCxnSpPr>
            <a:stCxn id="346" idx="2"/>
            <a:endCxn id="342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3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5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7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56"/>
          <p:cNvCxnSpPr>
            <a:stCxn id="361" idx="2"/>
            <a:endCxn id="362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66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AutoShape 60"/>
          <p:cNvCxnSpPr>
            <a:stCxn id="362" idx="2"/>
            <a:endCxn id="370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1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AutoShape 73"/>
          <p:cNvCxnSpPr>
            <a:stCxn id="367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73" name="AutoShape 74"/>
          <p:cNvCxnSpPr>
            <a:stCxn id="367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74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70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8778960" y="3052800"/>
            <a:ext cx="838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AutoShape 60"/>
          <p:cNvCxnSpPr>
            <a:stCxn id="370" idx="2"/>
            <a:endCxn id="366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8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81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151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36360" y="1219320"/>
            <a:ext cx="5666040" cy="43210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AutoShape 83"/>
          <p:cNvCxnSpPr>
            <a:endCxn id="385" idx="2"/>
          </p:cNvCxnSpPr>
          <p:nvPr/>
        </p:nvCxnSpPr>
        <p:spPr>
          <a:xfrm>
            <a:off x="5227560" y="4724280"/>
            <a:ext cx="4331520" cy="920160"/>
          </a:xfrm>
          <a:prstGeom prst="bentConnector4">
            <a:avLst>
              <a:gd name="adj1" fmla="val 15177"/>
              <a:gd name="adj2" fmla="val 206223"/>
            </a:avLst>
          </a:prstGeom>
          <a:ln w="25560">
            <a:solidFill>
              <a:srgbClr val="ea3eb1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386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AutoShape 83"/>
          <p:cNvCxnSpPr>
            <a:endCxn id="386" idx="1"/>
          </p:cNvCxnSpPr>
          <p:nvPr/>
        </p:nvCxnSpPr>
        <p:spPr>
          <a:xfrm>
            <a:off x="3504960" y="2666880"/>
            <a:ext cx="4478760" cy="2741040"/>
          </a:xfrm>
          <a:prstGeom prst="bentConnector3">
            <a:avLst>
              <a:gd name="adj1" fmla="val 60418"/>
            </a:avLst>
          </a:prstGeom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388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AutoShape 83"/>
          <p:cNvCxnSpPr>
            <a:stCxn id="388" idx="2"/>
          </p:cNvCxnSpPr>
          <p:nvPr/>
        </p:nvCxnSpPr>
        <p:spPr>
          <a:xfrm flipH="1" rot="16200000">
            <a:off x="5036040" y="418680"/>
            <a:ext cx="1328040" cy="8582760"/>
          </a:xfrm>
          <a:prstGeom prst="bentConnector4">
            <a:avLst>
              <a:gd name="adj1" fmla="val 204446"/>
              <a:gd name="adj2" fmla="val 105834"/>
            </a:avLst>
          </a:prstGeom>
          <a:ln w="25560">
            <a:solidFill>
              <a:srgbClr val="659a2a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390" name="TextBox 5140"/>
          <p:cNvSpPr/>
          <p:nvPr/>
        </p:nvSpPr>
        <p:spPr>
          <a:xfrm>
            <a:off x="617220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142"/>
          <p:cNvSpPr/>
          <p:nvPr/>
        </p:nvSpPr>
        <p:spPr>
          <a:xfrm>
            <a:off x="3780000" y="236232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147"/>
          <p:cNvSpPr/>
          <p:nvPr/>
        </p:nvSpPr>
        <p:spPr>
          <a:xfrm>
            <a:off x="1631880" y="62946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2"/>
          <p:cNvSpPr/>
          <p:nvPr/>
        </p:nvSpPr>
        <p:spPr>
          <a:xfrm>
            <a:off x="990720" y="3886200"/>
            <a:ext cx="869760" cy="16020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1"/>
          <p:cNvSpPr/>
          <p:nvPr/>
        </p:nvSpPr>
        <p:spPr>
          <a:xfrm>
            <a:off x="277920" y="5335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"/>
          <p:cNvSpPr/>
          <p:nvPr/>
        </p:nvSpPr>
        <p:spPr>
          <a:xfrm>
            <a:off x="9677520" y="533520"/>
            <a:ext cx="220968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2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levels group and subject have corresponding folders but not sess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AutoShape 56"/>
          <p:cNvCxnSpPr>
            <a:stCxn id="498" idx="2"/>
            <a:endCxn id="499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03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60"/>
          <p:cNvCxnSpPr>
            <a:stCxn id="499" idx="2"/>
            <a:endCxn id="507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08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73"/>
          <p:cNvCxnSpPr>
            <a:stCxn id="504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510" name="AutoShape 74"/>
          <p:cNvCxnSpPr>
            <a:stCxn id="504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511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60"/>
          <p:cNvCxnSpPr>
            <a:stCxn id="507" idx="2"/>
            <a:endCxn id="503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13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15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17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"/>
          <p:cNvSpPr/>
          <p:nvPr/>
        </p:nvSpPr>
        <p:spPr>
          <a:xfrm>
            <a:off x="9301320" y="662040"/>
            <a:ext cx="273816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place of the missing session folders one session level is created in each subject of the data tre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136440" y="1066680"/>
            <a:ext cx="5710320" cy="457704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56"/>
          <p:cNvCxnSpPr>
            <a:stCxn id="524" idx="2"/>
            <a:endCxn id="525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29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AutoShape 60"/>
          <p:cNvCxnSpPr>
            <a:stCxn id="525" idx="2"/>
            <a:endCxn id="533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34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AutoShape 73"/>
          <p:cNvCxnSpPr>
            <a:stCxn id="530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536" name="AutoShape 74"/>
          <p:cNvCxnSpPr>
            <a:stCxn id="530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537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33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AutoShape 60"/>
          <p:cNvCxnSpPr>
            <a:stCxn id="533" idx="2"/>
            <a:endCxn id="529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40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43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83"/>
          <p:cNvCxnSpPr>
            <a:endCxn id="546" idx="2"/>
          </p:cNvCxnSpPr>
          <p:nvPr/>
        </p:nvCxnSpPr>
        <p:spPr>
          <a:xfrm>
            <a:off x="4208040" y="4517640"/>
            <a:ext cx="5350680" cy="1126440"/>
          </a:xfrm>
          <a:prstGeom prst="bentConnector4">
            <a:avLst>
              <a:gd name="adj1" fmla="val 33393"/>
              <a:gd name="adj2" fmla="val 187148"/>
            </a:avLst>
          </a:prstGeom>
          <a:ln w="25560">
            <a:solidFill>
              <a:srgbClr val="ea3eb1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547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AutoShape 83"/>
          <p:cNvCxnSpPr>
            <a:endCxn id="547" idx="1"/>
          </p:cNvCxnSpPr>
          <p:nvPr/>
        </p:nvCxnSpPr>
        <p:spPr>
          <a:xfrm>
            <a:off x="2695680" y="2306160"/>
            <a:ext cx="5288400" cy="3101400"/>
          </a:xfrm>
          <a:prstGeom prst="bentConnector3">
            <a:avLst>
              <a:gd name="adj1" fmla="val 67696"/>
            </a:avLst>
          </a:prstGeom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549" name="Rectangle 5128"/>
          <p:cNvSpPr/>
          <p:nvPr/>
        </p:nvSpPr>
        <p:spPr>
          <a:xfrm>
            <a:off x="121932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AutoShape 83"/>
          <p:cNvCxnSpPr>
            <a:stCxn id="549" idx="2"/>
            <a:endCxn id="551" idx="3"/>
          </p:cNvCxnSpPr>
          <p:nvPr/>
        </p:nvCxnSpPr>
        <p:spPr>
          <a:xfrm flipH="1" rot="16200000">
            <a:off x="5110920" y="496080"/>
            <a:ext cx="1321200" cy="8420760"/>
          </a:xfrm>
          <a:prstGeom prst="bentConnector4">
            <a:avLst>
              <a:gd name="adj1" fmla="val 206105"/>
              <a:gd name="adj2" fmla="val 107097"/>
            </a:avLst>
          </a:prstGeom>
          <a:ln w="25560">
            <a:solidFill>
              <a:srgbClr val="659a2a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552" name="TextBox 5140"/>
          <p:cNvSpPr/>
          <p:nvPr/>
        </p:nvSpPr>
        <p:spPr>
          <a:xfrm>
            <a:off x="624852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142"/>
          <p:cNvSpPr/>
          <p:nvPr/>
        </p:nvSpPr>
        <p:spPr>
          <a:xfrm>
            <a:off x="3094200" y="199548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5147"/>
          <p:cNvSpPr/>
          <p:nvPr/>
        </p:nvSpPr>
        <p:spPr>
          <a:xfrm>
            <a:off x="1663560" y="63054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22"/>
          <p:cNvSpPr/>
          <p:nvPr/>
        </p:nvSpPr>
        <p:spPr>
          <a:xfrm>
            <a:off x="1143000" y="3886200"/>
            <a:ext cx="870120" cy="16992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4"/>
          <p:cNvSpPr/>
          <p:nvPr/>
        </p:nvSpPr>
        <p:spPr>
          <a:xfrm>
            <a:off x="2057400" y="24098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4. Stimul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34"/>
          <p:cNvSpPr/>
          <p:nvPr/>
        </p:nvSpPr>
        <p:spPr>
          <a:xfrm>
            <a:off x="3065400" y="1252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5"/>
          <p:cNvSpPr/>
          <p:nvPr/>
        </p:nvSpPr>
        <p:spPr>
          <a:xfrm>
            <a:off x="3065400" y="188928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6"/>
          <p:cNvSpPr/>
          <p:nvPr/>
        </p:nvSpPr>
        <p:spPr>
          <a:xfrm>
            <a:off x="3083040" y="2503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7"/>
          <p:cNvSpPr/>
          <p:nvPr/>
        </p:nvSpPr>
        <p:spPr>
          <a:xfrm>
            <a:off x="814320" y="114480"/>
            <a:ext cx="552600" cy="48384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8"/>
          <p:cNvSpPr/>
          <p:nvPr/>
        </p:nvSpPr>
        <p:spPr>
          <a:xfrm>
            <a:off x="2014560" y="809640"/>
            <a:ext cx="4237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Connector: Elbow 39"/>
          <p:cNvCxnSpPr>
            <a:stCxn id="562" idx="3"/>
            <a:endCxn id="563" idx="1"/>
          </p:cNvCxnSpPr>
          <p:nvPr/>
        </p:nvCxnSpPr>
        <p:spPr>
          <a:xfrm>
            <a:off x="1366560" y="357120"/>
            <a:ext cx="648360" cy="69624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565" name="Connector: Elbow 40"/>
          <p:cNvCxnSpPr>
            <a:stCxn id="563" idx="3"/>
            <a:endCxn id="561" idx="1"/>
          </p:cNvCxnSpPr>
          <p:nvPr/>
        </p:nvCxnSpPr>
        <p:spPr>
          <a:xfrm>
            <a:off x="2437920" y="1052280"/>
            <a:ext cx="645480" cy="16945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566" name="Straight Connector 41"/>
          <p:cNvSpPr/>
          <p:nvPr/>
        </p:nvSpPr>
        <p:spPr>
          <a:xfrm>
            <a:off x="2760840" y="151776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2"/>
          <p:cNvSpPr/>
          <p:nvPr/>
        </p:nvSpPr>
        <p:spPr>
          <a:xfrm>
            <a:off x="3078000" y="3338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3"/>
          <p:cNvSpPr/>
          <p:nvPr/>
        </p:nvSpPr>
        <p:spPr>
          <a:xfrm>
            <a:off x="3078000" y="3887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4"/>
          <p:cNvSpPr/>
          <p:nvPr/>
        </p:nvSpPr>
        <p:spPr>
          <a:xfrm>
            <a:off x="3078000" y="4449600"/>
            <a:ext cx="1179720" cy="4860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5"/>
          <p:cNvSpPr/>
          <p:nvPr/>
        </p:nvSpPr>
        <p:spPr>
          <a:xfrm>
            <a:off x="2027160" y="2982960"/>
            <a:ext cx="42408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Connector: Elbow 46"/>
          <p:cNvCxnSpPr>
            <a:stCxn id="562" idx="3"/>
            <a:endCxn id="570" idx="1"/>
          </p:cNvCxnSpPr>
          <p:nvPr/>
        </p:nvCxnSpPr>
        <p:spPr>
          <a:xfrm>
            <a:off x="1366920" y="357120"/>
            <a:ext cx="660600" cy="28677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572" name="Connector: Elbow 47"/>
          <p:cNvCxnSpPr>
            <a:stCxn id="570" idx="3"/>
            <a:endCxn id="569" idx="1"/>
          </p:cNvCxnSpPr>
          <p:nvPr/>
        </p:nvCxnSpPr>
        <p:spPr>
          <a:xfrm>
            <a:off x="2450880" y="3223800"/>
            <a:ext cx="627480" cy="14691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573" name="Rectangle 48"/>
          <p:cNvSpPr/>
          <p:nvPr/>
        </p:nvSpPr>
        <p:spPr>
          <a:xfrm>
            <a:off x="3090960" y="5373720"/>
            <a:ext cx="117936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9"/>
          <p:cNvSpPr/>
          <p:nvPr/>
        </p:nvSpPr>
        <p:spPr>
          <a:xfrm>
            <a:off x="3090960" y="6008760"/>
            <a:ext cx="1179360" cy="48564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0"/>
          <p:cNvSpPr/>
          <p:nvPr/>
        </p:nvSpPr>
        <p:spPr>
          <a:xfrm>
            <a:off x="2022480" y="4930920"/>
            <a:ext cx="4255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6" name="Connector: Elbow 51"/>
          <p:cNvCxnSpPr>
            <a:stCxn id="562" idx="3"/>
            <a:endCxn id="575" idx="1"/>
          </p:cNvCxnSpPr>
          <p:nvPr/>
        </p:nvCxnSpPr>
        <p:spPr>
          <a:xfrm>
            <a:off x="1366560" y="356760"/>
            <a:ext cx="656280" cy="48157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577" name="Connector: Elbow 52"/>
          <p:cNvCxnSpPr>
            <a:stCxn id="575" idx="3"/>
            <a:endCxn id="574" idx="1"/>
          </p:cNvCxnSpPr>
          <p:nvPr/>
        </p:nvCxnSpPr>
        <p:spPr>
          <a:xfrm>
            <a:off x="2448000" y="5172120"/>
            <a:ext cx="643320" cy="108000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578" name="TextBox 53"/>
          <p:cNvSpPr/>
          <p:nvPr/>
        </p:nvSpPr>
        <p:spPr>
          <a:xfrm>
            <a:off x="5938920" y="61920"/>
            <a:ext cx="55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4"/>
          <p:cNvSpPr/>
          <p:nvPr/>
        </p:nvSpPr>
        <p:spPr>
          <a:xfrm>
            <a:off x="6264360" y="2787480"/>
            <a:ext cx="2460600" cy="2108520"/>
          </a:xfrm>
          <a:prstGeom prst="ellipse">
            <a:avLst/>
          </a:prstGeom>
          <a:noFill/>
          <a:ln w="252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Assume group data set with this directory/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: Shape 55"/>
          <p:cNvSpPr/>
          <p:nvPr/>
        </p:nvSpPr>
        <p:spPr>
          <a:xfrm flipV="1">
            <a:off x="4406760" y="3268800"/>
            <a:ext cx="2210040" cy="242640"/>
          </a:xfrm>
          <a:custGeom>
            <a:avLst/>
            <a:gdLst/>
            <a:ahLst/>
            <a:rect l="l" t="t" r="r" b="b"/>
            <a:pathLst>
              <a:path w="3222171" h="531135">
                <a:moveTo>
                  <a:pt x="3222171" y="0"/>
                </a:moveTo>
                <a:cubicBezTo>
                  <a:pt x="2702559" y="198120"/>
                  <a:pt x="2182948" y="396241"/>
                  <a:pt x="1645920" y="478972"/>
                </a:cubicBezTo>
                <a:cubicBezTo>
                  <a:pt x="1108892" y="561703"/>
                  <a:pt x="554446" y="529046"/>
                  <a:pt x="0" y="496389"/>
                </a:cubicBezTo>
              </a:path>
            </a:pathLst>
          </a:custGeom>
          <a:noFill/>
          <a:ln w="38160">
            <a:solidFill>
              <a:srgbClr val="2f52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6"/>
          <p:cNvSpPr/>
          <p:nvPr/>
        </p:nvSpPr>
        <p:spPr>
          <a:xfrm>
            <a:off x="820800" y="6251400"/>
            <a:ext cx="552240" cy="48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57"/>
          <p:cNvSpPr/>
          <p:nvPr/>
        </p:nvSpPr>
        <p:spPr>
          <a:xfrm>
            <a:off x="2747880" y="217476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58"/>
          <p:cNvSpPr/>
          <p:nvPr/>
        </p:nvSpPr>
        <p:spPr>
          <a:xfrm>
            <a:off x="2766960" y="357984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59"/>
          <p:cNvSpPr/>
          <p:nvPr/>
        </p:nvSpPr>
        <p:spPr>
          <a:xfrm>
            <a:off x="2760840" y="412920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60"/>
          <p:cNvSpPr/>
          <p:nvPr/>
        </p:nvSpPr>
        <p:spPr>
          <a:xfrm>
            <a:off x="496800" y="35388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61"/>
          <p:cNvSpPr/>
          <p:nvPr/>
        </p:nvSpPr>
        <p:spPr>
          <a:xfrm>
            <a:off x="501480" y="6521400"/>
            <a:ext cx="3193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62"/>
          <p:cNvSpPr/>
          <p:nvPr/>
        </p:nvSpPr>
        <p:spPr>
          <a:xfrm>
            <a:off x="496800" y="184320"/>
            <a:ext cx="0" cy="659124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Connector: Elbow 63"/>
          <p:cNvCxnSpPr/>
          <p:nvPr/>
        </p:nvCxnSpPr>
        <p:spPr>
          <a:xfrm>
            <a:off x="1366560" y="6494040"/>
            <a:ext cx="717840" cy="250200"/>
          </a:xfrm>
          <a:prstGeom prst="bentConnector3">
            <a:avLst>
              <a:gd name="adj1" fmla="val 49974"/>
            </a:avLst>
          </a:prstGeom>
          <a:ln w="6480">
            <a:solidFill>
              <a:srgbClr val="4472c4"/>
            </a:solidFill>
            <a:prstDash val="dash"/>
            <a:miter/>
          </a:ln>
        </p:spPr>
      </p:cxnSp>
      <p:sp>
        <p:nvSpPr>
          <p:cNvPr id="589" name="Rectangle 64"/>
          <p:cNvSpPr/>
          <p:nvPr/>
        </p:nvSpPr>
        <p:spPr>
          <a:xfrm>
            <a:off x="192240" y="49320"/>
            <a:ext cx="5111640" cy="674820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65"/>
          <p:cNvSpPr/>
          <p:nvPr/>
        </p:nvSpPr>
        <p:spPr>
          <a:xfrm>
            <a:off x="3967200" y="856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roup  Directory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3711600" y="10526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3003480" y="2101680"/>
          <a:ext cx="901800" cy="582840"/>
        </p:xfrm>
        <a:graphic>
          <a:graphicData uri="http://schemas.openxmlformats.org/drawingml/2006/table">
            <a:tbl>
              <a:tblPr/>
              <a:tblGrid>
                <a:gridCol w="222480"/>
                <a:gridCol w="226800"/>
                <a:gridCol w="225360"/>
                <a:gridCol w="22716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3995640" y="2101680"/>
          <a:ext cx="833400" cy="58284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4898880" y="2106720"/>
          <a:ext cx="83376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745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1471680" y="3406680"/>
          <a:ext cx="8319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238428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413712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043600" y="3406680"/>
          <a:ext cx="8316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594684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74199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832644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217440" y="4711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131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cxnSp>
        <p:nvCxnSpPr>
          <p:cNvPr id="605" name="Connector: Elbow 16"/>
          <p:cNvCxnSpPr/>
          <p:nvPr/>
        </p:nvCxnSpPr>
        <p:spPr>
          <a:xfrm flipV="1" rot="10800000">
            <a:off x="3002760" y="1342080"/>
            <a:ext cx="708840" cy="105156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6" name="Connector: Elbow 17"/>
          <p:cNvCxnSpPr/>
          <p:nvPr/>
        </p:nvCxnSpPr>
        <p:spPr>
          <a:xfrm rot="5400000">
            <a:off x="1441800" y="1816560"/>
            <a:ext cx="1145160" cy="2880720"/>
          </a:xfrm>
          <a:prstGeom prst="bentConnector4">
            <a:avLst>
              <a:gd name="adj1" fmla="val 31572"/>
              <a:gd name="adj2" fmla="val 10793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7" name="Connector: Elbow 18"/>
          <p:cNvCxnSpPr/>
          <p:nvPr/>
        </p:nvCxnSpPr>
        <p:spPr>
          <a:xfrm rot="5400000">
            <a:off x="3702240" y="3118320"/>
            <a:ext cx="1145160" cy="276840"/>
          </a:xfrm>
          <a:prstGeom prst="bentConnector4">
            <a:avLst>
              <a:gd name="adj1" fmla="val 31572"/>
              <a:gd name="adj2" fmla="val 182942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8" name="Connector: Elbow 19"/>
          <p:cNvCxnSpPr/>
          <p:nvPr/>
        </p:nvCxnSpPr>
        <p:spPr>
          <a:xfrm flipH="1" rot="16200000">
            <a:off x="6216840" y="1785960"/>
            <a:ext cx="717840" cy="25232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9" name="Connector: Elbow 20"/>
          <p:cNvCxnSpPr/>
          <p:nvPr/>
        </p:nvCxnSpPr>
        <p:spPr>
          <a:xfrm rot="5400000">
            <a:off x="581400" y="4302720"/>
            <a:ext cx="462600" cy="35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0" name="Connector: Elbow 21"/>
          <p:cNvCxnSpPr/>
          <p:nvPr/>
        </p:nvCxnSpPr>
        <p:spPr>
          <a:xfrm rot="5400000">
            <a:off x="1535400" y="4457160"/>
            <a:ext cx="559080" cy="14472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1" name="Connector: Elbow 22"/>
          <p:cNvCxnSpPr/>
          <p:nvPr/>
        </p:nvCxnSpPr>
        <p:spPr>
          <a:xfrm flipH="1" rot="16200000">
            <a:off x="2579040" y="4474080"/>
            <a:ext cx="583200" cy="8640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2" name="Connector: Elbow 23"/>
          <p:cNvCxnSpPr/>
          <p:nvPr/>
        </p:nvCxnSpPr>
        <p:spPr>
          <a:xfrm rot="5400000">
            <a:off x="4163400" y="44924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3" name="Connector: Elbow 24"/>
          <p:cNvCxnSpPr/>
          <p:nvPr/>
        </p:nvCxnSpPr>
        <p:spPr>
          <a:xfrm rot="5400000">
            <a:off x="5086440" y="4588200"/>
            <a:ext cx="711720" cy="34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4" name="Connector: Elbow 25"/>
          <p:cNvCxnSpPr/>
          <p:nvPr/>
        </p:nvCxnSpPr>
        <p:spPr>
          <a:xfrm flipH="1" rot="16200000">
            <a:off x="6103080" y="4506480"/>
            <a:ext cx="597600" cy="8028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5" name="Connector: Elbow 26"/>
          <p:cNvCxnSpPr/>
          <p:nvPr/>
        </p:nvCxnSpPr>
        <p:spPr>
          <a:xfrm flipH="1" rot="16200000">
            <a:off x="7807320" y="4278600"/>
            <a:ext cx="506880" cy="4482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6" name="Connector: Elbow 27"/>
          <p:cNvCxnSpPr/>
          <p:nvPr/>
        </p:nvCxnSpPr>
        <p:spPr>
          <a:xfrm flipH="1" rot="16200000">
            <a:off x="8737560" y="4254120"/>
            <a:ext cx="545040" cy="535680"/>
          </a:xfrm>
          <a:prstGeom prst="bentConnector3">
            <a:avLst>
              <a:gd name="adj1" fmla="val 4996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graphicFrame>
        <p:nvGraphicFramePr>
          <p:cNvPr id="617" name=""/>
          <p:cNvGraphicFramePr/>
          <p:nvPr/>
        </p:nvGraphicFramePr>
        <p:xfrm>
          <a:off x="248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3976560" y="4881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4995720" y="4960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6012000" y="48448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7837560" y="47656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8847000" y="47941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4626000" y="1058760"/>
          <a:ext cx="833400" cy="582840"/>
        </p:xfrm>
        <a:graphic>
          <a:graphicData uri="http://schemas.openxmlformats.org/drawingml/2006/table">
            <a:tbl>
              <a:tblPr/>
              <a:tblGrid>
                <a:gridCol w="83340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624" name="Oval 35"/>
          <p:cNvSpPr/>
          <p:nvPr/>
        </p:nvSpPr>
        <p:spPr>
          <a:xfrm>
            <a:off x="6362640" y="1946160"/>
            <a:ext cx="1562040" cy="10494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Add 3 stims to NEW condition “4” in derived data of run  1,2,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6"/>
          <p:cNvSpPr/>
          <p:nvPr/>
        </p:nvSpPr>
        <p:spPr>
          <a:xfrm>
            <a:off x="307800" y="6602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7"/>
          <p:cNvSpPr/>
          <p:nvPr/>
        </p:nvSpPr>
        <p:spPr>
          <a:xfrm>
            <a:off x="112680" y="568440"/>
            <a:ext cx="9833040" cy="60595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3"/>
          <p:cNvSpPr/>
          <p:nvPr/>
        </p:nvSpPr>
        <p:spPr>
          <a:xfrm>
            <a:off x="217440" y="36360"/>
            <a:ext cx="106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: 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Adding new stim to new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: Shape 44"/>
          <p:cNvSpPr/>
          <p:nvPr/>
        </p:nvSpPr>
        <p:spPr>
          <a:xfrm>
            <a:off x="5600880" y="2583000"/>
            <a:ext cx="1035000" cy="1144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45"/>
          <p:cNvSpPr/>
          <p:nvPr/>
        </p:nvSpPr>
        <p:spPr>
          <a:xfrm>
            <a:off x="5425920" y="3649680"/>
            <a:ext cx="306720" cy="730080"/>
          </a:xfrm>
          <a:prstGeom prst="ellipse">
            <a:avLst/>
          </a:prstGeom>
          <a:solidFill>
            <a:srgbClr val="c36a33">
              <a:alpha val="26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6"/>
          <p:cNvSpPr/>
          <p:nvPr/>
        </p:nvSpPr>
        <p:spPr>
          <a:xfrm>
            <a:off x="1071720" y="1316160"/>
            <a:ext cx="1562040" cy="105084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2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Regenerate conditions set in derived data of entire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: Shape 47"/>
          <p:cNvSpPr/>
          <p:nvPr/>
        </p:nvSpPr>
        <p:spPr>
          <a:xfrm flipH="1" flipV="1">
            <a:off x="2333520" y="1590120"/>
            <a:ext cx="1890720" cy="29196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: Shape 48"/>
          <p:cNvSpPr/>
          <p:nvPr/>
        </p:nvSpPr>
        <p:spPr>
          <a:xfrm flipH="1">
            <a:off x="1693080" y="2232000"/>
            <a:ext cx="335160" cy="1495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9"/>
          <p:cNvSpPr/>
          <p:nvPr/>
        </p:nvSpPr>
        <p:spPr>
          <a:xfrm>
            <a:off x="2409840" y="5986440"/>
            <a:ext cx="2530440" cy="5526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3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Save changed run stim to acquisition file </a:t>
            </a: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g1s2r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: Shape 50"/>
          <p:cNvSpPr/>
          <p:nvPr/>
        </p:nvSpPr>
        <p:spPr>
          <a:xfrm flipH="1" flipV="1">
            <a:off x="4587120" y="5758560"/>
            <a:ext cx="762120" cy="54612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1"/>
          <p:cNvSpPr/>
          <p:nvPr/>
        </p:nvSpPr>
        <p:spPr>
          <a:xfrm>
            <a:off x="10745640" y="467532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52"/>
          <p:cNvSpPr/>
          <p:nvPr/>
        </p:nvSpPr>
        <p:spPr>
          <a:xfrm>
            <a:off x="10744200" y="413388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: Shape 53"/>
          <p:cNvSpPr/>
          <p:nvPr/>
        </p:nvSpPr>
        <p:spPr>
          <a:xfrm>
            <a:off x="9078840" y="3886200"/>
            <a:ext cx="1803600" cy="4507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: Shape 54"/>
          <p:cNvSpPr/>
          <p:nvPr/>
        </p:nvSpPr>
        <p:spPr>
          <a:xfrm>
            <a:off x="9067680" y="4187880"/>
            <a:ext cx="1797120" cy="657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: Shape 55"/>
          <p:cNvSpPr/>
          <p:nvPr/>
        </p:nvSpPr>
        <p:spPr>
          <a:xfrm flipV="1">
            <a:off x="9540720" y="437184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: Shape 56"/>
          <p:cNvSpPr/>
          <p:nvPr/>
        </p:nvSpPr>
        <p:spPr>
          <a:xfrm flipV="1">
            <a:off x="9540720" y="4946760"/>
            <a:ext cx="1406520" cy="56808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"/>
          <p:cNvGraphicFramePr/>
          <p:nvPr/>
        </p:nvGraphicFramePr>
        <p:xfrm>
          <a:off x="3807000" y="12668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3098880" y="2316240"/>
          <a:ext cx="903240" cy="582480"/>
        </p:xfrm>
        <a:graphic>
          <a:graphicData uri="http://schemas.openxmlformats.org/drawingml/2006/table">
            <a:tbl>
              <a:tblPr/>
              <a:tblGrid>
                <a:gridCol w="222120"/>
                <a:gridCol w="227160"/>
                <a:gridCol w="226800"/>
                <a:gridCol w="22716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4091040" y="23162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4994280" y="232092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6699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1566720" y="3621240"/>
          <a:ext cx="8337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2479680" y="361944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42321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51386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041880" y="3619440"/>
          <a:ext cx="8337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751680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4218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cxnSp>
        <p:nvCxnSpPr>
          <p:cNvPr id="653" name="Connector: Elbow 14"/>
          <p:cNvCxnSpPr/>
          <p:nvPr/>
        </p:nvCxnSpPr>
        <p:spPr>
          <a:xfrm flipV="1" rot="10800000">
            <a:off x="3098160" y="1557720"/>
            <a:ext cx="708840" cy="105012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4" name="Connector: Elbow 15"/>
          <p:cNvCxnSpPr/>
          <p:nvPr/>
        </p:nvCxnSpPr>
        <p:spPr>
          <a:xfrm rot="5400000">
            <a:off x="1536480" y="2031120"/>
            <a:ext cx="1145520" cy="2880360"/>
          </a:xfrm>
          <a:prstGeom prst="bentConnector4">
            <a:avLst>
              <a:gd name="adj1" fmla="val 31562"/>
              <a:gd name="adj2" fmla="val 107937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5" name="Connector: Elbow 16"/>
          <p:cNvCxnSpPr/>
          <p:nvPr/>
        </p:nvCxnSpPr>
        <p:spPr>
          <a:xfrm rot="5400000">
            <a:off x="3797280" y="3332880"/>
            <a:ext cx="1145520" cy="277200"/>
          </a:xfrm>
          <a:prstGeom prst="bentConnector4">
            <a:avLst>
              <a:gd name="adj1" fmla="val 31562"/>
              <a:gd name="adj2" fmla="val 18296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6" name="Connector: Elbow 17"/>
          <p:cNvCxnSpPr/>
          <p:nvPr/>
        </p:nvCxnSpPr>
        <p:spPr>
          <a:xfrm flipH="1" rot="16200000">
            <a:off x="6313320" y="2001600"/>
            <a:ext cx="718560" cy="25214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7" name="Connector: Elbow 18"/>
          <p:cNvCxnSpPr/>
          <p:nvPr/>
        </p:nvCxnSpPr>
        <p:spPr>
          <a:xfrm rot="5400000">
            <a:off x="677160" y="4515840"/>
            <a:ext cx="462600" cy="358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8" name="Connector: Elbow 19"/>
          <p:cNvCxnSpPr/>
          <p:nvPr/>
        </p:nvCxnSpPr>
        <p:spPr>
          <a:xfrm rot="5400000">
            <a:off x="1629720" y="4671720"/>
            <a:ext cx="561240" cy="1454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9" name="Connector: Elbow 20"/>
          <p:cNvCxnSpPr/>
          <p:nvPr/>
        </p:nvCxnSpPr>
        <p:spPr>
          <a:xfrm flipH="1" rot="16200000">
            <a:off x="2673000" y="4689000"/>
            <a:ext cx="585000" cy="8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0" name="Connector: Elbow 21"/>
          <p:cNvCxnSpPr/>
          <p:nvPr/>
        </p:nvCxnSpPr>
        <p:spPr>
          <a:xfrm rot="5400000">
            <a:off x="4260240" y="47066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1" name="Connector: Elbow 22"/>
          <p:cNvCxnSpPr/>
          <p:nvPr/>
        </p:nvCxnSpPr>
        <p:spPr>
          <a:xfrm rot="5400000">
            <a:off x="5180760" y="4803480"/>
            <a:ext cx="713520" cy="3420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2" name="Connector: Elbow 23"/>
          <p:cNvCxnSpPr/>
          <p:nvPr/>
        </p:nvCxnSpPr>
        <p:spPr>
          <a:xfrm flipH="1" rot="16200000">
            <a:off x="6194880" y="4724280"/>
            <a:ext cx="605520" cy="81360"/>
          </a:xfrm>
          <a:prstGeom prst="bentConnector3">
            <a:avLst>
              <a:gd name="adj1" fmla="val 4997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3" name="Connector: Elbow 24"/>
          <p:cNvCxnSpPr/>
          <p:nvPr/>
        </p:nvCxnSpPr>
        <p:spPr>
          <a:xfrm flipH="1" rot="16200000">
            <a:off x="7904160" y="4491720"/>
            <a:ext cx="506880" cy="4500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4" name="Connector: Elbow 25"/>
          <p:cNvCxnSpPr/>
          <p:nvPr/>
        </p:nvCxnSpPr>
        <p:spPr>
          <a:xfrm flipH="1" rot="16200000">
            <a:off x="8829360" y="4473000"/>
            <a:ext cx="553320" cy="5342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graphicFrame>
        <p:nvGraphicFramePr>
          <p:cNvPr id="665" name=""/>
          <p:cNvGraphicFramePr/>
          <p:nvPr/>
        </p:nvGraphicFramePr>
        <p:xfrm>
          <a:off x="4722840" y="1273320"/>
          <a:ext cx="831960" cy="582480"/>
        </p:xfrm>
        <a:graphic>
          <a:graphicData uri="http://schemas.openxmlformats.org/drawingml/2006/table">
            <a:tbl>
              <a:tblPr/>
              <a:tblGrid>
                <a:gridCol w="83196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312840" y="493380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1407960" y="503244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2579760" y="5032440"/>
          <a:ext cx="8586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4073400" y="5103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5091120" y="5184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6108840" y="506736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7932600" y="4987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8942400" y="5016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674" name="TextBox 36"/>
          <p:cNvSpPr/>
          <p:nvPr/>
        </p:nvSpPr>
        <p:spPr>
          <a:xfrm>
            <a:off x="307800" y="8510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1"/>
          <p:cNvSpPr/>
          <p:nvPr/>
        </p:nvSpPr>
        <p:spPr>
          <a:xfrm>
            <a:off x="95400" y="660240"/>
            <a:ext cx="9850320" cy="5967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42"/>
          <p:cNvSpPr/>
          <p:nvPr/>
        </p:nvSpPr>
        <p:spPr>
          <a:xfrm>
            <a:off x="1949400" y="5400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46"/>
          <p:cNvSpPr/>
          <p:nvPr/>
        </p:nvSpPr>
        <p:spPr>
          <a:xfrm>
            <a:off x="10829880" y="488484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48"/>
          <p:cNvSpPr/>
          <p:nvPr/>
        </p:nvSpPr>
        <p:spPr>
          <a:xfrm>
            <a:off x="10828440" y="434340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: Shape 14"/>
          <p:cNvSpPr/>
          <p:nvPr/>
        </p:nvSpPr>
        <p:spPr>
          <a:xfrm>
            <a:off x="9067680" y="4071960"/>
            <a:ext cx="1814760" cy="4525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: Shape 45"/>
          <p:cNvSpPr/>
          <p:nvPr/>
        </p:nvSpPr>
        <p:spPr>
          <a:xfrm>
            <a:off x="9107640" y="4330800"/>
            <a:ext cx="1814400" cy="765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: Shape 47"/>
          <p:cNvSpPr/>
          <p:nvPr/>
        </p:nvSpPr>
        <p:spPr>
          <a:xfrm flipV="1">
            <a:off x="9540720" y="463536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: Shape 49"/>
          <p:cNvSpPr/>
          <p:nvPr/>
        </p:nvSpPr>
        <p:spPr>
          <a:xfrm flipV="1">
            <a:off x="9540720" y="5210280"/>
            <a:ext cx="1501920" cy="56664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53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0"/>
          <p:cNvSpPr/>
          <p:nvPr/>
        </p:nvSpPr>
        <p:spPr>
          <a:xfrm>
            <a:off x="2808360" y="4156200"/>
            <a:ext cx="1154160" cy="6444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1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0"/>
          <p:cNvSpPr/>
          <p:nvPr/>
        </p:nvSpPr>
        <p:spPr>
          <a:xfrm>
            <a:off x="7405560" y="3809880"/>
            <a:ext cx="1295640" cy="7016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user function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Mai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0"/>
          <p:cNvSpPr/>
          <p:nvPr/>
        </p:nvSpPr>
        <p:spPr>
          <a:xfrm>
            <a:off x="8915400" y="3765600"/>
            <a:ext cx="1371600" cy="68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/Read users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2514600" y="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0"/>
          <p:cNvSpPr/>
          <p:nvPr/>
        </p:nvSpPr>
        <p:spPr>
          <a:xfrm>
            <a:off x="5021280" y="4038480"/>
            <a:ext cx="168444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65" name="Oval 60"/>
          <p:cNvSpPr/>
          <p:nvPr/>
        </p:nvSpPr>
        <p:spPr>
          <a:xfrm>
            <a:off x="8247240" y="4511520"/>
            <a:ext cx="161748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 user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"/>
          <p:cNvSpPr/>
          <p:nvPr/>
        </p:nvSpPr>
        <p:spPr>
          <a:xfrm>
            <a:off x="76320" y="548640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0"/>
          <p:cNvSpPr/>
          <p:nvPr/>
        </p:nvSpPr>
        <p:spPr>
          <a:xfrm>
            <a:off x="3962520" y="4464000"/>
            <a:ext cx="121896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0"/>
          <p:cNvSpPr/>
          <p:nvPr/>
        </p:nvSpPr>
        <p:spPr>
          <a:xfrm>
            <a:off x="3668760" y="3713040"/>
            <a:ext cx="158904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0"/>
          <p:cNvSpPr/>
          <p:nvPr/>
        </p:nvSpPr>
        <p:spPr>
          <a:xfrm>
            <a:off x="2739960" y="3156120"/>
            <a:ext cx="1908360" cy="556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0"/>
          <p:cNvSpPr/>
          <p:nvPr/>
        </p:nvSpPr>
        <p:spPr>
          <a:xfrm>
            <a:off x="4622760" y="2743200"/>
            <a:ext cx="162576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864800" y="0"/>
          <a:ext cx="1327320" cy="1463760"/>
        </p:xfrm>
        <a:graphic>
          <a:graphicData uri="http://schemas.openxmlformats.org/drawingml/2006/table">
            <a:tbl>
              <a:tblPr/>
              <a:tblGrid>
                <a:gridCol w="132732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lass object loading/storing  data from fi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bbb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  ob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2a4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a7cd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meth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e7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42"/>
          <p:cNvSpPr/>
          <p:nvPr/>
        </p:nvSpPr>
        <p:spPr>
          <a:xfrm>
            <a:off x="3619440" y="2057400"/>
            <a:ext cx="49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4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BIDS Stim Loading and Saving from Events TSV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42"/>
          <p:cNvSpPr/>
          <p:nvPr/>
        </p:nvSpPr>
        <p:spPr>
          <a:xfrm>
            <a:off x="297180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BIDS Stim Loading: Default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4" descr=""/>
          <p:cNvPicPr/>
          <p:nvPr/>
        </p:nvPicPr>
        <p:blipFill>
          <a:blip r:embed="rId1"/>
          <a:stretch/>
        </p:blipFill>
        <p:spPr>
          <a:xfrm>
            <a:off x="3733920" y="1085760"/>
            <a:ext cx="5994360" cy="4248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686" name="TextBox 15"/>
          <p:cNvSpPr/>
          <p:nvPr/>
        </p:nvSpPr>
        <p:spPr>
          <a:xfrm>
            <a:off x="685800" y="3505320"/>
            <a:ext cx="2641680" cy="33732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configuration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rrow: Right 16"/>
          <p:cNvSpPr/>
          <p:nvPr/>
        </p:nvSpPr>
        <p:spPr>
          <a:xfrm rot="1405800">
            <a:off x="3331800" y="3759120"/>
            <a:ext cx="685800" cy="169920"/>
          </a:xfrm>
          <a:prstGeom prst="rightArrow">
            <a:avLst>
              <a:gd name="adj1" fmla="val 50000"/>
              <a:gd name="adj2" fmla="val 4981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1"/>
          <p:cNvSpPr/>
          <p:nvPr/>
        </p:nvSpPr>
        <p:spPr>
          <a:xfrm>
            <a:off x="6716880" y="803160"/>
            <a:ext cx="5441760" cy="3616560"/>
          </a:xfrm>
          <a:prstGeom prst="rect">
            <a:avLst/>
          </a:pr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42"/>
          <p:cNvSpPr/>
          <p:nvPr/>
        </p:nvSpPr>
        <p:spPr>
          <a:xfrm>
            <a:off x="2743200" y="15228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Generate 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Stim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TSV:    Stim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5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5456520" cy="3581280"/>
          </a:xfrm>
          <a:prstGeom prst="rect">
            <a:avLst/>
          </a:prstGeom>
          <a:ln w="0">
            <a:noFill/>
          </a:ln>
        </p:spPr>
      </p:pic>
      <p:sp>
        <p:nvSpPr>
          <p:cNvPr id="691" name="TextBox 40"/>
          <p:cNvSpPr/>
          <p:nvPr/>
        </p:nvSpPr>
        <p:spPr>
          <a:xfrm>
            <a:off x="5562720" y="1201680"/>
            <a:ext cx="10429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2. Select Files -&gt; Export -&gt; Sti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rrow: Right 45"/>
          <p:cNvSpPr/>
          <p:nvPr/>
        </p:nvSpPr>
        <p:spPr>
          <a:xfrm rot="4085400">
            <a:off x="7416720" y="1976400"/>
            <a:ext cx="925560" cy="255600"/>
          </a:xfrm>
          <a:prstGeom prst="rightArrow">
            <a:avLst>
              <a:gd name="adj1" fmla="val 50000"/>
              <a:gd name="adj2" fmla="val 49707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0"/>
          <p:cNvSpPr/>
          <p:nvPr/>
        </p:nvSpPr>
        <p:spPr>
          <a:xfrm>
            <a:off x="152280" y="1219320"/>
            <a:ext cx="5457960" cy="3581280"/>
          </a:xfrm>
          <a:prstGeom prst="rect">
            <a:avLst/>
          </a:pr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22" descr=""/>
          <p:cNvPicPr/>
          <p:nvPr/>
        </p:nvPicPr>
        <p:blipFill>
          <a:blip r:embed="rId2"/>
          <a:stretch/>
        </p:blipFill>
        <p:spPr>
          <a:xfrm>
            <a:off x="6729480" y="835200"/>
            <a:ext cx="5462640" cy="3584520"/>
          </a:xfrm>
          <a:prstGeom prst="rect">
            <a:avLst/>
          </a:prstGeom>
          <a:ln w="0">
            <a:noFill/>
          </a:ln>
        </p:spPr>
      </p:pic>
      <p:sp>
        <p:nvSpPr>
          <p:cNvPr id="695" name="Arrow: Right 37"/>
          <p:cNvSpPr/>
          <p:nvPr/>
        </p:nvSpPr>
        <p:spPr>
          <a:xfrm rot="20630400">
            <a:off x="6408720" y="3277800"/>
            <a:ext cx="609480" cy="146160"/>
          </a:xfrm>
          <a:prstGeom prst="rightArrow">
            <a:avLst>
              <a:gd name="adj1" fmla="val 57741"/>
              <a:gd name="adj2" fmla="val 49943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38"/>
          <p:cNvSpPr/>
          <p:nvPr/>
        </p:nvSpPr>
        <p:spPr>
          <a:xfrm>
            <a:off x="5562720" y="3195720"/>
            <a:ext cx="95724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1. Select group to export stim for ALL runs in the gro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4" descr=""/>
          <p:cNvPicPr/>
          <p:nvPr/>
        </p:nvPicPr>
        <p:blipFill>
          <a:blip r:embed="rId3"/>
          <a:stretch/>
        </p:blipFill>
        <p:spPr>
          <a:xfrm>
            <a:off x="8074080" y="2682720"/>
            <a:ext cx="4041720" cy="24228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698" name="Oval 49"/>
          <p:cNvSpPr/>
          <p:nvPr/>
        </p:nvSpPr>
        <p:spPr>
          <a:xfrm>
            <a:off x="9232920" y="4495680"/>
            <a:ext cx="8380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rrow: Right 52"/>
          <p:cNvSpPr/>
          <p:nvPr/>
        </p:nvSpPr>
        <p:spPr>
          <a:xfrm rot="3940800">
            <a:off x="7537680" y="2061360"/>
            <a:ext cx="1231920" cy="277560"/>
          </a:xfrm>
          <a:prstGeom prst="rightArrow">
            <a:avLst>
              <a:gd name="adj1" fmla="val 57741"/>
              <a:gd name="adj2" fmla="val 49932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row: Right 35"/>
          <p:cNvSpPr/>
          <p:nvPr/>
        </p:nvSpPr>
        <p:spPr>
          <a:xfrm flipV="1">
            <a:off x="6477120" y="1219320"/>
            <a:ext cx="490320" cy="187200"/>
          </a:xfrm>
          <a:prstGeom prst="rightArrow">
            <a:avLst>
              <a:gd name="adj1" fmla="val 50000"/>
              <a:gd name="adj2" fmla="val 49862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rrow: Right 52"/>
          <p:cNvSpPr/>
          <p:nvPr/>
        </p:nvSpPr>
        <p:spPr>
          <a:xfrm>
            <a:off x="5638680" y="2425680"/>
            <a:ext cx="954360" cy="311040"/>
          </a:xfrm>
          <a:prstGeom prst="rightArrow">
            <a:avLst>
              <a:gd name="adj1" fmla="val 57741"/>
              <a:gd name="adj2" fmla="val 49789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42"/>
          <p:cNvSpPr/>
          <p:nvPr/>
        </p:nvSpPr>
        <p:spPr>
          <a:xfrm>
            <a:off x="242568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. Edit and Load events TS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4" descr=""/>
          <p:cNvPicPr/>
          <p:nvPr/>
        </p:nvPicPr>
        <p:blipFill>
          <a:blip r:embed="rId1"/>
          <a:stretch/>
        </p:blipFill>
        <p:spPr>
          <a:xfrm>
            <a:off x="1219320" y="1477800"/>
            <a:ext cx="10318680" cy="4618080"/>
          </a:xfrm>
          <a:prstGeom prst="rect">
            <a:avLst/>
          </a:prstGeom>
          <a:ln w="0">
            <a:noFill/>
          </a:ln>
        </p:spPr>
      </p:pic>
      <p:sp>
        <p:nvSpPr>
          <p:cNvPr id="704" name="Oval 5"/>
          <p:cNvSpPr/>
          <p:nvPr/>
        </p:nvSpPr>
        <p:spPr>
          <a:xfrm>
            <a:off x="2057400" y="1782720"/>
            <a:ext cx="1676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rrow: Down 7"/>
          <p:cNvSpPr/>
          <p:nvPr/>
        </p:nvSpPr>
        <p:spPr>
          <a:xfrm rot="19756800">
            <a:off x="3890520" y="1979640"/>
            <a:ext cx="174600" cy="32637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"/>
          <p:cNvSpPr/>
          <p:nvPr/>
        </p:nvSpPr>
        <p:spPr>
          <a:xfrm>
            <a:off x="2362320" y="3971880"/>
            <a:ext cx="1981080" cy="70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Events TSV file corresponding to currently selected run, neoro_run07.sni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2"/>
          <p:cNvSpPr/>
          <p:nvPr/>
        </p:nvSpPr>
        <p:spPr>
          <a:xfrm>
            <a:off x="1219320" y="2468520"/>
            <a:ext cx="941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1219320" y="1477800"/>
            <a:ext cx="10318680" cy="4618080"/>
          </a:xfrm>
          <a:prstGeom prst="rect">
            <a:avLst/>
          </a:prstGeom>
          <a:noFill/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"/>
          <p:cNvSpPr/>
          <p:nvPr/>
        </p:nvSpPr>
        <p:spPr>
          <a:xfrm>
            <a:off x="4648320" y="906480"/>
            <a:ext cx="303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ly exported (i.e., unedited) events TSV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 screenshot of a computer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609480" y="1654200"/>
            <a:ext cx="10058400" cy="536904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711" name="TextBox 42"/>
          <p:cNvSpPr/>
          <p:nvPr/>
        </p:nvSpPr>
        <p:spPr>
          <a:xfrm>
            <a:off x="242568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2.   Edit and Load events T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rrow: Right 17"/>
          <p:cNvSpPr/>
          <p:nvPr/>
        </p:nvSpPr>
        <p:spPr>
          <a:xfrm flipV="1">
            <a:off x="76320" y="304740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rrow: Right 19"/>
          <p:cNvSpPr/>
          <p:nvPr/>
        </p:nvSpPr>
        <p:spPr>
          <a:xfrm flipV="1">
            <a:off x="76320" y="426708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rrow: Right 20"/>
          <p:cNvSpPr/>
          <p:nvPr/>
        </p:nvSpPr>
        <p:spPr>
          <a:xfrm flipV="1" rot="10800000">
            <a:off x="2730600" y="380988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rrow: Right 23"/>
          <p:cNvSpPr/>
          <p:nvPr/>
        </p:nvSpPr>
        <p:spPr>
          <a:xfrm flipV="1" rot="10800000">
            <a:off x="2730600" y="403848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5"/>
          <p:cNvSpPr/>
          <p:nvPr/>
        </p:nvSpPr>
        <p:spPr>
          <a:xfrm>
            <a:off x="3733920" y="1981080"/>
            <a:ext cx="1295280" cy="204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33"/>
          <p:cNvSpPr/>
          <p:nvPr/>
        </p:nvSpPr>
        <p:spPr>
          <a:xfrm>
            <a:off x="4800600" y="3537000"/>
            <a:ext cx="1076400" cy="168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35"/>
          <p:cNvSpPr/>
          <p:nvPr/>
        </p:nvSpPr>
        <p:spPr>
          <a:xfrm>
            <a:off x="4648320" y="9144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events TSV file and reload sti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rrow: Right 9"/>
          <p:cNvSpPr/>
          <p:nvPr/>
        </p:nvSpPr>
        <p:spPr>
          <a:xfrm flipV="1" rot="16200000">
            <a:off x="3918960" y="489888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rrow: Right 11"/>
          <p:cNvSpPr/>
          <p:nvPr/>
        </p:nvSpPr>
        <p:spPr>
          <a:xfrm flipV="1" rot="5400000">
            <a:off x="5937120" y="175896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rrow: Right 12"/>
          <p:cNvSpPr/>
          <p:nvPr/>
        </p:nvSpPr>
        <p:spPr>
          <a:xfrm flipV="1" rot="5400000">
            <a:off x="6608520" y="174132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rrow: Right 13"/>
          <p:cNvSpPr/>
          <p:nvPr/>
        </p:nvSpPr>
        <p:spPr>
          <a:xfrm flipV="1" rot="5400000">
            <a:off x="7308720" y="173988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914400" y="1616040"/>
            <a:ext cx="10323360" cy="454032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4"/>
          <p:cNvSpPr/>
          <p:nvPr/>
        </p:nvSpPr>
        <p:spPr>
          <a:xfrm>
            <a:off x="914400" y="1600200"/>
            <a:ext cx="10323360" cy="4545000"/>
          </a:xfrm>
          <a:prstGeom prst="rect">
            <a:avLst/>
          </a:prstGeom>
          <a:noFill/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42"/>
          <p:cNvSpPr/>
          <p:nvPr/>
        </p:nvSpPr>
        <p:spPr>
          <a:xfrm>
            <a:off x="242568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3.   Edit and Load events TS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"/>
          <p:cNvSpPr/>
          <p:nvPr/>
        </p:nvSpPr>
        <p:spPr>
          <a:xfrm>
            <a:off x="4495680" y="1096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ms reloaded from edited events T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rrow: Right 5"/>
          <p:cNvSpPr/>
          <p:nvPr/>
        </p:nvSpPr>
        <p:spPr>
          <a:xfrm flipV="1">
            <a:off x="316080" y="3047400"/>
            <a:ext cx="774360" cy="15228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rrow: Right 6"/>
          <p:cNvSpPr/>
          <p:nvPr/>
        </p:nvSpPr>
        <p:spPr>
          <a:xfrm flipV="1">
            <a:off x="304920" y="419040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rrow: Right 7"/>
          <p:cNvSpPr/>
          <p:nvPr/>
        </p:nvSpPr>
        <p:spPr>
          <a:xfrm flipV="1" rot="10800000">
            <a:off x="2806560" y="373284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rrow: Right 8"/>
          <p:cNvSpPr/>
          <p:nvPr/>
        </p:nvSpPr>
        <p:spPr>
          <a:xfrm flipV="1" rot="10800000">
            <a:off x="2819520" y="396144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rrow: Right 11"/>
          <p:cNvSpPr/>
          <p:nvPr/>
        </p:nvSpPr>
        <p:spPr>
          <a:xfrm flipV="1" rot="5400000">
            <a:off x="6484680" y="160632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rrow: Right 12"/>
          <p:cNvSpPr/>
          <p:nvPr/>
        </p:nvSpPr>
        <p:spPr>
          <a:xfrm flipV="1" rot="5400000">
            <a:off x="7156440" y="158112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rrow: Right 13"/>
          <p:cNvSpPr/>
          <p:nvPr/>
        </p:nvSpPr>
        <p:spPr>
          <a:xfrm flipV="1" rot="5400000">
            <a:off x="7827840" y="157788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rrow: Right 9"/>
          <p:cNvSpPr/>
          <p:nvPr/>
        </p:nvSpPr>
        <p:spPr>
          <a:xfrm flipV="1" rot="16200000">
            <a:off x="4413240" y="434952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77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6"/>
          <p:cNvSpPr/>
          <p:nvPr/>
        </p:nvSpPr>
        <p:spPr>
          <a:xfrm>
            <a:off x="8164440" y="4195800"/>
            <a:ext cx="649440" cy="159840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Mai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819520" y="71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verview – Loading and Saving Data to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87" name="Oval 60"/>
          <p:cNvSpPr/>
          <p:nvPr/>
        </p:nvSpPr>
        <p:spPr>
          <a:xfrm>
            <a:off x="8483760" y="4511520"/>
            <a:ext cx="154296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 user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6"/>
          <p:cNvSpPr/>
          <p:nvPr/>
        </p:nvSpPr>
        <p:spPr>
          <a:xfrm flipH="1">
            <a:off x="9498960" y="4832280"/>
            <a:ext cx="207720" cy="93348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0"/>
          <p:cNvSpPr/>
          <p:nvPr/>
        </p:nvSpPr>
        <p:spPr>
          <a:xfrm>
            <a:off x="2808360" y="4156200"/>
            <a:ext cx="1154160" cy="6444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1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0"/>
          <p:cNvSpPr/>
          <p:nvPr/>
        </p:nvSpPr>
        <p:spPr>
          <a:xfrm>
            <a:off x="5021280" y="4038480"/>
            <a:ext cx="168444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0"/>
          <p:cNvSpPr/>
          <p:nvPr/>
        </p:nvSpPr>
        <p:spPr>
          <a:xfrm>
            <a:off x="3668760" y="3713040"/>
            <a:ext cx="158904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2739960" y="3156120"/>
            <a:ext cx="1908360" cy="556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0"/>
          <p:cNvSpPr/>
          <p:nvPr/>
        </p:nvSpPr>
        <p:spPr>
          <a:xfrm>
            <a:off x="4622760" y="2743200"/>
            <a:ext cx="162576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4"/>
          <p:cNvSpPr/>
          <p:nvPr/>
        </p:nvSpPr>
        <p:spPr>
          <a:xfrm>
            <a:off x="2714760" y="4419720"/>
            <a:ext cx="409320" cy="129852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799240" y="4433760"/>
            <a:ext cx="441360" cy="15192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3"/>
          <p:cNvSpPr/>
          <p:nvPr/>
        </p:nvSpPr>
        <p:spPr>
          <a:xfrm flipH="1">
            <a:off x="4495680" y="3944880"/>
            <a:ext cx="601920" cy="195732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0"/>
          <p:cNvSpPr/>
          <p:nvPr/>
        </p:nvSpPr>
        <p:spPr>
          <a:xfrm>
            <a:off x="3962520" y="4464000"/>
            <a:ext cx="121896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3"/>
          <p:cNvSpPr/>
          <p:nvPr/>
        </p:nvSpPr>
        <p:spPr>
          <a:xfrm flipH="1">
            <a:off x="3505320" y="4664160"/>
            <a:ext cx="761760" cy="12888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08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0"/>
          <p:cNvSpPr/>
          <p:nvPr/>
        </p:nvSpPr>
        <p:spPr>
          <a:xfrm>
            <a:off x="2808360" y="4241880"/>
            <a:ext cx="1154160" cy="5587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3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(Main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0"/>
          <p:cNvSpPr/>
          <p:nvPr/>
        </p:nvSpPr>
        <p:spPr>
          <a:xfrm>
            <a:off x="2895480" y="2514600"/>
            <a:ext cx="1179720" cy="412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9677520" y="3098880"/>
            <a:ext cx="1536480" cy="112392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2133720" y="712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verview – Loading data from Data Classes to GU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0"/>
          <p:cNvSpPr/>
          <p:nvPr/>
        </p:nvSpPr>
        <p:spPr>
          <a:xfrm>
            <a:off x="5049720" y="4038480"/>
            <a:ext cx="172908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21" name="Oval 60"/>
          <p:cNvSpPr/>
          <p:nvPr/>
        </p:nvSpPr>
        <p:spPr>
          <a:xfrm>
            <a:off x="8701200" y="4511520"/>
            <a:ext cx="116352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0"/>
          <p:cNvSpPr/>
          <p:nvPr/>
        </p:nvSpPr>
        <p:spPr>
          <a:xfrm>
            <a:off x="3975120" y="4387680"/>
            <a:ext cx="113040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0"/>
          <p:cNvSpPr/>
          <p:nvPr/>
        </p:nvSpPr>
        <p:spPr>
          <a:xfrm>
            <a:off x="3618000" y="3713040"/>
            <a:ext cx="171612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0"/>
          <p:cNvSpPr/>
          <p:nvPr/>
        </p:nvSpPr>
        <p:spPr>
          <a:xfrm>
            <a:off x="2590920" y="3048120"/>
            <a:ext cx="1950840" cy="641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0"/>
          <p:cNvSpPr/>
          <p:nvPr/>
        </p:nvSpPr>
        <p:spPr>
          <a:xfrm>
            <a:off x="4960800" y="1447920"/>
            <a:ext cx="897120" cy="2547720"/>
          </a:xfrm>
          <a:custGeom>
            <a:avLst/>
            <a:gdLst/>
            <a:ahLst/>
            <a:rect l="l" t="t" r="r" b="b"/>
            <a:pathLst>
              <a:path w="905700" h="2091446">
                <a:moveTo>
                  <a:pt x="0" y="2091446"/>
                </a:moveTo>
                <a:cubicBezTo>
                  <a:pt x="369650" y="1791510"/>
                  <a:pt x="739301" y="1491574"/>
                  <a:pt x="865761" y="1196502"/>
                </a:cubicBezTo>
                <a:cubicBezTo>
                  <a:pt x="992221" y="901430"/>
                  <a:pt x="779833" y="520429"/>
                  <a:pt x="758757" y="321012"/>
                </a:cubicBezTo>
                <a:cubicBezTo>
                  <a:pt x="737681" y="121595"/>
                  <a:pt x="738491" y="60797"/>
                  <a:pt x="739302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7"/>
          <p:cNvSpPr/>
          <p:nvPr/>
        </p:nvSpPr>
        <p:spPr>
          <a:xfrm>
            <a:off x="5068800" y="2900520"/>
            <a:ext cx="4560840" cy="1137960"/>
          </a:xfrm>
          <a:custGeom>
            <a:avLst/>
            <a:gdLst/>
            <a:ahLst/>
            <a:rect l="l" t="t" r="r" b="b"/>
            <a:pathLst>
              <a:path w="4562272" h="1020377">
                <a:moveTo>
                  <a:pt x="0" y="1020377"/>
                </a:moveTo>
                <a:cubicBezTo>
                  <a:pt x="667965" y="773943"/>
                  <a:pt x="1335931" y="527509"/>
                  <a:pt x="1926076" y="397807"/>
                </a:cubicBezTo>
                <a:cubicBezTo>
                  <a:pt x="2516221" y="268105"/>
                  <a:pt x="3137170" y="303773"/>
                  <a:pt x="3540868" y="242165"/>
                </a:cubicBezTo>
                <a:cubicBezTo>
                  <a:pt x="3944566" y="180557"/>
                  <a:pt x="4178029" y="67067"/>
                  <a:pt x="4348263" y="28156"/>
                </a:cubicBezTo>
                <a:cubicBezTo>
                  <a:pt x="4518497" y="-10755"/>
                  <a:pt x="4540384" y="-1027"/>
                  <a:pt x="4562272" y="8701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7"/>
          <p:cNvSpPr/>
          <p:nvPr/>
        </p:nvSpPr>
        <p:spPr>
          <a:xfrm>
            <a:off x="5049720" y="1695600"/>
            <a:ext cx="2903760" cy="2268360"/>
          </a:xfrm>
          <a:custGeom>
            <a:avLst/>
            <a:gdLst/>
            <a:ahLst/>
            <a:rect l="l" t="t" r="r" b="b"/>
            <a:pathLst>
              <a:path w="2519464" h="2266544">
                <a:moveTo>
                  <a:pt x="0" y="2266544"/>
                </a:moveTo>
                <a:cubicBezTo>
                  <a:pt x="487193" y="1959312"/>
                  <a:pt x="974387" y="1652081"/>
                  <a:pt x="1342417" y="1371600"/>
                </a:cubicBezTo>
                <a:cubicBezTo>
                  <a:pt x="1710447" y="1091119"/>
                  <a:pt x="2012005" y="812259"/>
                  <a:pt x="2208179" y="583659"/>
                </a:cubicBezTo>
                <a:cubicBezTo>
                  <a:pt x="2404353" y="355059"/>
                  <a:pt x="2461908" y="177529"/>
                  <a:pt x="2519464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0"/>
          <p:cNvSpPr/>
          <p:nvPr/>
        </p:nvSpPr>
        <p:spPr>
          <a:xfrm>
            <a:off x="4317840" y="2743200"/>
            <a:ext cx="192276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3"/>
          <p:cNvSpPr/>
          <p:nvPr/>
        </p:nvSpPr>
        <p:spPr>
          <a:xfrm>
            <a:off x="2097000" y="4084560"/>
            <a:ext cx="1684440" cy="208080"/>
          </a:xfrm>
          <a:custGeom>
            <a:avLst/>
            <a:gdLst/>
            <a:ahLst/>
            <a:rect l="l" t="t" r="r" b="b"/>
            <a:pathLst>
              <a:path w="1079770" h="168112">
                <a:moveTo>
                  <a:pt x="1079770" y="0"/>
                </a:moveTo>
                <a:cubicBezTo>
                  <a:pt x="839010" y="75389"/>
                  <a:pt x="598251" y="150779"/>
                  <a:pt x="418289" y="165370"/>
                </a:cubicBezTo>
                <a:cubicBezTo>
                  <a:pt x="238327" y="179961"/>
                  <a:pt x="119163" y="133755"/>
                  <a:pt x="0" y="8754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0"/>
          <p:cNvSpPr/>
          <p:nvPr/>
        </p:nvSpPr>
        <p:spPr>
          <a:xfrm>
            <a:off x="1592280" y="1619280"/>
            <a:ext cx="2165400" cy="2313000"/>
          </a:xfrm>
          <a:custGeom>
            <a:avLst/>
            <a:gdLst/>
            <a:ahLst/>
            <a:rect l="l" t="t" r="r" b="b"/>
            <a:pathLst>
              <a:path w="2453909" h="2110902">
                <a:moveTo>
                  <a:pt x="2453909" y="2110902"/>
                </a:moveTo>
                <a:cubicBezTo>
                  <a:pt x="1827286" y="2097932"/>
                  <a:pt x="1200663" y="2084962"/>
                  <a:pt x="809935" y="1819073"/>
                </a:cubicBezTo>
                <a:cubicBezTo>
                  <a:pt x="419207" y="1553184"/>
                  <a:pt x="242488" y="818745"/>
                  <a:pt x="109543" y="515566"/>
                </a:cubicBezTo>
                <a:cubicBezTo>
                  <a:pt x="-23402" y="212387"/>
                  <a:pt x="-5568" y="106193"/>
                  <a:pt x="1226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38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0"/>
          <p:cNvSpPr/>
          <p:nvPr/>
        </p:nvSpPr>
        <p:spPr>
          <a:xfrm>
            <a:off x="2808360" y="4241880"/>
            <a:ext cx="1154160" cy="5587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3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(Main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59"/>
          <p:cNvSpPr/>
          <p:nvPr/>
        </p:nvSpPr>
        <p:spPr>
          <a:xfrm>
            <a:off x="2097000" y="1581120"/>
            <a:ext cx="1073160" cy="1274760"/>
          </a:xfrm>
          <a:custGeom>
            <a:avLst/>
            <a:gdLst/>
            <a:ahLst/>
            <a:rect l="l" t="t" r="r" b="b"/>
            <a:pathLst>
              <a:path w="1468877" h="1663429">
                <a:moveTo>
                  <a:pt x="0" y="0"/>
                </a:moveTo>
                <a:cubicBezTo>
                  <a:pt x="91602" y="410993"/>
                  <a:pt x="183204" y="821987"/>
                  <a:pt x="428017" y="1099225"/>
                </a:cubicBezTo>
                <a:cubicBezTo>
                  <a:pt x="672830" y="1376463"/>
                  <a:pt x="1070853" y="1519946"/>
                  <a:pt x="1468877" y="166342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514600" y="71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verview – GUIs editing data in data class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0"/>
          <p:cNvSpPr/>
          <p:nvPr/>
        </p:nvSpPr>
        <p:spPr>
          <a:xfrm>
            <a:off x="4876920" y="4038480"/>
            <a:ext cx="190188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51" name="Oval 60"/>
          <p:cNvSpPr/>
          <p:nvPr/>
        </p:nvSpPr>
        <p:spPr>
          <a:xfrm>
            <a:off x="8701200" y="4511520"/>
            <a:ext cx="116352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4"/>
          <p:cNvSpPr/>
          <p:nvPr/>
        </p:nvSpPr>
        <p:spPr>
          <a:xfrm>
            <a:off x="9648720" y="3003480"/>
            <a:ext cx="1781280" cy="185436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0"/>
          <p:cNvSpPr/>
          <p:nvPr/>
        </p:nvSpPr>
        <p:spPr>
          <a:xfrm>
            <a:off x="3886200" y="4387680"/>
            <a:ext cx="121932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0"/>
          <p:cNvSpPr/>
          <p:nvPr/>
        </p:nvSpPr>
        <p:spPr>
          <a:xfrm>
            <a:off x="3429000" y="3713040"/>
            <a:ext cx="190512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0"/>
          <p:cNvSpPr/>
          <p:nvPr/>
        </p:nvSpPr>
        <p:spPr>
          <a:xfrm>
            <a:off x="2739960" y="3048120"/>
            <a:ext cx="1898640" cy="664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4"/>
          <p:cNvSpPr/>
          <p:nvPr/>
        </p:nvSpPr>
        <p:spPr>
          <a:xfrm>
            <a:off x="4383000" y="1581120"/>
            <a:ext cx="3360960" cy="1890720"/>
          </a:xfrm>
          <a:custGeom>
            <a:avLst/>
            <a:gdLst/>
            <a:ahLst/>
            <a:rect l="l" t="t" r="r" b="b"/>
            <a:pathLst>
              <a:path w="3249038" h="1857983">
                <a:moveTo>
                  <a:pt x="3249038" y="0"/>
                </a:moveTo>
                <a:cubicBezTo>
                  <a:pt x="2737525" y="240759"/>
                  <a:pt x="2226013" y="481518"/>
                  <a:pt x="1877438" y="749029"/>
                </a:cubicBezTo>
                <a:cubicBezTo>
                  <a:pt x="1528863" y="1016540"/>
                  <a:pt x="1470497" y="1420238"/>
                  <a:pt x="1157591" y="1605064"/>
                </a:cubicBezTo>
                <a:cubicBezTo>
                  <a:pt x="844685" y="1789890"/>
                  <a:pt x="422342" y="1823936"/>
                  <a:pt x="0" y="18579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6"/>
          <p:cNvSpPr/>
          <p:nvPr/>
        </p:nvSpPr>
        <p:spPr>
          <a:xfrm>
            <a:off x="4295880" y="2728800"/>
            <a:ext cx="5411520" cy="878040"/>
          </a:xfrm>
          <a:custGeom>
            <a:avLst/>
            <a:gdLst/>
            <a:ahLst/>
            <a:rect l="l" t="t" r="r" b="b"/>
            <a:pathLst>
              <a:path w="4902740" h="836578">
                <a:moveTo>
                  <a:pt x="4902740" y="0"/>
                </a:moveTo>
                <a:cubicBezTo>
                  <a:pt x="4524172" y="12970"/>
                  <a:pt x="4145604" y="25940"/>
                  <a:pt x="3638145" y="136187"/>
                </a:cubicBezTo>
                <a:cubicBezTo>
                  <a:pt x="3130685" y="246434"/>
                  <a:pt x="2464340" y="544748"/>
                  <a:pt x="1857983" y="661480"/>
                </a:cubicBezTo>
                <a:cubicBezTo>
                  <a:pt x="1251626" y="778212"/>
                  <a:pt x="625813" y="807395"/>
                  <a:pt x="0" y="83657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0"/>
          <p:cNvSpPr/>
          <p:nvPr/>
        </p:nvSpPr>
        <p:spPr>
          <a:xfrm>
            <a:off x="4317840" y="2743200"/>
            <a:ext cx="215928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66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60"/>
          <p:cNvSpPr/>
          <p:nvPr/>
        </p:nvSpPr>
        <p:spPr>
          <a:xfrm>
            <a:off x="2808360" y="4241880"/>
            <a:ext cx="1154160" cy="5587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4"/>
          <p:cNvSpPr/>
          <p:nvPr/>
        </p:nvSpPr>
        <p:spPr>
          <a:xfrm>
            <a:off x="2610000" y="4495680"/>
            <a:ext cx="785520" cy="129852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6"/>
          <p:cNvSpPr/>
          <p:nvPr/>
        </p:nvSpPr>
        <p:spPr>
          <a:xfrm>
            <a:off x="8164440" y="4195800"/>
            <a:ext cx="649440" cy="159840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3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(Main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9"/>
          <p:cNvSpPr/>
          <p:nvPr/>
        </p:nvSpPr>
        <p:spPr>
          <a:xfrm>
            <a:off x="2097000" y="1581120"/>
            <a:ext cx="1073160" cy="1274760"/>
          </a:xfrm>
          <a:custGeom>
            <a:avLst/>
            <a:gdLst/>
            <a:ahLst/>
            <a:rect l="l" t="t" r="r" b="b"/>
            <a:pathLst>
              <a:path w="1468877" h="1663429">
                <a:moveTo>
                  <a:pt x="0" y="0"/>
                </a:moveTo>
                <a:cubicBezTo>
                  <a:pt x="91602" y="410993"/>
                  <a:pt x="183204" y="821987"/>
                  <a:pt x="428017" y="1099225"/>
                </a:cubicBezTo>
                <a:cubicBezTo>
                  <a:pt x="672830" y="1376463"/>
                  <a:pt x="1070853" y="1519946"/>
                  <a:pt x="1468877" y="166342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44"/>
          <p:cNvSpPr/>
          <p:nvPr/>
        </p:nvSpPr>
        <p:spPr>
          <a:xfrm>
            <a:off x="9677520" y="3098880"/>
            <a:ext cx="1536480" cy="112392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2514600" y="71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verview – All data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0"/>
          <p:cNvSpPr/>
          <p:nvPr/>
        </p:nvSpPr>
        <p:spPr>
          <a:xfrm>
            <a:off x="4876920" y="4038480"/>
            <a:ext cx="190188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82" name="Freeform 23"/>
          <p:cNvSpPr/>
          <p:nvPr/>
        </p:nvSpPr>
        <p:spPr>
          <a:xfrm>
            <a:off x="5799240" y="4433760"/>
            <a:ext cx="441360" cy="15192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60"/>
          <p:cNvSpPr/>
          <p:nvPr/>
        </p:nvSpPr>
        <p:spPr>
          <a:xfrm>
            <a:off x="8701200" y="4511520"/>
            <a:ext cx="116352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1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 user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6"/>
          <p:cNvSpPr/>
          <p:nvPr/>
        </p:nvSpPr>
        <p:spPr>
          <a:xfrm flipH="1">
            <a:off x="9498960" y="4832280"/>
            <a:ext cx="207720" cy="93348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4"/>
          <p:cNvSpPr/>
          <p:nvPr/>
        </p:nvSpPr>
        <p:spPr>
          <a:xfrm>
            <a:off x="9648720" y="3003480"/>
            <a:ext cx="1781280" cy="185436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0"/>
          <p:cNvSpPr/>
          <p:nvPr/>
        </p:nvSpPr>
        <p:spPr>
          <a:xfrm>
            <a:off x="3886200" y="4387680"/>
            <a:ext cx="121932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3"/>
          <p:cNvSpPr/>
          <p:nvPr/>
        </p:nvSpPr>
        <p:spPr>
          <a:xfrm flipH="1">
            <a:off x="3504600" y="4664160"/>
            <a:ext cx="657000" cy="12888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0"/>
          <p:cNvSpPr/>
          <p:nvPr/>
        </p:nvSpPr>
        <p:spPr>
          <a:xfrm>
            <a:off x="3429000" y="3713040"/>
            <a:ext cx="190512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0"/>
          <p:cNvSpPr/>
          <p:nvPr/>
        </p:nvSpPr>
        <p:spPr>
          <a:xfrm>
            <a:off x="2739960" y="3048120"/>
            <a:ext cx="1898640" cy="664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4383000" y="1581120"/>
            <a:ext cx="3360960" cy="1890720"/>
          </a:xfrm>
          <a:custGeom>
            <a:avLst/>
            <a:gdLst/>
            <a:ahLst/>
            <a:rect l="l" t="t" r="r" b="b"/>
            <a:pathLst>
              <a:path w="3249038" h="1857983">
                <a:moveTo>
                  <a:pt x="3249038" y="0"/>
                </a:moveTo>
                <a:cubicBezTo>
                  <a:pt x="2737525" y="240759"/>
                  <a:pt x="2226013" y="481518"/>
                  <a:pt x="1877438" y="749029"/>
                </a:cubicBezTo>
                <a:cubicBezTo>
                  <a:pt x="1528863" y="1016540"/>
                  <a:pt x="1470497" y="1420238"/>
                  <a:pt x="1157591" y="1605064"/>
                </a:cubicBezTo>
                <a:cubicBezTo>
                  <a:pt x="844685" y="1789890"/>
                  <a:pt x="422342" y="1823936"/>
                  <a:pt x="0" y="18579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6"/>
          <p:cNvSpPr/>
          <p:nvPr/>
        </p:nvSpPr>
        <p:spPr>
          <a:xfrm>
            <a:off x="4295880" y="2728800"/>
            <a:ext cx="5411520" cy="878040"/>
          </a:xfrm>
          <a:custGeom>
            <a:avLst/>
            <a:gdLst/>
            <a:ahLst/>
            <a:rect l="l" t="t" r="r" b="b"/>
            <a:pathLst>
              <a:path w="4902740" h="836578">
                <a:moveTo>
                  <a:pt x="4902740" y="0"/>
                </a:moveTo>
                <a:cubicBezTo>
                  <a:pt x="4524172" y="12970"/>
                  <a:pt x="4145604" y="25940"/>
                  <a:pt x="3638145" y="136187"/>
                </a:cubicBezTo>
                <a:cubicBezTo>
                  <a:pt x="3130685" y="246434"/>
                  <a:pt x="2464340" y="544748"/>
                  <a:pt x="1857983" y="661480"/>
                </a:cubicBezTo>
                <a:cubicBezTo>
                  <a:pt x="1251626" y="778212"/>
                  <a:pt x="625813" y="807395"/>
                  <a:pt x="0" y="83657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0"/>
          <p:cNvSpPr/>
          <p:nvPr/>
        </p:nvSpPr>
        <p:spPr>
          <a:xfrm>
            <a:off x="4960800" y="1447920"/>
            <a:ext cx="897120" cy="2547720"/>
          </a:xfrm>
          <a:custGeom>
            <a:avLst/>
            <a:gdLst/>
            <a:ahLst/>
            <a:rect l="l" t="t" r="r" b="b"/>
            <a:pathLst>
              <a:path w="905700" h="2091446">
                <a:moveTo>
                  <a:pt x="0" y="2091446"/>
                </a:moveTo>
                <a:cubicBezTo>
                  <a:pt x="369650" y="1791510"/>
                  <a:pt x="739301" y="1491574"/>
                  <a:pt x="865761" y="1196502"/>
                </a:cubicBezTo>
                <a:cubicBezTo>
                  <a:pt x="992221" y="901430"/>
                  <a:pt x="779833" y="520429"/>
                  <a:pt x="758757" y="321012"/>
                </a:cubicBezTo>
                <a:cubicBezTo>
                  <a:pt x="737681" y="121595"/>
                  <a:pt x="738491" y="60797"/>
                  <a:pt x="739302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3"/>
          <p:cNvSpPr/>
          <p:nvPr/>
        </p:nvSpPr>
        <p:spPr>
          <a:xfrm flipH="1">
            <a:off x="4456080" y="3960720"/>
            <a:ext cx="649440" cy="194148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57"/>
          <p:cNvSpPr/>
          <p:nvPr/>
        </p:nvSpPr>
        <p:spPr>
          <a:xfrm>
            <a:off x="5068800" y="2900520"/>
            <a:ext cx="4560840" cy="1137960"/>
          </a:xfrm>
          <a:custGeom>
            <a:avLst/>
            <a:gdLst/>
            <a:ahLst/>
            <a:rect l="l" t="t" r="r" b="b"/>
            <a:pathLst>
              <a:path w="4562272" h="1020377">
                <a:moveTo>
                  <a:pt x="0" y="1020377"/>
                </a:moveTo>
                <a:cubicBezTo>
                  <a:pt x="667965" y="773943"/>
                  <a:pt x="1335931" y="527509"/>
                  <a:pt x="1926076" y="397807"/>
                </a:cubicBezTo>
                <a:cubicBezTo>
                  <a:pt x="2516221" y="268105"/>
                  <a:pt x="3137170" y="303773"/>
                  <a:pt x="3540868" y="242165"/>
                </a:cubicBezTo>
                <a:cubicBezTo>
                  <a:pt x="3944566" y="180557"/>
                  <a:pt x="4178029" y="67067"/>
                  <a:pt x="4348263" y="28156"/>
                </a:cubicBezTo>
                <a:cubicBezTo>
                  <a:pt x="4518497" y="-10755"/>
                  <a:pt x="4540384" y="-1027"/>
                  <a:pt x="4562272" y="8701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47"/>
          <p:cNvSpPr/>
          <p:nvPr/>
        </p:nvSpPr>
        <p:spPr>
          <a:xfrm>
            <a:off x="5049720" y="1695600"/>
            <a:ext cx="2903760" cy="2268360"/>
          </a:xfrm>
          <a:custGeom>
            <a:avLst/>
            <a:gdLst/>
            <a:ahLst/>
            <a:rect l="l" t="t" r="r" b="b"/>
            <a:pathLst>
              <a:path w="2519464" h="2266544">
                <a:moveTo>
                  <a:pt x="0" y="2266544"/>
                </a:moveTo>
                <a:cubicBezTo>
                  <a:pt x="487193" y="1959312"/>
                  <a:pt x="974387" y="1652081"/>
                  <a:pt x="1342417" y="1371600"/>
                </a:cubicBezTo>
                <a:cubicBezTo>
                  <a:pt x="1710447" y="1091119"/>
                  <a:pt x="2012005" y="812259"/>
                  <a:pt x="2208179" y="583659"/>
                </a:cubicBezTo>
                <a:cubicBezTo>
                  <a:pt x="2404353" y="355059"/>
                  <a:pt x="2461908" y="177529"/>
                  <a:pt x="2519464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: Shape 13"/>
          <p:cNvSpPr/>
          <p:nvPr/>
        </p:nvSpPr>
        <p:spPr>
          <a:xfrm>
            <a:off x="6288120" y="1082520"/>
            <a:ext cx="741240" cy="3179880"/>
          </a:xfrm>
          <a:custGeom>
            <a:avLst/>
            <a:gdLst/>
            <a:ahLst/>
            <a:rect l="l" t="t" r="r" b="b"/>
            <a:pathLst>
              <a:path w="740873" h="3179299">
                <a:moveTo>
                  <a:pt x="0" y="0"/>
                </a:moveTo>
                <a:cubicBezTo>
                  <a:pt x="332935" y="215705"/>
                  <a:pt x="665871" y="431410"/>
                  <a:pt x="731520" y="858130"/>
                </a:cubicBezTo>
                <a:cubicBezTo>
                  <a:pt x="797169" y="1284850"/>
                  <a:pt x="499404" y="2173459"/>
                  <a:pt x="393896" y="2560320"/>
                </a:cubicBezTo>
                <a:cubicBezTo>
                  <a:pt x="288388" y="2947181"/>
                  <a:pt x="193431" y="3063240"/>
                  <a:pt x="98474" y="317929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: Shape 14"/>
          <p:cNvSpPr/>
          <p:nvPr/>
        </p:nvSpPr>
        <p:spPr>
          <a:xfrm>
            <a:off x="4881600" y="1012680"/>
            <a:ext cx="2441520" cy="3768840"/>
          </a:xfrm>
          <a:custGeom>
            <a:avLst/>
            <a:gdLst/>
            <a:ahLst/>
            <a:rect l="l" t="t" r="r" b="b"/>
            <a:pathLst>
              <a:path w="2440930" h="3769099">
                <a:moveTo>
                  <a:pt x="1575582" y="0"/>
                </a:moveTo>
                <a:cubicBezTo>
                  <a:pt x="1950720" y="187569"/>
                  <a:pt x="2325859" y="375138"/>
                  <a:pt x="2405576" y="942535"/>
                </a:cubicBezTo>
                <a:cubicBezTo>
                  <a:pt x="2485293" y="1509932"/>
                  <a:pt x="2454812" y="2935458"/>
                  <a:pt x="2053883" y="3404381"/>
                </a:cubicBezTo>
                <a:cubicBezTo>
                  <a:pt x="1652954" y="3873304"/>
                  <a:pt x="0" y="3756074"/>
                  <a:pt x="0" y="3756074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0"/>
          <p:cNvSpPr/>
          <p:nvPr/>
        </p:nvSpPr>
        <p:spPr>
          <a:xfrm>
            <a:off x="4317840" y="2743200"/>
            <a:ext cx="215928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: Shape 15"/>
          <p:cNvSpPr/>
          <p:nvPr/>
        </p:nvSpPr>
        <p:spPr>
          <a:xfrm>
            <a:off x="4811760" y="1574640"/>
            <a:ext cx="674640" cy="1408320"/>
          </a:xfrm>
          <a:custGeom>
            <a:avLst/>
            <a:gdLst/>
            <a:ahLst/>
            <a:rect l="l" t="t" r="r" b="b"/>
            <a:pathLst>
              <a:path w="675249" h="1406769">
                <a:moveTo>
                  <a:pt x="675249" y="0"/>
                </a:moveTo>
                <a:cubicBezTo>
                  <a:pt x="536917" y="276664"/>
                  <a:pt x="393895" y="553329"/>
                  <a:pt x="281354" y="787790"/>
                </a:cubicBezTo>
                <a:cubicBezTo>
                  <a:pt x="168813" y="1022251"/>
                  <a:pt x="84406" y="1214510"/>
                  <a:pt x="0" y="140676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3"/>
          <p:cNvSpPr/>
          <p:nvPr/>
        </p:nvSpPr>
        <p:spPr>
          <a:xfrm>
            <a:off x="2097000" y="4084560"/>
            <a:ext cx="1684440" cy="208080"/>
          </a:xfrm>
          <a:custGeom>
            <a:avLst/>
            <a:gdLst/>
            <a:ahLst/>
            <a:rect l="l" t="t" r="r" b="b"/>
            <a:pathLst>
              <a:path w="1079770" h="168112">
                <a:moveTo>
                  <a:pt x="1079770" y="0"/>
                </a:moveTo>
                <a:cubicBezTo>
                  <a:pt x="839010" y="75389"/>
                  <a:pt x="598251" y="150779"/>
                  <a:pt x="418289" y="165370"/>
                </a:cubicBezTo>
                <a:cubicBezTo>
                  <a:pt x="238327" y="179961"/>
                  <a:pt x="119163" y="133755"/>
                  <a:pt x="0" y="8754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0"/>
          <p:cNvSpPr/>
          <p:nvPr/>
        </p:nvSpPr>
        <p:spPr>
          <a:xfrm>
            <a:off x="1592280" y="1619280"/>
            <a:ext cx="2165400" cy="2313000"/>
          </a:xfrm>
          <a:custGeom>
            <a:avLst/>
            <a:gdLst/>
            <a:ahLst/>
            <a:rect l="l" t="t" r="r" b="b"/>
            <a:pathLst>
              <a:path w="2453909" h="2110902">
                <a:moveTo>
                  <a:pt x="2453909" y="2110902"/>
                </a:moveTo>
                <a:cubicBezTo>
                  <a:pt x="1827286" y="2097932"/>
                  <a:pt x="1200663" y="2084962"/>
                  <a:pt x="809935" y="1819073"/>
                </a:cubicBezTo>
                <a:cubicBezTo>
                  <a:pt x="419207" y="1553184"/>
                  <a:pt x="242488" y="818745"/>
                  <a:pt x="109543" y="515566"/>
                </a:cubicBezTo>
                <a:cubicBezTo>
                  <a:pt x="-23402" y="212387"/>
                  <a:pt x="-5568" y="106193"/>
                  <a:pt x="1226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2057400" y="26384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2. Data Tre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9677520" y="533520"/>
            <a:ext cx="2209680" cy="1098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1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all higher level processing group, subject, and session, the dataset folder structure has a corresponding fol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8767800" y="2168640"/>
            <a:ext cx="3119400" cy="14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group is shown with 3 subject folders but to save space only one file/folder branch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/Sj/Ei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ully shown down to its runs (3 in this case). The other branches are only partially shown but it is to be assumed that all branches have run fi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1"/>
          <p:cNvSpPr/>
          <p:nvPr/>
        </p:nvSpPr>
        <p:spPr>
          <a:xfrm>
            <a:off x="210960" y="78588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5"/>
          <p:cNvSpPr/>
          <p:nvPr/>
        </p:nvSpPr>
        <p:spPr>
          <a:xfrm>
            <a:off x="419040" y="53863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bb, Jay</dc:creator>
  <dc:description/>
  <dc:language>en-US</dc:language>
  <cp:lastModifiedBy>Dubb, Jay</cp:lastModifiedBy>
  <cp:lastPrinted>2019-01-23T03:50:29Z</cp:lastPrinted>
  <dcterms:modified xsi:type="dcterms:W3CDTF">2022-12-20T20:29:11Z</dcterms:modified>
  <cp:revision>384</cp:revision>
  <dc:subject/>
  <dc:title>PowerPoint Presentation</dc:title>
</cp:coreProperties>
</file>