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4E9-606C-41C2-BA4B-A12DA332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068-AE9D-4AE3-8951-A77AA790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654-4B54-4BB4-B78C-35A86BC7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BC7-45D3-44CE-A751-078D9083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544-1060-4C73-AA9D-DB5EC82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096-0AC8-43CE-817F-58D76CB0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59D-B6EB-4B6B-AE5A-170A1D71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E48-4318-4BA8-9AC9-4521AFA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AA5-3B89-43EE-8204-983277FF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042-1CA0-411F-9B89-132434E0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720-FF1C-437E-938D-CA8C06EE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64C-37A5-41D3-A2D1-6ADC2087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5.xml"/><Relationship Id="rId4" Type="http://schemas.openxmlformats.org/officeDocument/2006/relationships/image" Target="../media/image2.jpeg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Line 2073"/>
          <p:cNvSpPr/>
          <p:nvPr/>
        </p:nvSpPr>
        <p:spPr>
          <a:xfrm>
            <a:off x="4419720" y="6781680"/>
            <a:ext cx="4724280" cy="0"/>
          </a:xfrm>
          <a:prstGeom prst="line">
            <a:avLst/>
          </a:prstGeom>
          <a:ln w="203040">
            <a:solidFill>
              <a:srgbClr val="006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2074"/>
          <p:cNvSpPr/>
          <p:nvPr/>
        </p:nvSpPr>
        <p:spPr>
          <a:xfrm>
            <a:off x="4191120" y="6553080"/>
            <a:ext cx="4952880" cy="0"/>
          </a:xfrm>
          <a:prstGeom prst="line">
            <a:avLst/>
          </a:prstGeom>
          <a:ln w="254160">
            <a:solidFill>
              <a:srgbClr val="7fb8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075"/>
          <p:cNvSpPr/>
          <p:nvPr/>
        </p:nvSpPr>
        <p:spPr>
          <a:xfrm flipV="1">
            <a:off x="2340000" y="6365880"/>
            <a:ext cx="2666880" cy="528480"/>
          </a:xfrm>
          <a:prstGeom prst="parallelogram">
            <a:avLst>
              <a:gd name="adj" fmla="val 126158"/>
            </a:avLst>
          </a:prstGeom>
          <a:solidFill>
            <a:srgbClr val="0066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076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101520">
            <a:solidFill>
              <a:srgbClr val="7fb8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077" descr="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12080" y="6553080"/>
            <a:ext cx="317520" cy="317520"/>
          </a:xfrm>
          <a:prstGeom prst="rect">
            <a:avLst/>
          </a:prstGeom>
          <a:ln w="0">
            <a:noFill/>
          </a:ln>
        </p:spPr>
      </p:pic>
      <p:sp>
        <p:nvSpPr>
          <p:cNvPr id="7" name="Text Box 2078"/>
          <p:cNvSpPr/>
          <p:nvPr/>
        </p:nvSpPr>
        <p:spPr>
          <a:xfrm>
            <a:off x="0" y="0"/>
            <a:ext cx="184320" cy="6405480"/>
          </a:xfrm>
          <a:prstGeom prst="rect">
            <a:avLst/>
          </a:prstGeom>
          <a:gradFill rotWithShape="0">
            <a:gsLst>
              <a:gs pos="0">
                <a:srgbClr val="7fb8da"/>
              </a:gs>
              <a:gs pos="100000">
                <a:srgbClr val="4e2e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2079"/>
          <p:cNvSpPr/>
          <p:nvPr/>
        </p:nvSpPr>
        <p:spPr>
          <a:xfrm>
            <a:off x="8961480" y="0"/>
            <a:ext cx="183960" cy="6442200"/>
          </a:xfrm>
          <a:prstGeom prst="rect">
            <a:avLst/>
          </a:prstGeom>
          <a:gradFill rotWithShape="0">
            <a:gsLst>
              <a:gs pos="0">
                <a:srgbClr val="7fb8da"/>
              </a:gs>
              <a:gs pos="50000">
                <a:srgbClr val="006eb2"/>
              </a:gs>
              <a:gs pos="100000">
                <a:srgbClr val="7fb8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080" descr="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48360" y="6540480"/>
            <a:ext cx="566640" cy="31752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2081">
            <a:hlinkClick r:id="rId5" action="ppaction://hlinksldjump"/>
          </p:cNvPr>
          <p:cNvSpPr/>
          <p:nvPr/>
        </p:nvSpPr>
        <p:spPr>
          <a:xfrm>
            <a:off x="4356000" y="6521400"/>
            <a:ext cx="1044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本书目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082"/>
          <p:cNvSpPr/>
          <p:nvPr/>
        </p:nvSpPr>
        <p:spPr>
          <a:xfrm>
            <a:off x="8410680" y="6477120"/>
            <a:ext cx="733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14E3-8F5A-475D-BC6B-4CC555574FB4}" type="slidenum">
              <a:rPr b="1" lang="en-US" sz="1800" spc="-1" strike="noStrike">
                <a:solidFill>
                  <a:srgbClr val="ffffff"/>
                </a:solidFill>
                <a:latin typeface="Arial Black"/>
                <a:ea typeface="楷体_GB2312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2083" descr="2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149960" y="6553080"/>
            <a:ext cx="317520" cy="317520"/>
          </a:xfrm>
          <a:prstGeom prst="rect">
            <a:avLst/>
          </a:prstGeom>
          <a:ln w="0">
            <a:noFill/>
          </a:ln>
        </p:spPr>
      </p:pic>
      <p:sp>
        <p:nvSpPr>
          <p:cNvPr id="13" name="Text Box 2084"/>
          <p:cNvSpPr/>
          <p:nvPr/>
        </p:nvSpPr>
        <p:spPr>
          <a:xfrm>
            <a:off x="0" y="6362640"/>
            <a:ext cx="3886200" cy="459720"/>
          </a:xfrm>
          <a:prstGeom prst="rect">
            <a:avLst/>
          </a:prstGeom>
          <a:gradFill rotWithShape="0">
            <a:gsLst>
              <a:gs pos="0">
                <a:srgbClr val="4e2e96"/>
              </a:gs>
              <a:gs pos="100000">
                <a:srgbClr val="00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数据库技术与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085" descr="XXTongji-1907反色透明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80000" y="635796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461B-5F25-4E20-A645-B61E3D328D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20602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隶书"/>
              </a:rPr>
              <a:t>数据库技术与应用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916360" y="35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复习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-179280" y="765000"/>
            <a:ext cx="89992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对关系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SC</a:t>
            </a: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snum,cnum,score</a:t>
            </a: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设计输入触发器，其功能为当用户输入学生选课成绩记录时</a:t>
            </a: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对分数进行完整性控制，即当输入值超出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0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100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范围时，显示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分数输入有误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，否则报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成绩录入成功！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11280" y="0"/>
            <a:ext cx="7694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 Black"/>
                <a:ea typeface="楷体_GB2312"/>
              </a:rPr>
              <a:t>思考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900000" y="2349360"/>
            <a:ext cx="7632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DECLARE @_score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SELECT @_score=score FROM inser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IF (@_score&gt;100 OR  @_score&lt;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PRINT ‘</a:t>
            </a:r>
            <a:r>
              <a:rPr b="1" lang="zh-CN" sz="2000" spc="-1" strike="noStrike">
                <a:solidFill>
                  <a:srgbClr val="006600"/>
                </a:solidFill>
                <a:latin typeface="Tahoma"/>
              </a:rPr>
              <a:t>分数输入有误！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RO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PRINT ‘</a:t>
            </a:r>
            <a:r>
              <a:rPr b="1" lang="zh-CN" sz="2000" spc="-1" strike="noStrike">
                <a:solidFill>
                  <a:srgbClr val="006600"/>
                </a:solidFill>
                <a:latin typeface="Tahoma"/>
              </a:rPr>
              <a:t>成绩录入成功！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98160" y="5950080"/>
            <a:ext cx="2349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PRINT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‘</a:t>
            </a:r>
            <a:r>
              <a:rPr b="1" lang="zh-CN" sz="2000" spc="-1" strike="noStrike">
                <a:solidFill>
                  <a:srgbClr val="006600"/>
                </a:solidFill>
                <a:latin typeface="Tahoma"/>
              </a:rPr>
              <a:t>事物处理完毕！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580000" y="4221000"/>
            <a:ext cx="2232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219640" y="429264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NSERT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错误记录时的运行结果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92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对关系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产品﹙产品号，产品名称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单价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产地﹚设计存储过程，其功能为查找指定地区的产品信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例如：查询山东生产的产品信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6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存储过程举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68360" y="270828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REATE  PROC  products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@_area char(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ELECT 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ROM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ERE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产地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IKE  ‘%’+@_ area +‘%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1052640"/>
            <a:ext cx="8928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对关系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产品﹙产品号，产品名称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单价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产地﹚设计存储过程，其功能为查找指定产品号的产品名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8360" y="2133720"/>
            <a:ext cx="84247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REATE  PROC  products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@_pnum   char(8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@_pname  varchar(30) 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ELECT  @_pname=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产品名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ROM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ERE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产品号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IKE  ‘%’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@_pnum +‘%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注意多种查询条件的表达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189000"/>
            <a:ext cx="7694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存储过程举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应用数据库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—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ADO.N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59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O.NE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数据读操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Sql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l-GR" sz="2400" spc="-1" strike="noStrike">
                <a:solidFill>
                  <a:srgbClr val="0000cc"/>
                </a:solidFill>
                <a:latin typeface="Tahoma"/>
              </a:rPr>
              <a:t>ExcecuteR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l-GR" sz="2400" spc="-1" strike="noStrike">
                <a:solidFill>
                  <a:srgbClr val="0000cc"/>
                </a:solidFill>
                <a:latin typeface="Tahoma"/>
              </a:rPr>
              <a:t>ExcecuteSc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SqlAd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SqlAdapter.Fi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O.NE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数据写操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Sql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ExcecuteNon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SqlAd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SqlAdapter.Updat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4897440" cy="1701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250920" y="2852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　　对于关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c(snum,cnum,score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首先将课程号填充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mboBox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然后根据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ComboBox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不同选择，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ataGrid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显示指定课程的课程号、最高成绩、最低成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95280" y="1125360"/>
            <a:ext cx="900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Sub Form3_Load(…) Handles MyBase.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m myconn As SqlConnection = New SqlConnection("Data Source=naonao;Integrated Security=SSPI;Initial Catalog=tjdb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im mycmd As New Sql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ycmd.Connection = myco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ycmd.CommandText = "select distinct cnum from sc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im myadapter As SqlDataAdapter = New SqlDataAdapter(mycm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m mydataset As New 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adapter.Fill(mydataset, 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课程号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Me.ComboBox1.DataSource = mydataset.Tables("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课程号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Me.ComboBox1.DisplayMember = " cnu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4788000" y="5445000"/>
            <a:ext cx="4033800" cy="863640"/>
          </a:xfrm>
          <a:prstGeom prst="wedgeRoundRectCallout">
            <a:avLst>
              <a:gd name="adj1" fmla="val -38509"/>
              <a:gd name="adj2" fmla="val -254962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Dim mytable  as new Data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Myadapter.Fill(my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5076720" y="3429000"/>
            <a:ext cx="216000" cy="504720"/>
          </a:xfrm>
          <a:custGeom>
            <a:avLst/>
            <a:gdLst>
              <a:gd name="textAreaLeft" fmla="*/ 0 w 216000"/>
              <a:gd name="textAreaRight" fmla="*/ 7812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6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mboBox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值的初始化处理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79280" y="1197000"/>
            <a:ext cx="89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te Sub ComboBox1_SelectedIndexChanged(…) Handles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m myconn As SqlConnection = New SqlConnection("Data Source=.;Integrated Security=SSPI;Initial Catalog=tjdb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m mysql As String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mysql = "select distinct cnum as </a:t>
            </a: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课程号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,max(score) as </a:t>
            </a: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最高成绩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,min(score)  as </a:t>
            </a: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最低成绩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from sc where cnum='" &amp; Trim(Me.ComboBox1.Text) &amp; "' group by cnum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Dim myadapter As SqlDataAdapter = New SqlDataAdapter(mysql,mycon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im mydataset As New Data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myadapter.Fill(mydataset, "</a:t>
            </a: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成绩汇总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Me.DataGrid1.DataSource = mydataset.Tables("</a:t>
            </a: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成绩汇总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Me.DataGrid1.CaptionText = "       " + Trim(Me.ComboBox1.Text) + "</a:t>
            </a: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课程的最高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&amp;</a:t>
            </a: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最低成绩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6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DataGrid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值的填充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5580000" y="4292640"/>
            <a:ext cx="360360" cy="1297080"/>
          </a:xfrm>
          <a:prstGeom prst="upArrow">
            <a:avLst>
              <a:gd name="adj1" fmla="val 50000"/>
              <a:gd name="adj2" fmla="val 89985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003640" y="566100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程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rivate Sub Form1_Load(……) Handles MyBase.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Dim sql As String = "select avg(score) from sc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im myconn As New SqlConnection("Initial Catalog=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学生选课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;Data Source=.;Integrated Security=SSPI;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im mycmd As New SqlCommand(sql, myconn)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im avg As Integer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yconn.Open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avg = mycmd.ExecuteScal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yconn.Close()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sgBox("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平均成绩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=" &amp; avg)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qlCommand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的三种执行方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QL_inser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命令的执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8560" y="1125360"/>
            <a:ext cx="8605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Private Sub Button1_Click(…) Handles Button1.Cl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Dim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yconn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= New SqlConnection("integrated security=SSPI;data source=.;initial catalog=tjdb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Dim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ysql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As String = "insert into sc  values                ('" &amp; Me.TextBox1.Text &amp; "','" &amp; Me.TextBox2.Text &amp;  "',"  &amp; Val(Me.TextBox3.Text) &amp; ")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Dim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ycmd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As New SqlCommand(mysql, mycon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myconn.open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ycmd.ExecuteNonQuery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myconn.clos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存储过程的调用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矩形 2"/>
          <p:cNvSpPr/>
          <p:nvPr/>
        </p:nvSpPr>
        <p:spPr>
          <a:xfrm>
            <a:off x="179280" y="1125360"/>
            <a:ext cx="87854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Private Sub Button1_Click(…) Handles Button1.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Dim myconn As New SqlConnection(“Data Source=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Initial 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Catalog=university;Integrated Security=True;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Dim avg As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m mycmd As New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qlCommand("avg_of_snum", myco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ycmd.CommandType = CommandType.Stored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Dim _snum As New SqlParameter("@_snum", SqlDbType.NChar,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mycmd.Parameters.Add(_s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_snum.Value = TextBox1.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myconn.Ope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avg = mycmd.ExecuteScal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MsgBox(av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myconn.Clos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Black"/>
                <a:ea typeface="楷体_GB2312"/>
              </a:rPr>
              <a:t>知识要点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16000" y="2060280"/>
            <a:ext cx="3106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设计数据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管理数据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应用数据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存储过程的调用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358920" y="765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Private Sub Button2_Click(…) Handles Button2.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Dim myconn As New SqlConnection("Data Source=.;Initial Catalog=university;Integrated Security=True;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Dim mycmd As New Sql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mycmd.Connection = myco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mycmd.CommandType = CommandType.Stored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mycmd.CommandText = "sc_proc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Dim myParm1 As SqlParameter = mycmd.Parameters.Add("@_snum", SqlDbType.NVarChar,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Dim myParm2 As SqlParameter = mycmd.Parameters.Add("@_avg", SqlDbType.Int,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myParm1.Value = Trim(TextBox1.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myParm2.Direction = ParameterDirection.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myconn.Ope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mycmd.ExecuteScal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myconn.Clos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extBox2.Text=myParm2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WordArt 4" descr=""/>
          <p:cNvPicPr/>
          <p:nvPr/>
        </p:nvPicPr>
        <p:blipFill>
          <a:blip r:embed="rId1"/>
          <a:stretch/>
        </p:blipFill>
        <p:spPr>
          <a:xfrm>
            <a:off x="1755720" y="2127240"/>
            <a:ext cx="57308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Black"/>
                <a:ea typeface="楷体_GB2312"/>
              </a:rPr>
              <a:t>数据库技术的基本概念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345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模型三要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数据结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数据操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D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完整性约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库系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4500720" y="1701720"/>
            <a:ext cx="4464000" cy="4076640"/>
            <a:chOff x="4500720" y="1701720"/>
            <a:chExt cx="4464000" cy="4076640"/>
          </a:xfrm>
        </p:grpSpPr>
        <p:grpSp>
          <p:nvGrpSpPr>
            <p:cNvPr id="100" name="Group 5"/>
            <p:cNvGrpSpPr/>
            <p:nvPr/>
          </p:nvGrpSpPr>
          <p:grpSpPr>
            <a:xfrm>
              <a:off x="4500720" y="1701720"/>
              <a:ext cx="4320360" cy="4076640"/>
              <a:chOff x="4500720" y="1701720"/>
              <a:chExt cx="4320360" cy="4076640"/>
            </a:xfrm>
          </p:grpSpPr>
          <p:sp>
            <p:nvSpPr>
              <p:cNvPr id="101" name="Text Box 15"/>
              <p:cNvSpPr/>
              <p:nvPr/>
            </p:nvSpPr>
            <p:spPr>
              <a:xfrm>
                <a:off x="7037640" y="3341520"/>
                <a:ext cx="1783440" cy="32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数据库管理员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7"/>
              <p:cNvGrpSpPr/>
              <p:nvPr/>
            </p:nvGrpSpPr>
            <p:grpSpPr>
              <a:xfrm>
                <a:off x="4500720" y="1701720"/>
                <a:ext cx="1940400" cy="4076640"/>
                <a:chOff x="4500720" y="1701720"/>
                <a:chExt cx="1940400" cy="4076640"/>
              </a:xfrm>
            </p:grpSpPr>
            <p:sp>
              <p:nvSpPr>
                <p:cNvPr id="103" name="Text Box 6"/>
                <p:cNvSpPr/>
                <p:nvPr/>
              </p:nvSpPr>
              <p:spPr>
                <a:xfrm>
                  <a:off x="4581360" y="4158000"/>
                  <a:ext cx="1859760" cy="325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9400" rIns="59400" tIns="0" bIns="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操作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7"/>
                <p:cNvSpPr/>
                <p:nvPr/>
              </p:nvSpPr>
              <p:spPr>
                <a:xfrm>
                  <a:off x="4500720" y="3337920"/>
                  <a:ext cx="1940400" cy="3236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9400" rIns="59400" tIns="0" bIns="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数据库管理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8"/>
                <p:cNvSpPr/>
                <p:nvPr/>
              </p:nvSpPr>
              <p:spPr>
                <a:xfrm>
                  <a:off x="4581360" y="4978800"/>
                  <a:ext cx="1782000" cy="799560"/>
                </a:xfrm>
                <a:prstGeom prst="can">
                  <a:avLst>
                    <a:gd name="adj" fmla="val 34722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9400" rIns="59400" tIns="29880" bIns="298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数据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Text Box 9"/>
                <p:cNvSpPr/>
                <p:nvPr/>
              </p:nvSpPr>
              <p:spPr>
                <a:xfrm>
                  <a:off x="4500720" y="2517120"/>
                  <a:ext cx="1940400" cy="328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9400" rIns="59400" tIns="0" bIns="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数据库应用程序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Text Box 10"/>
                <p:cNvSpPr/>
                <p:nvPr/>
              </p:nvSpPr>
              <p:spPr>
                <a:xfrm>
                  <a:off x="4581360" y="1701720"/>
                  <a:ext cx="1859760" cy="328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用户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1"/>
                <p:cNvSpPr/>
                <p:nvPr/>
              </p:nvSpPr>
              <p:spPr>
                <a:xfrm>
                  <a:off x="5511600" y="2030400"/>
                  <a:ext cx="0" cy="48744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  <a:headEnd len="med" type="stealth" w="sm"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12"/>
                <p:cNvSpPr/>
                <p:nvPr/>
              </p:nvSpPr>
              <p:spPr>
                <a:xfrm>
                  <a:off x="5511600" y="2846160"/>
                  <a:ext cx="0" cy="48852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  <a:headEnd len="med" type="stealth" w="sm"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13"/>
                <p:cNvSpPr/>
                <p:nvPr/>
              </p:nvSpPr>
              <p:spPr>
                <a:xfrm>
                  <a:off x="5511600" y="3665880"/>
                  <a:ext cx="0" cy="48852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  <a:headEnd len="med" type="stealth" w="sm"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4"/>
                <p:cNvSpPr/>
                <p:nvPr/>
              </p:nvSpPr>
              <p:spPr>
                <a:xfrm>
                  <a:off x="5511600" y="4485600"/>
                  <a:ext cx="0" cy="48852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  <a:headEnd len="med" type="stealth" w="sm"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" name="Line 16"/>
              <p:cNvSpPr/>
              <p:nvPr/>
            </p:nvSpPr>
            <p:spPr>
              <a:xfrm flipH="1">
                <a:off x="6432120" y="3504960"/>
                <a:ext cx="588600" cy="0"/>
              </a:xfrm>
              <a:prstGeom prst="line">
                <a:avLst/>
              </a:prstGeom>
              <a:ln w="25560">
                <a:solidFill>
                  <a:srgbClr val="00b05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7"/>
              <p:cNvSpPr/>
              <p:nvPr/>
            </p:nvSpPr>
            <p:spPr>
              <a:xfrm>
                <a:off x="7727400" y="3668760"/>
                <a:ext cx="0" cy="657000"/>
              </a:xfrm>
              <a:prstGeom prst="line">
                <a:avLst/>
              </a:prstGeom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18"/>
              <p:cNvSpPr/>
              <p:nvPr/>
            </p:nvSpPr>
            <p:spPr>
              <a:xfrm flipH="1">
                <a:off x="6432480" y="4325760"/>
                <a:ext cx="1294560" cy="0"/>
              </a:xfrm>
              <a:prstGeom prst="line">
                <a:avLst/>
              </a:prstGeom>
              <a:ln w="25560">
                <a:solidFill>
                  <a:srgbClr val="00b05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TextBox 21"/>
            <p:cNvSpPr/>
            <p:nvPr/>
          </p:nvSpPr>
          <p:spPr>
            <a:xfrm>
              <a:off x="6877080" y="2493720"/>
              <a:ext cx="2087640" cy="360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应用程序开发人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直接箭头连接符 22"/>
            <p:cNvCxnSpPr>
              <a:stCxn id="115" idx="1"/>
              <a:endCxn id="106" idx="3"/>
            </p:cNvCxnSpPr>
            <p:nvPr/>
          </p:nvCxnSpPr>
          <p:spPr>
            <a:xfrm flipH="1">
              <a:off x="6440400" y="2674800"/>
              <a:ext cx="437040" cy="86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sm"/>
            </a:ln>
          </p:spPr>
        </p:cxnSp>
      </p:grpSp>
      <p:sp>
        <p:nvSpPr>
          <p:cNvPr id="117" name="TextBox 58"/>
          <p:cNvSpPr/>
          <p:nvPr/>
        </p:nvSpPr>
        <p:spPr>
          <a:xfrm>
            <a:off x="7236000" y="5157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505680" y="32846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933720" y="407664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3931200" y="515772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7892280" y="3716280"/>
            <a:ext cx="7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ahoma"/>
              </a:rPr>
              <a:t>D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数据库体系结构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763640" y="1989000"/>
            <a:ext cx="2303640" cy="703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外模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63640" y="3357720"/>
            <a:ext cx="2303640" cy="703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模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63640" y="4724280"/>
            <a:ext cx="2303640" cy="703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内模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843280" y="2708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2843280" y="407664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500720" y="2708280"/>
            <a:ext cx="4248000" cy="581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外模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模式映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500720" y="4149720"/>
            <a:ext cx="4248000" cy="581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模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内模式映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2"/>
          <p:cNvSpPr/>
          <p:nvPr/>
        </p:nvSpPr>
        <p:spPr>
          <a:xfrm flipH="1">
            <a:off x="2916000" y="2997360"/>
            <a:ext cx="1584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3"/>
          <p:cNvSpPr/>
          <p:nvPr/>
        </p:nvSpPr>
        <p:spPr>
          <a:xfrm flipH="1">
            <a:off x="2842920" y="4437000"/>
            <a:ext cx="1584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788000" y="4797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数据物理独立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4716360" y="33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数据逻辑独立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647676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设计数据库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设计数据库的基本过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概念模式的设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方法</a:t>
            </a: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E-R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逻辑模式的设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E-R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图转换为关系模式</a:t>
            </a: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:1,1:n,m: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子类</a:t>
            </a: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规范化处理</a:t>
            </a: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NF→2NF →3NF →BCNF</a:t>
            </a: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CREATE TABLE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物理模式的设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6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理数据库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764640"/>
            <a:ext cx="59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据查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关系代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∪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、∩、－、</a:t>
            </a:r>
            <a:r>
              <a:rPr b="1" lang="el-GR" sz="2400" spc="-1" strike="noStrike">
                <a:solidFill>
                  <a:srgbClr val="006600"/>
                </a:solidFill>
                <a:latin typeface="黑体"/>
                <a:ea typeface="黑体"/>
              </a:rPr>
              <a:t>σ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、∞、</a:t>
            </a:r>
            <a:r>
              <a:rPr b="1" lang="el-GR" sz="2400" spc="-1" strike="noStrike">
                <a:solidFill>
                  <a:srgbClr val="006600"/>
                </a:solidFill>
                <a:latin typeface="黑体"/>
                <a:ea typeface="黑体"/>
              </a:rPr>
              <a:t>π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6600"/>
                </a:solidFill>
                <a:latin typeface="Symbol"/>
                <a:ea typeface="Symbol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ＳＱ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语言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(insert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delete update sel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难点：全集与否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据库保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完整性控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安全性控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并发控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数据库维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580000" y="3933720"/>
            <a:ext cx="504720" cy="1008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5720 h 1008000"/>
              <a:gd name="textAreaBottom" fmla="*/ 9622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0"/>
                  <a:pt x="10800" y="3140"/>
                </a:cubicBezTo>
                <a:lnTo>
                  <a:pt x="10800" y="7283"/>
                </a:lnTo>
                <a:cubicBezTo>
                  <a:pt x="10800" y="8853"/>
                  <a:pt x="5400" y="10423"/>
                  <a:pt x="0" y="10423"/>
                </a:cubicBezTo>
                <a:cubicBezTo>
                  <a:pt x="5400" y="10423"/>
                  <a:pt x="10800" y="11993"/>
                  <a:pt x="10800" y="13563"/>
                </a:cubicBezTo>
                <a:lnTo>
                  <a:pt x="10800" y="18460"/>
                </a:lnTo>
                <a:cubicBezTo>
                  <a:pt x="10800" y="200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940360" y="393372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MS PMincho"/>
              </a:rPr>
              <a:t>Create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MS PMinch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MS PMincho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MS PMincho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MS PMincho"/>
              </a:rPr>
              <a:t>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211640" y="5300640"/>
            <a:ext cx="158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异常状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务的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ID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封锁机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3635280" y="5373720"/>
            <a:ext cx="576360" cy="720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9"/>
                </a:lnTo>
                <a:cubicBezTo>
                  <a:pt x="10800" y="9139"/>
                  <a:pt x="5400" y="10039"/>
                  <a:pt x="0" y="10039"/>
                </a:cubicBezTo>
                <a:cubicBezTo>
                  <a:pt x="5400" y="10039"/>
                  <a:pt x="10800" y="10939"/>
                  <a:pt x="10800" y="1183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659640" y="5013360"/>
            <a:ext cx="230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安全控制策略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登录密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取控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6372360" y="5157720"/>
            <a:ext cx="288720" cy="1008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3708360" y="4005360"/>
            <a:ext cx="289080" cy="1008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95640" y="4005360"/>
            <a:ext cx="2160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体完整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照完整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域完整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自定义完整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肘形连接符 15"/>
          <p:cNvCxnSpPr/>
          <p:nvPr/>
        </p:nvCxnSpPr>
        <p:spPr>
          <a:xfrm>
            <a:off x="3708360" y="5157720"/>
            <a:ext cx="2736000" cy="504000"/>
          </a:xfrm>
          <a:prstGeom prst="bentConnector3">
            <a:avLst>
              <a:gd name="adj1" fmla="val 70232"/>
            </a:avLst>
          </a:prstGeom>
          <a:ln w="34920">
            <a:solidFill>
              <a:srgbClr val="ff0000"/>
            </a:solidFill>
            <a:bevel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6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管理数据库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6920" y="1412640"/>
            <a:ext cx="59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管理数据库的常用技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存储过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无参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输入参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输出参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Insert--inse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delete--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update-inserted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179280" y="1628640"/>
            <a:ext cx="93232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对关系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s(snum,sname,sex,age)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设计输入触发器，其功能为当用户输入学生记录时对性别进行完整性控制，即当输入值超出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男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”、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女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”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范围时，显示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性别输入有误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，否则报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性别录入成功！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6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触发器举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58920" y="4724280"/>
            <a:ext cx="83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方法总结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从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inserted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表中获得条件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然后对条件直接进行判断处理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从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inserted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表中获得条件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然后用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SQL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语言进行条件查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从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deleted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表中获取信息的处理与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inserted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类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7056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EATE TRIGGER  s_s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INS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CLARE @_sex  char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SELECT @_sex=sex, @_age=age FROM inse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IF @_sex  not  in ('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男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', '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女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'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PRINT '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性别输入有误！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ROLL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PRINT 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'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性别录入成功！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995640" y="2637000"/>
            <a:ext cx="514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DECLARE @_age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SELECT @_age=i.age FROM inserted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IF  @_age&gt;=12 and  @_age&lt;=4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PRINT '</a:t>
            </a:r>
            <a:r>
              <a:rPr b="1" lang="zh-CN" sz="2000" spc="-1" strike="noStrike">
                <a:solidFill>
                  <a:srgbClr val="006600"/>
                </a:solidFill>
                <a:latin typeface="Tahoma"/>
              </a:rPr>
              <a:t>年龄录入成功！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COMMIT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PRINT '</a:t>
            </a:r>
            <a:r>
              <a:rPr b="1" lang="zh-CN" sz="2000" spc="-1" strike="noStrike">
                <a:solidFill>
                  <a:srgbClr val="006600"/>
                </a:solidFill>
                <a:latin typeface="Tahoma"/>
              </a:rPr>
              <a:t>年龄输入有误！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RO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5580000" y="189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多个条件如何表达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07:48:48Z</dcterms:created>
  <dc:creator/>
  <dc:description/>
  <cp:keywords/>
  <dc:language>en-US</dc:language>
  <cp:lastModifiedBy/>
  <dcterms:modified xsi:type="dcterms:W3CDTF">2014-01-02T06:09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