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EBC-3135-4947-A1FC-A98D7FF5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151-B148-4E64-AA1E-740A172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28C-05DF-4B71-A6E0-2CF7A739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D8E-CDCA-4BF4-8DDD-3FF90FC4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4FC-411A-41F0-9DAA-778B4FEF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25F-9959-4240-AA34-156DF33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85C-4352-4081-BEE9-66EF5626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BAD-64DD-47AD-BA59-58DE7FB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FC8-C648-4662-8395-7D9A882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CB6-C4CD-48AD-B212-6045A0C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C04-8D9F-4056-85CA-DD8C345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81F-000D-4F0A-B3A4-766A7B4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9E1F-CE40-459A-A6F8-5D2D824A1FA1}" type="slidenum">
              <a:rPr b="0" lang="zh-CN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无处不在的数据及</a:t>
            </a:r>
            <a:br>
              <a:rPr sz="4400"/>
            </a:b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R</a:t>
            </a: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的探索方法 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谢益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中国人民大学统计学院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目录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哪儿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可以做什么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据在哪里呀数据在哪里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各位朋友的报名表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魏太云的博客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oogle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搜索条目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报名信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0 | 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2 | 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4 | 00000000000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6 | 0000000000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8 | 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0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2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4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6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8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0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2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4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6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8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0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2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4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6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8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60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省会城市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62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“</a:t>
            </a: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三心二意”表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484280"/>
          <a:ext cx="8223120" cy="4956120"/>
        </p:xfrm>
        <a:graphic>
          <a:graphicData uri="http://schemas.openxmlformats.org/drawingml/2006/table">
            <a:tbl>
              <a:tblPr/>
              <a:tblGrid>
                <a:gridCol w="658800"/>
                <a:gridCol w="719280"/>
                <a:gridCol w="1728720"/>
                <a:gridCol w="1592280"/>
                <a:gridCol w="1174680"/>
                <a:gridCol w="1174680"/>
                <a:gridCol w="1174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570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81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8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98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55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7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490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64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78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7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5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5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61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联系方式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ontact 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x = "yihui.name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web = paste("www", x, sep = ".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you may browseURL(we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email = paste("xie", x, sep = "@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mobile[2:11] = mobile[1] + c(4, 7, 0, -1, 7, -1, 4, 7, 6,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57:52Z</dcterms:created>
  <dc:creator>Yihui Xie</dc:creator>
  <dc:description/>
  <dc:language>en-US</dc:language>
  <cp:lastModifiedBy>Yihui Xie</cp:lastModifiedBy>
  <dcterms:modified xsi:type="dcterms:W3CDTF">2008-12-17T12:35:59Z</dcterms:modified>
  <cp:revision>12</cp:revision>
  <dc:subject/>
  <dc:title>无处不在的数据及R的探索方法</dc:title>
</cp:coreProperties>
</file>