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7.jpeg" ContentType="image/jpeg"/>
  <Override PartName="/ppt/media/image3.jpeg" ContentType="image/jpeg"/>
  <Override PartName="/ppt/media/image6.jpeg" ContentType="image/jpe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99C0-09BD-47A8-BA1F-D4E3D27ABE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a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a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70D-9DA5-4224-B0B5-6185ECA9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05C4-9F74-409D-8B0D-4CBFC0CE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76BB-7AC3-455A-BF51-96596759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48E-8D40-4589-A34C-BB7695FA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763C-8194-4357-BCEB-C92BB72A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0895-30FD-4FDD-9BB6-C7FE0219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81E9-A994-4A2F-9CF5-6D25F66E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1D36-13D5-42BE-B484-63F784BE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3509-2EF0-4073-B303-29AA634A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0577-EFF9-4130-8A81-E375DA3C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B7FF-4008-4032-8F9D-EDF47109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2E4-F7DB-4535-A3F1-9F19D497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5099-79ED-42EF-8C4B-82248DEB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6475-890E-42B0-9D30-C1E47134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5932-6948-4213-A434-803D2CF7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4986-075F-43AD-900C-F5323DE8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D276-8637-449C-A7F5-E1E6E1D0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ABB33-5B1C-4BCA-975C-0708943C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2D835-C0CB-4D26-84F3-A5E7A005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F36B2-2F2C-47C6-A1D2-336638C3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D99E1-2642-4654-B34A-03033414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3D838-7469-491D-87B3-DFDA34A5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17C-2361-4502-907A-32CA6010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CC74D-FD90-449B-A9BF-B1565B4F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F67F9-8752-42A4-ABC3-DD71AA8E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0E681-5653-4225-B54C-1990ED29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6457F-B818-453C-9F9C-29B8643F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1686A-2C1A-4D88-9EDB-9CE5C1EF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9AC16-BD3A-403F-8CBA-A900C1F3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A5D59-9253-4316-B522-8E1E186C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F23-23EB-4190-B7BB-3D6F4A7A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2494-FDDF-4395-9BB5-D59F9CC4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3067-8C9B-4840-A921-A15B6EC0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8790-650D-476B-B38A-48552667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72B-4CFD-4901-A720-E694764B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18C2-5CDC-4763-ACB2-0A671217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4A11-3A24-45FD-A75B-A00365857E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52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58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AF59-FD44-4B60-AE6B-511FAA8013F9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111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117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3EF6-E887-4B4D-9840-C02E13F8B759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n/imgres?imgurl=http://www.stat.auckland.ac.nz/images/people/rossihaka.jpg&amp;imgrefurl=http://www.stat.auckland.ac.nz/showperson.php%3Ffirstname%3DRoss%26surname%3DIhaka&amp;usg=__Zbf_MfZHzAuwyjBI9QBwvV5o5DU=&amp;h=160&amp;w=121&amp;sz=5&amp;hl=zh-CN&amp;start=3&amp;um=1&amp;tbnid=76ob8a_h9uusUM:&amp;tbnh=98&amp;tbnw=74&amp;prev=/images%3Fq%3DRoss%2BIhaka%26um%3D1%26hl%3Dzh-CN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r-project.org/" TargetMode="External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2120" y="304920"/>
            <a:ext cx="811980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0800" y="404640"/>
            <a:ext cx="82692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欢迎走入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R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语言世界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4897440"/>
            <a:ext cx="590544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益辉、郑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987640" y="2205000"/>
            <a:ext cx="3051360" cy="1244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315200" y="640080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3505320"/>
            <a:ext cx="259092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280" y="43434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52578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自由的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G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2666880"/>
            <a:ext cx="5638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对统计的意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避免了像商业软件在固定的分析过程中存在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无法得到取截尾均值作为统计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统计分析方法的归类不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3505320"/>
            <a:ext cx="259092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43434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2280" y="52578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自由的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G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19520" y="2286000"/>
            <a:ext cx="5943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对统计的意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避免了像商业软件一样源代码不被公开，其中的具体程序过程只有内部人员清楚，用户对此毫不知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用户可以得知其中的计算会暗含着何种漏洞或错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Excel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为例，有时能计算出负的方差，有时能产生有严重缺陷的随机数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3505320"/>
            <a:ext cx="259092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43434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280" y="52578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自由的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G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286000"/>
            <a:ext cx="59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总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一是可自由计算任何想计算的统计量（包括图形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二是保证用户能够使用正确的计算机程序，或换句话说，保证用户清楚他们利用计算机究竟在做什么。如果用户被剥夺了这种自由，那么统计分析工作的效率和信度都将大打折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3505320"/>
            <a:ext cx="251460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666880"/>
            <a:ext cx="2590920" cy="6480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4343400"/>
            <a:ext cx="259056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5181480"/>
            <a:ext cx="259056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106668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语言的荣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71800" y="2514600"/>
            <a:ext cx="5486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是一门用于数据分析和图示的高层语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年美国计算机学会（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ACM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）授予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的主要设计者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John M. Chambers~“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软件系统奖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//www.acm.org/announcements/ss99.html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，用以表彰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取得的成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838080"/>
            <a:ext cx="2057400" cy="685800"/>
          </a:xfrm>
          <a:prstGeom prst="wedgeRoundRectCallout">
            <a:avLst>
              <a:gd name="adj1" fmla="val -78393"/>
              <a:gd name="adj2" fmla="val 52546"/>
              <a:gd name="adj3" fmla="val 16667"/>
            </a:avLst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R’  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3505320"/>
            <a:ext cx="251460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2666880"/>
            <a:ext cx="2590920" cy="6480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4343400"/>
            <a:ext cx="259056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5181480"/>
            <a:ext cx="259056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8120" y="106668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语言的荣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2514600"/>
            <a:ext cx="5943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棕皮书：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Richard A. Becker and John M. Chambers (1984),S. An Interactive Environment for Data Analysis and Graphics,'' Monterey: Wadsworth and Brooks/C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蓝皮书：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Richard A. Becker, John M. Chambers and Allan R. Wilks (1988), ``The New S Language'' London: Chapman  H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白皮书：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John M. Chambers and Trevor J. Hastie (1992), ``Statistical Models in S'' London: Chapman \&amp; Hall. 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这本书中开始介绍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S3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，即第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代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绿皮书：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John M. Chambers (1998), ``Programming with Data,'' New York: Springer, ISBN 0-387-98503-4 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这本书介绍了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S4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，即第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代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86600" y="838080"/>
            <a:ext cx="2057400" cy="685800"/>
          </a:xfrm>
          <a:prstGeom prst="wedgeRoundRectCallout">
            <a:avLst>
              <a:gd name="adj1" fmla="val -78393"/>
              <a:gd name="adj2" fmla="val 52546"/>
              <a:gd name="adj3" fmla="val 16667"/>
            </a:avLst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R’  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3505320"/>
            <a:ext cx="266724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4343400"/>
            <a:ext cx="274320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5257800"/>
            <a:ext cx="274320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38280" y="9144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Scheme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语言的荣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1905120"/>
            <a:ext cx="5791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是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LISP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的一个方言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或说成变种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，与其他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lisp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不同的是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是可以编译成机器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它诞生于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1975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年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MIT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，对于这个有近三十年历史的编程语言来说，在国外广泛运用，就像国内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C++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那样受到商业领域的青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86600" y="1676520"/>
            <a:ext cx="2057400" cy="685800"/>
          </a:xfrm>
          <a:prstGeom prst="wedgeRoundRectCallout">
            <a:avLst>
              <a:gd name="adj1" fmla="val -82560"/>
              <a:gd name="adj2" fmla="val -66435"/>
              <a:gd name="adj3" fmla="val 16667"/>
            </a:avLst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R’ 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3505320"/>
            <a:ext cx="266724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4343400"/>
            <a:ext cx="274320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5257800"/>
            <a:ext cx="274320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9144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Scheme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语言的荣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22096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一个主要特性是可以像操作数据一样操作函数调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其的主要目的是训练人的机器化思维。以其简洁的语言环境和大量的脑力思考而著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主要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环境有：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MIT 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DrSch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86600" y="1676520"/>
            <a:ext cx="2057400" cy="685800"/>
          </a:xfrm>
          <a:prstGeom prst="wedgeRoundRectCallout">
            <a:avLst>
              <a:gd name="adj1" fmla="val -82560"/>
              <a:gd name="adj2" fmla="val -66435"/>
              <a:gd name="adj3" fmla="val 16667"/>
            </a:avLst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R’ 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280" y="4419720"/>
            <a:ext cx="259092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2666880"/>
            <a:ext cx="2590920" cy="5716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3429000"/>
            <a:ext cx="251460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280" y="52578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898720" y="990720"/>
            <a:ext cx="6087960" cy="5673600"/>
            <a:chOff x="2898720" y="990720"/>
            <a:chExt cx="6087960" cy="5673600"/>
          </a:xfrm>
        </p:grpSpPr>
        <p:grpSp>
          <p:nvGrpSpPr>
            <p:cNvPr id="303" name=""/>
            <p:cNvGrpSpPr/>
            <p:nvPr/>
          </p:nvGrpSpPr>
          <p:grpSpPr>
            <a:xfrm>
              <a:off x="2898720" y="1331280"/>
              <a:ext cx="6087960" cy="5333040"/>
              <a:chOff x="2898720" y="1331280"/>
              <a:chExt cx="6087960" cy="533304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2898720" y="1331280"/>
                <a:ext cx="6087960" cy="5333040"/>
                <a:chOff x="2898720" y="1331280"/>
                <a:chExt cx="6087960" cy="5333040"/>
              </a:xfrm>
            </p:grpSpPr>
            <p:grpSp>
              <p:nvGrpSpPr>
                <p:cNvPr id="305" name=""/>
                <p:cNvGrpSpPr/>
                <p:nvPr/>
              </p:nvGrpSpPr>
              <p:grpSpPr>
                <a:xfrm>
                  <a:off x="2898720" y="1884960"/>
                  <a:ext cx="6087960" cy="4178160"/>
                  <a:chOff x="2898720" y="1884960"/>
                  <a:chExt cx="6087960" cy="4178160"/>
                </a:xfrm>
              </p:grpSpPr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2999880" y="2314800"/>
                    <a:ext cx="5820120" cy="3202560"/>
                    <a:chOff x="2999880" y="2314800"/>
                    <a:chExt cx="5820120" cy="320256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2999880" y="5517360"/>
                      <a:ext cx="5820120" cy="0"/>
                    </a:xfrm>
                    <a:prstGeom prst="line">
                      <a:avLst/>
                    </a:prstGeom>
                    <a:ln cap="sq" w="76320">
                      <a:solidFill>
                        <a:srgbClr val="ffcc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 flipV="1">
                      <a:off x="2999880" y="2314800"/>
                      <a:ext cx="0" cy="3141000"/>
                    </a:xfrm>
                    <a:prstGeom prst="line">
                      <a:avLst/>
                    </a:prstGeom>
                    <a:ln cap="sq" w="76320">
                      <a:solidFill>
                        <a:srgbClr val="ffcc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aphicFrame>
                <p:nvGraphicFramePr>
                  <p:cNvPr id="309" name=""/>
                  <p:cNvGraphicFramePr/>
                  <p:nvPr/>
                </p:nvGraphicFramePr>
                <p:xfrm>
                  <a:off x="2898720" y="1884960"/>
                  <a:ext cx="1265040" cy="457200"/>
                </p:xfrm>
                <a:graphic>
                  <a:graphicData uri="http://schemas.openxmlformats.org/presentationml/2006/ole">
                    <p:oleObj r:id="rId2" spid="">
                      <p:embed/>
                      <p:pic>
                        <p:nvPicPr>
                          <p:cNvPr id="310" name="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2898720" y="1884960"/>
                            <a:ext cx="1265040" cy="4572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311" name=""/>
                  <p:cNvGraphicFramePr/>
                  <p:nvPr/>
                </p:nvGraphicFramePr>
                <p:xfrm>
                  <a:off x="8213400" y="5641200"/>
                  <a:ext cx="773280" cy="421920"/>
                </p:xfrm>
                <a:graphic>
                  <a:graphicData uri="http://schemas.openxmlformats.org/presentationml/2006/ole">
                    <p:oleObj r:id="rId4" spid="">
                      <p:embed/>
                      <p:pic>
                        <p:nvPicPr>
                          <p:cNvPr id="312" name="" descr=""/>
                          <p:cNvPicPr/>
                          <p:nvPr/>
                        </p:nvPicPr>
                        <p:blipFill>
                          <a:blip r:embed="rId5"/>
                          <a:stretch/>
                        </p:blipFill>
                        <p:spPr>
                          <a:xfrm>
                            <a:off x="8213400" y="5641200"/>
                            <a:ext cx="773280" cy="4219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2972520" y="1884960"/>
                  <a:ext cx="5945400" cy="4779360"/>
                  <a:chOff x="2972520" y="1884960"/>
                  <a:chExt cx="5945400" cy="4779360"/>
                </a:xfrm>
              </p:grpSpPr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3996360" y="4225320"/>
                    <a:ext cx="458280" cy="2219040"/>
                    <a:chOff x="3996360" y="4225320"/>
                    <a:chExt cx="458280" cy="221904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3996360" y="5125320"/>
                      <a:ext cx="458280" cy="1319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4140000" y="4225320"/>
                      <a:ext cx="26748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萌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6771240" y="2476800"/>
                    <a:ext cx="429120" cy="4187520"/>
                    <a:chOff x="6771240" y="2476800"/>
                    <a:chExt cx="429120" cy="418752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6771240" y="5515920"/>
                      <a:ext cx="429120" cy="1148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6896880" y="2476800"/>
                      <a:ext cx="269640" cy="1465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诞生婴儿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7806960" y="1947240"/>
                    <a:ext cx="442440" cy="4577760"/>
                    <a:chOff x="7806960" y="1947240"/>
                    <a:chExt cx="442440" cy="457776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7806960" y="5547600"/>
                      <a:ext cx="428400" cy="977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7929360" y="1947240"/>
                      <a:ext cx="320040" cy="1465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成长发展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8488440" y="1884960"/>
                    <a:ext cx="429480" cy="4657320"/>
                    <a:chOff x="8488440" y="1884960"/>
                    <a:chExt cx="429480" cy="465732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8488440" y="6072840"/>
                      <a:ext cx="429480" cy="469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8517240" y="1884960"/>
                      <a:ext cx="32004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现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2972520" y="4164120"/>
                    <a:ext cx="454680" cy="2216520"/>
                    <a:chOff x="2972520" y="4164120"/>
                    <a:chExt cx="454680" cy="221652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2972520" y="5063040"/>
                      <a:ext cx="454680" cy="131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3112560" y="4164120"/>
                      <a:ext cx="268560" cy="119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思想火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5378760" y="3055320"/>
                    <a:ext cx="493560" cy="3421800"/>
                    <a:chOff x="5378760" y="3055320"/>
                    <a:chExt cx="493560" cy="342180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5378760" y="5580360"/>
                      <a:ext cx="459720" cy="896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flipH="1">
                      <a:off x="5519520" y="3055320"/>
                      <a:ext cx="352440" cy="119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胚胎时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999880" y="1331280"/>
                  <a:ext cx="5972040" cy="2840760"/>
                  <a:chOff x="2999880" y="1331280"/>
                  <a:chExt cx="5972040" cy="2840760"/>
                </a:xfrm>
              </p:grpSpPr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2999880" y="1762560"/>
                    <a:ext cx="5972040" cy="2401200"/>
                    <a:chOff x="2999880" y="1762560"/>
                    <a:chExt cx="5972040" cy="240120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2999880" y="4163760"/>
                      <a:ext cx="657000" cy="0"/>
                    </a:xfrm>
                    <a:prstGeom prst="line">
                      <a:avLst/>
                    </a:prstGeom>
                    <a:ln w="76320">
                      <a:solidFill>
                        <a:srgbClr val="ffffcc"/>
                      </a:solidFill>
                      <a:prstDash val="sysDot"/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3708360" y="3794400"/>
                      <a:ext cx="1467360" cy="0"/>
                    </a:xfrm>
                    <a:prstGeom prst="line">
                      <a:avLst/>
                    </a:prstGeom>
                    <a:ln cap="rnd" w="76320">
                      <a:solidFill>
                        <a:srgbClr val="ffffcc"/>
                      </a:solidFill>
                      <a:custDash>
                        <a:ds d="100000" sp="1000"/>
                      </a:custDash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5175720" y="3055680"/>
                      <a:ext cx="1265040" cy="0"/>
                    </a:xfrm>
                    <a:prstGeom prst="line">
                      <a:avLst/>
                    </a:prstGeom>
                    <a:ln w="76320">
                      <a:solidFill>
                        <a:srgbClr val="ffffcc"/>
                      </a:solidFill>
                      <a:miter/>
                      <a:headEnd len="med" type="oval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3656880" y="3794400"/>
                      <a:ext cx="0" cy="369360"/>
                    </a:xfrm>
                    <a:prstGeom prst="line">
                      <a:avLst/>
                    </a:prstGeom>
                    <a:ln cap="sq"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flipV="1">
                      <a:off x="5175720" y="3055320"/>
                      <a:ext cx="0" cy="738360"/>
                    </a:xfrm>
                    <a:prstGeom prst="line">
                      <a:avLst/>
                    </a:prstGeom>
                    <a:ln cap="sq"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440760" y="2439720"/>
                      <a:ext cx="0" cy="614880"/>
                    </a:xfrm>
                    <a:prstGeom prst="line">
                      <a:avLst/>
                    </a:prstGeom>
                    <a:ln cap="sq"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440760" y="2439720"/>
                      <a:ext cx="1265400" cy="0"/>
                    </a:xfrm>
                    <a:prstGeom prst="line">
                      <a:avLst/>
                    </a:prstGeom>
                    <a:ln w="76320">
                      <a:solidFill>
                        <a:srgbClr val="ffff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7706520" y="1762560"/>
                      <a:ext cx="1265400" cy="0"/>
                    </a:xfrm>
                    <a:prstGeom prst="line">
                      <a:avLst/>
                    </a:prstGeom>
                    <a:ln w="76320">
                      <a:solidFill>
                        <a:srgbClr val="ffff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7706520" y="1823400"/>
                      <a:ext cx="0" cy="614880"/>
                    </a:xfrm>
                    <a:prstGeom prst="line">
                      <a:avLst/>
                    </a:prstGeom>
                    <a:ln cap="sq"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3" name=""/>
                  <p:cNvSpPr/>
                  <p:nvPr/>
                </p:nvSpPr>
                <p:spPr>
                  <a:xfrm>
                    <a:off x="3141000" y="3712320"/>
                    <a:ext cx="412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4199760" y="3363480"/>
                    <a:ext cx="412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②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566320" y="2626200"/>
                    <a:ext cx="412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③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6885720" y="2009880"/>
                    <a:ext cx="412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④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7857000" y="1331280"/>
                    <a:ext cx="343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⑤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8505720" y="1331280"/>
                    <a:ext cx="412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⑥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" name=""/>
              <p:cNvGrpSpPr/>
              <p:nvPr/>
            </p:nvGrpSpPr>
            <p:grpSpPr>
              <a:xfrm>
                <a:off x="3204720" y="2654640"/>
                <a:ext cx="5689800" cy="2836440"/>
                <a:chOff x="3204720" y="2654640"/>
                <a:chExt cx="5689800" cy="283644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7929000" y="3353400"/>
                  <a:ext cx="254160" cy="2096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640360" y="2654640"/>
                  <a:ext cx="254160" cy="2813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75"/>
                    </a:gs>
                    <a:gs pos="50000">
                      <a:srgbClr val="ffccff"/>
                    </a:gs>
                    <a:gs pos="100000">
                      <a:srgbClr val="755e75"/>
                    </a:gs>
                  </a:gsLst>
                  <a:lin ang="5400000"/>
                </a:gradFill>
                <a:ln w="9360">
                  <a:solidFill>
                    <a:srgbClr val="ffff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204720" y="5259600"/>
                  <a:ext cx="152280" cy="214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220640" y="4941720"/>
                  <a:ext cx="202680" cy="485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592600" y="4370400"/>
                  <a:ext cx="203400" cy="1120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964560" y="4052520"/>
                  <a:ext cx="203760" cy="1438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6" name=""/>
            <p:cNvSpPr/>
            <p:nvPr/>
          </p:nvSpPr>
          <p:spPr>
            <a:xfrm>
              <a:off x="3695760" y="990720"/>
              <a:ext cx="397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21120" y="5341320"/>
              <a:ext cx="5965200" cy="251280"/>
            </a:xfrm>
            <a:prstGeom prst="rightArrow">
              <a:avLst>
                <a:gd name="adj1" fmla="val 50000"/>
                <a:gd name="adj2" fmla="val 593481"/>
              </a:avLst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290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①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思想火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15200" y="380880"/>
            <a:ext cx="1333440" cy="144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40" y="26453"/>
                </a:moveTo>
                <a:lnTo>
                  <a:pt x="-1234" y="1713"/>
                </a:lnTo>
              </a:path>
              <a:path w="21600" h="21600">
                <a:moveTo>
                  <a:pt x="-1234" y="0"/>
                </a:moveTo>
                <a:lnTo>
                  <a:pt x="-1234" y="21600"/>
                </a:lnTo>
              </a:path>
            </a:pathLst>
          </a:custGeom>
          <a:solidFill>
            <a:srgbClr val="00cc99"/>
          </a:solidFill>
          <a:ln cap="sq" w="1260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95480" y="2057400"/>
            <a:ext cx="6248520" cy="32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最早的时候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oss Ihaka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从一本书了解到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os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对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非常感兴趣；大约与此同时，他获得了一版新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（见蓝皮书）的源代码，此时他注意到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二者之间的异同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后来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os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开始准备用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向别人演示词法作用域，但是由于手边没有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书，就用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来演示却失败了，这让他萌生了改进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的想法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15200" y="380880"/>
            <a:ext cx="1295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290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②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萌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315200" y="380880"/>
            <a:ext cx="1333440" cy="144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437" y="33756"/>
                </a:moveTo>
                <a:lnTo>
                  <a:pt x="-1234" y="1713"/>
                </a:lnTo>
              </a:path>
              <a:path w="21600" h="21600">
                <a:moveTo>
                  <a:pt x="-1234" y="0"/>
                </a:moveTo>
                <a:lnTo>
                  <a:pt x="-1234" y="21600"/>
                </a:lnTo>
              </a:path>
            </a:pathLst>
          </a:custGeom>
          <a:solidFill>
            <a:srgbClr val="00cc99"/>
          </a:solidFill>
          <a:ln cap="sq" w="1260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057400"/>
            <a:ext cx="624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相当长一段时间之后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oss Ihaka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obert Gentlemen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在奥克兰大学成了同事，他们都对统计计算十分感兴趣，而且试图为他们的实验室寻找一个更好的软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因为在商业软件中找不到他们想要的，这使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os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想到当初改进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的想法，于是他们决定自己开发一种语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7391520" y="380880"/>
            <a:ext cx="1168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26920" y="1484280"/>
            <a:ext cx="2881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836640"/>
            <a:ext cx="3311280" cy="579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语言的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2492280"/>
            <a:ext cx="3456000" cy="628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语言的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2360" y="3933720"/>
            <a:ext cx="338328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语言的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5229360"/>
            <a:ext cx="3816360" cy="579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语言的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③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胚胎时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895480" y="1905120"/>
            <a:ext cx="6248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1993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年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os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obert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部分二进制文件放到了卡耐基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梅隆大学统计系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tatlib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中，并在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的新闻列表上发布了一个公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随后有些人开始下载使用并给他们反馈，其中以苏黎世理工学院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MartinM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最为突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Martin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极力劝说两位原作者公布源代码，让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成为自由软件。于是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1995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源代码正式发布到了自由软件协会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FTP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290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④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诞生婴儿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95480" y="2514600"/>
            <a:ext cx="624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随着开发的进行，程序版本的归档又成为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维也纳工业大学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Kurt Hornik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承担了这份任务，在维也纳建立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程序的归档，使得程序版本的发布变得更加规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同时在世界各地也出现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程序的镜像（如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tatlib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等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290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⑤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成长发展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2057400"/>
            <a:ext cx="6248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于是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997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年中期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核心团队成立了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成员包括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Douglas Bates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美国威斯康辛大学统计系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Peter Dalgaard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丹麦哥本哈根大学公共卫生所副教授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Robert Gentleman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美国西雅图哈清森肿瘤研究中心公共卫生部计算生物学项目带头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Kurt Hornik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奥地利维也纳工业大学统计与数学系教授、主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Ross Ihaka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新西兰奥克兰大学统计系副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Friedrich Leisch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德国慕尼黑大学统计系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Thomas Lumley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美国华盛顿大学生物统计系副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Martin Maechler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苏黎世理工学院数学系高级研究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Paul Murrell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新西兰奥克兰大学统计系高级讲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Heiner Schwarte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原在德国杜伊斯堡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埃森大学（现已非核心成员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Luke Tierney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爱荷华大学统计与精算系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290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⑥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现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95480" y="20574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48120" y="2068560"/>
            <a:ext cx="586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源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截止到本文写作时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源程序已经更新了约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70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个版本，目前是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2.8.0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版，源程序大小由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1997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年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959K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增大到了今天的大约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16M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Window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二进制安装程序文件约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30M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）；从版本更新以及文件大小来看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发展速度的确非常快，而且整个软件系统的体积也保持着非常小的优势，这几乎是任何一门商业软件都无法比拟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4290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⑥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现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95480" y="20574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2743200"/>
            <a:ext cx="556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）邮件列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现今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邮件列表仍然由苏黎世理工学院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Martin Machle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提供支持，这些邮件列表分四大类：消息发布（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-announc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）、附加包（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-help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）、帮助（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-help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）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程序开发（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-devel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290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⑥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现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95480" y="20574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1828800"/>
            <a:ext cx="5715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核心团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核心团队成员数目增加到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位，成员主要来自世界各地的大学如牛津大学、加拿大西安大略大学、意大利米兰大学等，也有来自公司企业的成员，如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AT&amp;T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实验室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imon Urbanek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等。由于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扩展性非常强，因此也吸引了大量用户编写自定义的函数包供更多人使用，这些附加包都可以从世界各地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CRAN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镜像上下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⑥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现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95480" y="20574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2057400"/>
            <a:ext cx="5639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刊物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也有其刊物“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 News”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，创办于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2001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年，至今已经发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期，共发表论文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205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篇。该刊物主要介绍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最新特征、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CRAN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动态、附加包的说明短文、编程技巧、手册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FAQ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中没有介绍的小提示以及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在数据分析中的应用示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自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2009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年起，“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 News”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将更名为“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The R Journal”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4290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⑥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现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48120" y="251460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据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官方网站不完全统计，与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相关的出版书籍已达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68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本，内容包括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介绍、统计编程、统计学相关领域的应用、统计模型、数据分析、统计图示和与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相关的其它软件应用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⑥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现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895480" y="20574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819520" y="1641600"/>
            <a:ext cx="6172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会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从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2004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年起至今（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2005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年除外）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团队每年都会举办一次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useR!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会议，过去已经在奥地利、美国和德国举办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次会议，每年参会人数和演讲篇数都在增多，例如最近一次在德国多特蒙德大学举办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useR!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一共有超过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400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人参加、报告多达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170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场左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此外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团队每两年也会举办一次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DSC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会议（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Directions in Statistical Computing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），讨论以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为重心的统计计算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95480" y="20574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743200" y="128916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虽说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诞生于新西兰，但后来服务器架设到了奥地利，而现在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Windows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主程序的维护者在加拿大、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Windows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附加包的维护者在德国、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Mac OS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版程序的维护者在美国、邮件列表维护者在瑞士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这样一个形式松散却有着共同目标的群体，十年来以志愿者的身份坚持不懈推动着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；众多统计学或者相关领域的程序员也纷纷贡献自己的力量，将大量统计方法以附加包的形式发布出来，使其他不擅长编程的用户也可以以最快的速度用上最新的统计方法，而封闭源代码的商业软件则很难拥有如此强劲的推动力量：现有的统计软件可能没有哪一种能够拥有超过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1500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个附加程序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2666880"/>
            <a:ext cx="2590920" cy="64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35053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434340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5181480"/>
            <a:ext cx="2590920" cy="6480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语言的概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743200"/>
            <a:ext cx="52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是一门用于统计计算和作图的语言，受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影响发展而来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语言最初由新西兰奥克兰大学统计系的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obert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entleman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oss Ihak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合作编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52280" y="5410080"/>
            <a:ext cx="2514600" cy="609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2280" y="3429000"/>
            <a:ext cx="251460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52280" y="4419720"/>
            <a:ext cx="2590920" cy="76176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小例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71800" y="2666880"/>
            <a:ext cx="556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例如，我们用函数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t·test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对一批样本量为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、来自正态分布的样本数据作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t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检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2280" y="5410080"/>
            <a:ext cx="2514600" cy="609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52280" y="3429000"/>
            <a:ext cx="251460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52280" y="4419720"/>
            <a:ext cx="2590920" cy="76176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语言的运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24080" y="2362320"/>
            <a:ext cx="5715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继承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关于向量化操作以及数据结构等诸多优势，加上它面向对象的特点，所以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在统计编程和统计图形方面显得非常灵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传统商业软件的统计模型在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中都是以对象的形式存在，我们通常看到的大篇幅统计报告输出对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来说只是对象的某种特定表现形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52280" y="5410080"/>
            <a:ext cx="2514600" cy="609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2280" y="3429000"/>
            <a:ext cx="251460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52280" y="4419720"/>
            <a:ext cx="2590920" cy="76176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语言的运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95480" y="2057400"/>
            <a:ext cx="624852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正因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语言如此灵活，所以有诸多相关项目，比较有影响的有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Bioconductor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（生物信息学的应用）、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R Forge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（程序开发者的场所）和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R Graph Gallery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图库）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这些信息可以在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http://www.r-project.org/otherprojects.html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找到。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066680" y="236232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希望通过本文的介绍，让更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中国用户了解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，并利用它在统计分析上的优势为自己的专业问题提供灵活的解答，而不是千篇一律陷在固定分析过程中降低数据利用效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同时我们也希望有更多擅长计算机编程的人士为这片“开源的海洋”贡献自己的力量，打造出一个多样化的统计分析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6781680" y="838080"/>
            <a:ext cx="1830600" cy="15652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3352680" y="99072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</a:rPr>
              <a:t>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371600" y="1295280"/>
            <a:ext cx="7162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100" spc="-1" strike="noStrike">
                <a:solidFill>
                  <a:srgbClr val="ffffcc"/>
                </a:solidFill>
                <a:latin typeface="Monotype Corsiva"/>
              </a:rPr>
              <a:t>Thank You </a:t>
            </a:r>
            <a:r>
              <a:rPr b="0" lang="zh-CN" sz="6100" spc="-1" strike="noStrike">
                <a:solidFill>
                  <a:srgbClr val="ffffcc"/>
                </a:solidFill>
                <a:latin typeface="Monotype Corsiva"/>
              </a:rPr>
              <a:t>！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2971800" y="3313080"/>
            <a:ext cx="373392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2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2666880"/>
            <a:ext cx="2590920" cy="64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35053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434340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5181480"/>
            <a:ext cx="2590920" cy="6480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语言的概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27432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语言具有免费、开源及统计模块齐全的特征，已被国外大量学术和科研机构采用，其应用范围涵盖了数据挖掘、机器学习、计量经济学、实证金融学、统计遗传学、自然语言处理、心理计量学和空间统计学诸多领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2666880"/>
            <a:ext cx="2590920" cy="64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35053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434340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5181480"/>
            <a:ext cx="2590920" cy="6480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语言的概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2743200"/>
            <a:ext cx="61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r-project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关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下载镜像（中国香港有一个镜像网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·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组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文档（官方文档、用户贡献文档、卡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3505320"/>
            <a:ext cx="259092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43434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52578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自由的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G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6668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NU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是一套完全由自由软件构成的计算机操作系统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其名称是“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GNU’s  Not  Unix’'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递归缩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GNU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由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ichard Stallman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发起，后来在“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GNU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计划”下开发，目前已经包含大量的自由软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3505320"/>
            <a:ext cx="259092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43434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52578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自由的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G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25146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ichard Stallman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在其“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GNU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宣言”中提到了他发起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GNU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动机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http://www.gnu.org/gnu/manifesto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“……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I consider that the golden rule requires that if I like a program I must share it with other people who like it.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3505320"/>
            <a:ext cx="259092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43434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52578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自由的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G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2666880"/>
            <a:ext cx="5638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自由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①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以任何目的运行此程序的自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②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以学习程序工作机理为目的，对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程序进行修改的自由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③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再发行复制件的自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④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改进此程序，并公开发布改进的自由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3505320"/>
            <a:ext cx="259092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43434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52578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自由的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G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71800" y="266688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对统计的意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能够对现实生活中复杂的数据一步步的去处理，并且随时以数值或图形的形式观察中间结果，以便我们决定下一步分析应该朝怎样的方向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谢益辉</dc:creator>
  <dc:description/>
  <dc:language>en-US</dc:language>
  <cp:lastModifiedBy>Yihui Xie</cp:lastModifiedBy>
  <dcterms:modified xsi:type="dcterms:W3CDTF">2008-12-17T06:13:49Z</dcterms:modified>
  <cp:revision>20</cp:revision>
  <dc:subject>R语言</dc:subject>
  <dc:title>R~语言的历史背景、发展历程及现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