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wmf" ContentType="image/x-wmf"/>
  <Override PartName="/ppt/media/image4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D67-D304-49F8-A265-70C2C810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134-6B1D-4E8D-AF6A-A2873FE3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66682-716A-423A-A32A-5D4FD902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F420A-A5E5-467D-8F5A-5981C322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F602E-E499-49D9-8CDD-0192230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D8D1C-EFE8-4ACD-9DD8-E1261AED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C6F6D-F724-4BF2-9DFF-C981BC0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A7DFE-963E-455A-8FD7-4E73DB0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EEC81-1CC8-4954-B2A1-47CBF8C7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A7B27-34AC-47C5-BD6B-0E2CE45D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27B0F-E1D9-43DE-9E44-A9687365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B065-987C-4920-9D50-640261E0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399-CE42-43ED-8978-0E2BBA48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9FAA5-C798-43BB-BF31-CF626EC5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F68C4-8FB3-416B-8BDA-0711B71A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C7B80-D8F4-469A-8E16-5E3B004C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0EC99-D77B-4ADC-BF5E-48A5DDFD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FCD2-D79B-433D-93E4-2879F6F0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B8A1D-0974-4613-9032-D36F409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F5DAE-1CA7-4D69-9645-E1085DF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BC428-3B1E-4A5D-82E8-439E9A0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34100-C658-4D1D-A812-EAD2AE3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A0967-360E-4A41-BF6A-9CBB89F3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01D-6322-48F6-8A19-5DCC563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60AE4-54DC-4F59-88D0-7312862E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F53C-BFA9-4D62-ACEA-A49C61F2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80D70-25C1-44F6-88EE-C834789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91B6-B4B6-4D07-8304-4867A6F4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8192A-97A4-40E2-87CC-FBC41E7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C447-0324-429F-ADE2-9E36A49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22E3D-95AB-41AD-8EC3-B5B59A5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E7960-5308-46F0-9AB8-F713891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381A2-04F9-42EA-B010-C6CDEA82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F297-CC39-4B18-B27A-74D72A06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875-EE51-49E0-B3E0-14D8EA8E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1FB74-3F41-41CC-8388-C0F85BD0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5D33A-DF59-41D8-B76D-AD7DDA0C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DFE84-B9C5-4388-BA93-16937F46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422E2-E4CD-44B1-90D1-2F26B509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94E07-5624-4963-A4FB-AB478FC0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8ACF1-AE42-415E-AEDC-13CF46B6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C88C0-1895-413E-900D-C6D78A6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6B694-EDF5-4634-9CE5-361041E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51AAD-DE0B-4889-ABA6-232A15CA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8515A-9266-41F7-8D05-2D988FA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824-A785-454A-83BC-2F16E27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8E81-A0C2-4DA5-97E3-FC7CF680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04448-25AD-41BC-837D-0BAF54AF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FCAE7-5CAB-4000-AD99-14AD6F2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57F38-5B2A-491A-932F-19CCE23A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8752A-39D0-44F5-9D87-61A706BB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475EB-2A53-427D-ABF7-0561FCAC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A02C0-EC29-4ECA-8A64-6FE2070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A0D1D-6D9E-4762-A6D2-8CEE4D1A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1F8E2-53C0-4C17-8786-8F9326E8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042CB-5932-4E92-93A3-C900AB45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FE53-089A-462A-AF0E-3CB924AA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84F98-1A25-4AD5-B630-D171C71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5321C-0925-4811-9410-72B6960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911D8-6D03-4259-AFDB-A13AFE8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B55F8-6D55-452D-8D4A-78E1FC4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56A21-DDE6-462B-9D4E-E4F06704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C278C-36ED-4DC1-B988-0C29FB9E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8824B-9667-4249-B94A-8BFF1F6F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7F768-9C94-4D76-83BB-6CC333A8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68833-1B66-4A9F-A409-A8DE8380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6BF11-5A3E-460A-A285-7AF236A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C1F8-B4FE-42DE-9C1A-0BF7073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10AED-A58E-4DAE-AF21-B46F4E9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CE54B-741E-4A18-8986-403EC163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E84A6-EA47-48C1-BE53-14C73477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8343A-7660-4637-A482-6B147E3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D10F6-9AB7-4DB0-8834-C44E639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AF537-57E6-47F0-BCEA-F157DE7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3C1C9-CBE2-47C7-AF29-5FA48883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5DA77-CE6C-44ED-B0B3-C8CBC551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F31AB-060B-4D5D-AE23-320583C8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7AE7A-9219-433C-B927-2103219D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3C7D-CC62-43F8-B2FA-5B2057A6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63B4C-A655-4220-8533-6E9D917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70694-0785-45C0-8CB9-8CDFCCCC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A1CF7-272B-4EFD-8710-CD9FB3E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A8387-B0A8-4370-A0A9-227196ED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FB5B5-EC15-42BB-BC06-7FB8B68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C02E5-ADDC-4D26-A1B8-733CB2D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9B879-3B3B-4D40-8483-9434319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2D280-2A25-49A9-AAC1-065B7BEC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8F56B-0286-48B1-AD1B-D29923F9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FA4CD-49B2-4E54-BE26-FBE91F53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DB0-DF14-4659-B360-FBC2805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1372A-F0BD-4AD4-B003-3316D4D8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6FCF1-CCF8-4931-9BC1-9F9589E7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FB9C3-AC8E-41CC-B575-07D3E93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140FE-10A6-47E2-8B73-E99C5504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928AB-1767-4F29-B574-48D4560F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8A614-C13E-4412-BEE9-0818118E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0BE7E-F66D-4EA7-8D91-3D8ED20E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2C439-49B1-46FC-B806-9E1E069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CEDB7-36C0-4BF0-824B-E02696A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5DF82-8C4B-40AE-BB04-08EFD57E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1D71-9DEE-4E6A-B160-A8BE77A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A07D5-F9B7-455B-B435-D8EFA80B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F4BCB-8BA6-4155-98DE-AE680885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2BBB9-1DE6-4A3D-9E97-D29016FB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3BC46-B8AB-4A82-BD3F-31A35462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4460B-E890-4449-B18D-6604CAA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D3D75-5004-4DF9-A34A-CBE4B92E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F182B-FEA2-41C0-8BD8-89261C0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E261B-AA7B-45F3-81D0-1C0BCBBA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D94A8-9D8B-444D-8168-69AB7BD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7D0C4-4FAC-47A0-BA50-4EB9FD2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E22-8A93-46B4-A15F-B8BCE36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C7A-1B9E-4EDB-B5E3-2A46203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0BC9C-3C01-432B-AA75-EBE69F0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4B3DF-6F18-4D56-A3D3-9505D23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9A0B9-8696-4DA8-ADF5-5297000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35A9A-562C-4355-B71B-9DD1C0B2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846C8-C384-42A3-968B-363CB752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AE48-39E3-44FD-846B-2E9EC52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DE8F-3BF6-4C1C-9EB9-7D0D9C52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2087-ED80-4DB1-AEED-B024A59B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1359-4D85-45F7-9068-CF47B2C5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C526-5C2A-46DB-9D56-C36ACEE0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6605-3633-4BD1-B2E4-D3433B6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2330-FC43-4F7D-BC93-68BAE385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B71E-E7FD-4D04-9012-B30B98DE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9EDA-1895-4304-A6DE-1E454E90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3A0-9831-4820-97CF-A79EC23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A6D05-04D1-45C9-9713-ED82BF5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D6E2-6403-4C1C-B72F-1003F7C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C752-0E21-43EF-9CA9-51D77AFD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0D2C-0C70-4AF3-B6BE-91A33A7F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255D-4233-4903-BA7D-420B52C3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5834-423B-4D27-9888-3387787E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5D6E-B6DE-44BB-97A6-6024BAB1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E718-8942-4774-8D36-23A204A0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DA5D-27EE-4D9E-AA9B-DB8D4C8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C067B-E202-4F84-940D-5D89ED0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AB2-75CE-4871-B0F8-7AFCC3C4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125F-3232-4435-9CF6-46F9D6B5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7614-4999-4EEB-A728-129C43B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FB92-F408-4767-A5D7-7A0ACA9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3C4F-E536-43B4-B058-5B4C816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71A5-15C2-4B4F-9E4D-27F9584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C3291-3DC5-4911-B96C-C88C239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F6E0-BC24-4285-AA24-6EE0983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0DCB-C84B-4D64-AD44-F201502E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1BF8-255C-44E4-BDB7-D100336F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C544-7061-4775-A1B6-7BC6FCC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C52-5342-4742-A436-B16DABBC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421A-9678-4FC6-90EB-EDC3BB2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63C42-D066-4D63-8564-DC99C8D8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2C5B-87A2-46C6-B67E-FC872569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3DE5-041E-4F76-B220-1090E7C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5BD6D-B689-41D0-BA32-668DBF10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44CD-0810-4643-9808-F835D468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93B9-1E5B-401D-B08C-9738ED8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598B-5A2D-476C-BE23-5E854D0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6069A-4435-441F-955A-C566851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AFF4-032C-46B8-AE03-090EE22E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EDE-EE87-4CA1-94C5-FE98AE0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668B4-436E-4034-A5BB-6CFF0866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56AF-85FB-47CF-9D2D-8FA0FF8D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E1A21-B6E7-46C7-A418-4981A247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BDAE6-E6DB-4932-84E8-AA20FDD6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BE606-0D72-407B-B910-A30C19D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EF2E-613D-4AB2-BE66-6118685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A83B-D986-4503-835E-9CEBD3FF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FFE18-EDFD-4B40-8043-37D44003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32C8-A32E-48F0-BCD8-70C5CE3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4927-5F1A-4276-AC17-50B4354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C4D-E4AC-4BE6-BA7C-5C566281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E795-859D-4075-B33F-EE2FCD8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00A3-AB60-484D-8830-73ECBF75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0ABC-1CF9-415E-83EB-0B090DB8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FE0D-268E-45CD-B110-0046F4A3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E21B-31D1-4CA1-A5A9-D4AD4422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ED49B-6599-4C94-812C-D8B3DF15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470DB-DE80-40E3-BEB9-90086AEA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ABAAE-C17B-4690-B8FD-F6579651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B770-BFE8-47CA-8B60-D3F64870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DDDB3-CF7A-41B8-B6A9-EA208B2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5EF-474C-4E9C-AAD4-B7539ED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B42C-0BFC-4475-8999-ED5C43C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AAF08-3643-48A1-991F-C78E2D71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55973-3BCA-491B-8193-9C75E62D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F82A-EBF9-4AB3-AB8F-A7AA1AC8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7E0D-C428-49F6-9DED-C6520457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F91E-8317-4802-824D-5B299C78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6B3F-6562-41C8-80D0-8B29D46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ACEC4-A0BB-4FD2-84B8-A9E465A4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FF09F-8224-4FA8-8417-3B2571C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E6BC-E3BD-4CD9-AE2A-4EBE0AED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A13-780F-4A93-9ADF-482BF1E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DD9E-C818-4A69-BB71-1EB80D2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77D62-2250-4ED9-BAB5-90EA661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AD09C-897E-40C2-9928-96779E9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4E300-37D4-4425-A67F-C67022E4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0E94-B00E-461E-9E90-ED505B6B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750C-CF7B-40BE-9952-222F18D6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B97E-2F19-4411-B28E-AA17FC61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78F2B-E181-4B5D-8BA2-EE90933A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E27D9-574F-4A58-AD59-3BDA3874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4BAA1-FADC-41F6-8017-DCF28A7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BBF-6512-4317-8D68-58F61CC0F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260280"/>
            <a:ext cx="13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方差分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670-DFD7-4E8A-B06F-C8EECF8D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EED5-1F1E-4D26-B1DF-FAAC45C10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7D7-848A-4B34-806D-178AB5703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2A78-8A04-4C5D-90EB-6DB81B47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37BF-2E38-4B72-A542-58C4D43FB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392-1BE2-4D9F-B54B-49F2FB530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34B6-A36E-4D15-B859-E04FB94F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018-DFA2-4DCF-84C9-C48054E8E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71CA-E256-4C93-B64A-83285A61E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027-07A7-4D73-A4A8-EB7C5274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25F0-DE7A-4B7D-8EC9-CB6D5FAD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B32-2B54-4D94-A887-FC932222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EE89-A2AB-4D68-8E9C-F87566336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9018-230E-4150-A71A-9FB1621E6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125-D940-4791-9494-01F2393EA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DFDA-B499-4680-8DA8-EA5819ACA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357280" y="2130120"/>
            <a:ext cx="489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章 方差分析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is of Varianc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57184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7" name="Picture 3" descr=""/>
          <p:cNvPicPr/>
          <p:nvPr/>
        </p:nvPicPr>
        <p:blipFill>
          <a:blip r:embed="rId1"/>
          <a:srcRect l="0" t="0" r="3717" b="-175"/>
          <a:stretch/>
        </p:blipFill>
        <p:spPr>
          <a:xfrm>
            <a:off x="714240" y="2000160"/>
            <a:ext cx="7848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5"/>
              <p:cNvSpPr txBox="1"/>
              <p:nvPr/>
            </p:nvSpPr>
            <p:spPr>
              <a:xfrm>
                <a:off x="1949400" y="2852640"/>
                <a:ext cx="5607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0" name="Rectangle 6"/>
          <p:cNvSpPr/>
          <p:nvPr/>
        </p:nvSpPr>
        <p:spPr>
          <a:xfrm>
            <a:off x="324000" y="1773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各处理的样本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全相等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7"/>
              <p:cNvSpPr txBox="1"/>
              <p:nvPr/>
            </p:nvSpPr>
            <p:spPr>
              <a:xfrm>
                <a:off x="2001960" y="4745160"/>
                <a:ext cx="1539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8"/>
              <p:cNvSpPr txBox="1"/>
              <p:nvPr/>
            </p:nvSpPr>
            <p:spPr>
              <a:xfrm>
                <a:off x="3851280" y="4724280"/>
                <a:ext cx="311292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9"/>
              <p:cNvSpPr txBox="1"/>
              <p:nvPr/>
            </p:nvSpPr>
            <p:spPr>
              <a:xfrm>
                <a:off x="2627280" y="3933720"/>
                <a:ext cx="2376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4" name="Rectangle 11"/>
          <p:cNvSpPr/>
          <p:nvPr/>
        </p:nvSpPr>
        <p:spPr>
          <a:xfrm>
            <a:off x="539640" y="2276640"/>
            <a:ext cx="23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2"/>
          <p:cNvSpPr/>
          <p:nvPr/>
        </p:nvSpPr>
        <p:spPr>
          <a:xfrm>
            <a:off x="684360" y="486900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3"/>
              <p:cNvSpPr txBox="1"/>
              <p:nvPr/>
            </p:nvSpPr>
            <p:spPr>
              <a:xfrm>
                <a:off x="2771640" y="1773360"/>
                <a:ext cx="34560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1619280" y="3357720"/>
                <a:ext cx="36003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1619280" y="2641680"/>
                <a:ext cx="30240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0" name="Rectangle 6"/>
          <p:cNvSpPr/>
          <p:nvPr/>
        </p:nvSpPr>
        <p:spPr>
          <a:xfrm>
            <a:off x="755640" y="198900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7"/>
              <p:cNvSpPr txBox="1"/>
              <p:nvPr/>
            </p:nvSpPr>
            <p:spPr>
              <a:xfrm>
                <a:off x="1692360" y="4869000"/>
                <a:ext cx="3281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8"/>
              <p:cNvSpPr txBox="1"/>
              <p:nvPr/>
            </p:nvSpPr>
            <p:spPr>
              <a:xfrm>
                <a:off x="1222200" y="5445000"/>
                <a:ext cx="4540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AutoShape 9"/>
          <p:cNvSpPr/>
          <p:nvPr/>
        </p:nvSpPr>
        <p:spPr>
          <a:xfrm>
            <a:off x="250920" y="4365720"/>
            <a:ext cx="1295280" cy="1008000"/>
          </a:xfrm>
          <a:prstGeom prst="wedgeRoundRectCallout">
            <a:avLst>
              <a:gd name="adj1" fmla="val 116666"/>
              <a:gd name="adj2" fmla="val -3220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ed sampl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Multiple  Comparisons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5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662436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1  LSD 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7"/>
              <p:cNvSpPr txBox="1"/>
              <p:nvPr/>
            </p:nvSpPr>
            <p:spPr>
              <a:xfrm>
                <a:off x="1403280" y="2708280"/>
                <a:ext cx="6624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S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9"/>
              <p:cNvSpPr txBox="1"/>
              <p:nvPr/>
            </p:nvSpPr>
            <p:spPr>
              <a:xfrm>
                <a:off x="971640" y="3716280"/>
                <a:ext cx="237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SD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0" name="Rectangle 6"/>
          <p:cNvSpPr/>
          <p:nvPr/>
        </p:nvSpPr>
        <p:spPr>
          <a:xfrm>
            <a:off x="179280" y="1844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出的最小显著差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st Significance Difference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，简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3492360" y="3789360"/>
            <a:ext cx="49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认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有显著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14"/>
              <p:cNvSpPr txBox="1"/>
              <p:nvPr/>
            </p:nvSpPr>
            <p:spPr>
              <a:xfrm>
                <a:off x="1403280" y="4292640"/>
                <a:ext cx="4680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06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1  LSD 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64" name="Picture 11" descr=""/>
          <p:cNvPicPr/>
          <p:nvPr/>
        </p:nvPicPr>
        <p:blipFill>
          <a:blip r:embed="rId1"/>
          <a:srcRect l="0" t="0" r="4329" b="72003"/>
          <a:stretch/>
        </p:blipFill>
        <p:spPr>
          <a:xfrm>
            <a:off x="684360" y="1700280"/>
            <a:ext cx="75610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2  Tukey’s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9"/>
              <p:cNvSpPr txBox="1"/>
              <p:nvPr/>
            </p:nvSpPr>
            <p:spPr>
              <a:xfrm>
                <a:off x="6443640" y="3284640"/>
                <a:ext cx="1511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5"/>
              <p:cNvSpPr txBox="1"/>
              <p:nvPr/>
            </p:nvSpPr>
            <p:spPr>
              <a:xfrm>
                <a:off x="2124000" y="1628640"/>
                <a:ext cx="41054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称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768" name="Text Box 8"/>
          <p:cNvSpPr/>
          <p:nvPr/>
        </p:nvSpPr>
        <p:spPr>
          <a:xfrm>
            <a:off x="395280" y="2852640"/>
            <a:ext cx="7850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从参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学生化极差分布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ized range  distribu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上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位数记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11"/>
              <p:cNvSpPr txBox="1"/>
              <p:nvPr/>
            </p:nvSpPr>
            <p:spPr>
              <a:xfrm>
                <a:off x="1979640" y="3716280"/>
                <a:ext cx="3817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&gt;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J</m:t>
                                    </m:r>
                                  </m:e>
                                </m:rad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0" name="Text Box 13"/>
          <p:cNvSpPr/>
          <p:nvPr/>
        </p:nvSpPr>
        <p:spPr>
          <a:xfrm>
            <a:off x="1042920" y="4797360"/>
            <a:ext cx="49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认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有显著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8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2  Tukey’s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6"/>
              <p:cNvSpPr txBox="1"/>
              <p:nvPr/>
            </p:nvSpPr>
            <p:spPr>
              <a:xfrm>
                <a:off x="684360" y="1773360"/>
                <a:ext cx="74880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J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J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4" name="Picture 11" descr=""/>
          <p:cNvPicPr/>
          <p:nvPr/>
        </p:nvPicPr>
        <p:blipFill>
          <a:blip r:embed="rId1"/>
          <a:srcRect l="0" t="303" r="2175" b="86303"/>
          <a:stretch/>
        </p:blipFill>
        <p:spPr>
          <a:xfrm>
            <a:off x="684360" y="2708280"/>
            <a:ext cx="81356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3  Bonferroni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1403280" y="3429000"/>
                <a:ext cx="35305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&gt;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J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7" name="Rectangle 5"/>
          <p:cNvSpPr/>
          <p:nvPr/>
        </p:nvSpPr>
        <p:spPr>
          <a:xfrm>
            <a:off x="762840" y="1778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两比较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900000" y="4581360"/>
            <a:ext cx="48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认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有显著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9"/>
              <p:cNvSpPr txBox="1"/>
              <p:nvPr/>
            </p:nvSpPr>
            <p:spPr>
              <a:xfrm>
                <a:off x="2700360" y="1773360"/>
                <a:ext cx="230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个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Rectangle 11"/>
          <p:cNvSpPr/>
          <p:nvPr/>
        </p:nvSpPr>
        <p:spPr>
          <a:xfrm>
            <a:off x="395280" y="2565360"/>
            <a:ext cx="7921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显著性水平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取每个两两比较的显著性水平为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两比较合计犯弃真错误的概率不超过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3  Bonferroni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3"/>
              <p:cNvSpPr txBox="1"/>
              <p:nvPr/>
            </p:nvSpPr>
            <p:spPr>
              <a:xfrm>
                <a:off x="1332000" y="1916280"/>
                <a:ext cx="2735280" cy="22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5"/>
              <p:cNvSpPr txBox="1"/>
              <p:nvPr/>
            </p:nvSpPr>
            <p:spPr>
              <a:xfrm>
                <a:off x="971640" y="4365720"/>
                <a:ext cx="5184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06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619280" y="2492280"/>
            <a:ext cx="6408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1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单因素方差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2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多重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3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双因素方差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4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非参数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3  Bonferroni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85" name="Picture 1024" descr=""/>
          <p:cNvPicPr/>
          <p:nvPr/>
        </p:nvPicPr>
        <p:blipFill>
          <a:blip r:embed="rId1"/>
          <a:srcRect l="0" t="0" r="2623" b="71713"/>
          <a:stretch/>
        </p:blipFill>
        <p:spPr>
          <a:xfrm>
            <a:off x="395280" y="1700280"/>
            <a:ext cx="83534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Two-Way ANOVA 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187280" y="2565360"/>
            <a:ext cx="5185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3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交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3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交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-75708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826920" y="1700280"/>
            <a:ext cx="568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电烤箱烧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菜肴， 考察用电量（千瓦小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16000" y="2924280"/>
          <a:ext cx="6553080" cy="2090520"/>
        </p:xfrm>
        <a:graphic>
          <a:graphicData uri="http://schemas.openxmlformats.org/drawingml/2006/table">
            <a:tbl>
              <a:tblPr/>
              <a:tblGrid>
                <a:gridCol w="1639800"/>
                <a:gridCol w="1646280"/>
                <a:gridCol w="1639800"/>
                <a:gridCol w="16272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u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菜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烤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烤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烤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3"/>
              <p:cNvSpPr txBox="1"/>
              <p:nvPr/>
            </p:nvSpPr>
            <p:spPr>
              <a:xfrm>
                <a:off x="2700360" y="2421000"/>
                <a:ext cx="2879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4"/>
              <p:cNvSpPr txBox="1"/>
              <p:nvPr/>
            </p:nvSpPr>
            <p:spPr>
              <a:xfrm>
                <a:off x="3780000" y="3573360"/>
                <a:ext cx="1152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6" name="Rectangle 6"/>
          <p:cNvSpPr/>
          <p:nvPr/>
        </p:nvSpPr>
        <p:spPr>
          <a:xfrm>
            <a:off x="468360" y="1773360"/>
            <a:ext cx="36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加模型（无交互作用）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10"/>
          <p:cNvSpPr/>
          <p:nvPr/>
        </p:nvSpPr>
        <p:spPr>
          <a:xfrm>
            <a:off x="468360" y="3068640"/>
            <a:ext cx="568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13"/>
          <p:cNvSpPr/>
          <p:nvPr/>
        </p:nvSpPr>
        <p:spPr>
          <a:xfrm>
            <a:off x="539640" y="450864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4"/>
              <p:cNvSpPr txBox="1"/>
              <p:nvPr/>
            </p:nvSpPr>
            <p:spPr>
              <a:xfrm>
                <a:off x="3780000" y="5013360"/>
                <a:ext cx="1079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5"/>
              <p:cNvSpPr txBox="1"/>
              <p:nvPr/>
            </p:nvSpPr>
            <p:spPr>
              <a:xfrm>
                <a:off x="539640" y="2422440"/>
                <a:ext cx="8137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</m:sub>
                            </m:sSub>
                          </m:e>
                        </m:nary>
                        <m:r>
                          <m:t xml:space="preserve">J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J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J</m:t>
                                            </m:r>
                                          </m:sup>
                                          <m:e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  <m:r>
                                                  <m:t xml:space="preserve">⋅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¯"/>
                                                      </m:accPr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+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¯"/>
                                                      </m:accPr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⋅</m:t>
                                                    </m:r>
                                                    <m:sSup>
                                                      <m:e>
                                                        <m:r>
                                                          <m:t xml:space="preserve">)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1835280" y="4365720"/>
                <a:ext cx="1512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"/>
              <p:cNvSpPr txBox="1"/>
              <p:nvPr/>
            </p:nvSpPr>
            <p:spPr>
              <a:xfrm>
                <a:off x="5796000" y="4437000"/>
                <a:ext cx="18730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9"/>
              <p:cNvSpPr txBox="1"/>
              <p:nvPr/>
            </p:nvSpPr>
            <p:spPr>
              <a:xfrm>
                <a:off x="2050920" y="3573360"/>
                <a:ext cx="3529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5" name="Rectangle 11"/>
          <p:cNvSpPr/>
          <p:nvPr/>
        </p:nvSpPr>
        <p:spPr>
          <a:xfrm>
            <a:off x="468360" y="1844640"/>
            <a:ext cx="23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539640" y="429264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15"/>
              <p:cNvSpPr txBox="1"/>
              <p:nvPr/>
            </p:nvSpPr>
            <p:spPr>
              <a:xfrm>
                <a:off x="3995640" y="4437000"/>
                <a:ext cx="1440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3"/>
              <p:cNvSpPr txBox="1"/>
              <p:nvPr/>
            </p:nvSpPr>
            <p:spPr>
              <a:xfrm>
                <a:off x="1403280" y="2349360"/>
                <a:ext cx="64087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4"/>
              <p:cNvSpPr txBox="1"/>
              <p:nvPr/>
            </p:nvSpPr>
            <p:spPr>
              <a:xfrm>
                <a:off x="1487520" y="4365720"/>
                <a:ext cx="285588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5"/>
              <p:cNvSpPr txBox="1"/>
              <p:nvPr/>
            </p:nvSpPr>
            <p:spPr>
              <a:xfrm>
                <a:off x="1332000" y="3357720"/>
                <a:ext cx="6840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2" name="Rectangle 6"/>
          <p:cNvSpPr/>
          <p:nvPr/>
        </p:nvSpPr>
        <p:spPr>
          <a:xfrm>
            <a:off x="250920" y="184464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9"/>
          <p:cNvSpPr/>
          <p:nvPr/>
        </p:nvSpPr>
        <p:spPr>
          <a:xfrm>
            <a:off x="4643280" y="5300640"/>
            <a:ext cx="3097440" cy="432000"/>
          </a:xfrm>
          <a:prstGeom prst="wedgeRoundRectCallout">
            <a:avLst>
              <a:gd name="adj1" fmla="val -62662"/>
              <a:gd name="adj2" fmla="val -4779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ed sampl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7"/>
              <p:cNvSpPr txBox="1"/>
              <p:nvPr/>
            </p:nvSpPr>
            <p:spPr>
              <a:xfrm>
                <a:off x="1042920" y="2060640"/>
                <a:ext cx="3281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8"/>
              <p:cNvSpPr txBox="1"/>
              <p:nvPr/>
            </p:nvSpPr>
            <p:spPr>
              <a:xfrm>
                <a:off x="1042920" y="2781360"/>
                <a:ext cx="44704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0"/>
              <p:cNvSpPr txBox="1"/>
              <p:nvPr/>
            </p:nvSpPr>
            <p:spPr>
              <a:xfrm>
                <a:off x="1116000" y="3645000"/>
                <a:ext cx="343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1258920" y="4437000"/>
                <a:ext cx="442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54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-75708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3841920"/>
          </a:xfrm>
          <a:prstGeom prst="rect">
            <a:avLst/>
          </a:prstGeom>
          <a:ln w="0">
            <a:noFill/>
          </a:ln>
        </p:spPr>
      </p:pic>
      <p:sp>
        <p:nvSpPr>
          <p:cNvPr id="822" name="AutoShape 24"/>
          <p:cNvSpPr/>
          <p:nvPr/>
        </p:nvSpPr>
        <p:spPr>
          <a:xfrm>
            <a:off x="6227640" y="1700280"/>
            <a:ext cx="2519640" cy="431640"/>
          </a:xfrm>
          <a:prstGeom prst="wedgeRoundRectCallout">
            <a:avLst>
              <a:gd name="adj1" fmla="val -54662"/>
              <a:gd name="adj2" fmla="val 143013"/>
              <a:gd name="adj3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差分析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54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-75708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6840720" cy="508968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24"/>
          <p:cNvSpPr/>
          <p:nvPr/>
        </p:nvSpPr>
        <p:spPr>
          <a:xfrm>
            <a:off x="6948360" y="1700280"/>
            <a:ext cx="1873440" cy="936720"/>
          </a:xfrm>
          <a:prstGeom prst="wedgeRoundRectCallout">
            <a:avLst>
              <a:gd name="adj1" fmla="val -85509"/>
              <a:gd name="adj2" fmla="val 150675"/>
              <a:gd name="adj3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差分析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468360" y="1989000"/>
            <a:ext cx="8280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当两因素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间存在交互作用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(interactions)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时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为了考察交互作用就要做重复实验，如果每个处理的实验次数</a:t>
            </a:r>
            <a:r>
              <a:rPr b="0" i="1" lang="en-US" sz="2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都是相等的则称为平衡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(balanced)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实验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611280" y="1773360"/>
            <a:ext cx="8137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扑尔敏（氯苯吡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phenira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药片的剂量，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药厂生产的扑尔敏药片中，各抽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片做检验，测量出每片中含有氯苯吡胺的剂量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120"/>
          <p:cNvSpPr/>
          <p:nvPr/>
        </p:nvSpPr>
        <p:spPr>
          <a:xfrm>
            <a:off x="468360" y="3284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指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定量变量，本例为药片的剂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因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ctor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定性变量，本例为单因素，只有药厂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实验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素水平：实验因素的不同取值，本例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a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也称为处理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611280" y="1700280"/>
          <a:ext cx="4824360" cy="497340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8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4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6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Rectangle 29"/>
          <p:cNvSpPr/>
          <p:nvPr/>
        </p:nvSpPr>
        <p:spPr>
          <a:xfrm>
            <a:off x="5651640" y="1844640"/>
            <a:ext cx="3097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考察两种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剂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ag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的保存百分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4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81644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5"/>
          <p:cNvSpPr/>
          <p:nvPr/>
        </p:nvSpPr>
        <p:spPr>
          <a:xfrm>
            <a:off x="539640" y="2997360"/>
            <a:ext cx="10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对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变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3"/>
              <p:cNvSpPr txBox="1"/>
              <p:nvPr/>
            </p:nvSpPr>
            <p:spPr>
              <a:xfrm>
                <a:off x="2340000" y="2349360"/>
                <a:ext cx="3240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4"/>
              <p:cNvSpPr txBox="1"/>
              <p:nvPr/>
            </p:nvSpPr>
            <p:spPr>
              <a:xfrm>
                <a:off x="5867280" y="2852640"/>
                <a:ext cx="1082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9" name="Rectangle 5"/>
          <p:cNvSpPr/>
          <p:nvPr/>
        </p:nvSpPr>
        <p:spPr>
          <a:xfrm>
            <a:off x="468360" y="1773360"/>
            <a:ext cx="36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交互作用模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468360" y="299736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539640" y="400536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8"/>
              <p:cNvSpPr txBox="1"/>
              <p:nvPr/>
            </p:nvSpPr>
            <p:spPr>
              <a:xfrm>
                <a:off x="5796000" y="3789360"/>
                <a:ext cx="1079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3" name="Rectangle 9"/>
          <p:cNvSpPr/>
          <p:nvPr/>
        </p:nvSpPr>
        <p:spPr>
          <a:xfrm>
            <a:off x="611280" y="4797360"/>
            <a:ext cx="78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交互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ct 10"/>
              <p:cNvSpPr txBox="1"/>
              <p:nvPr/>
            </p:nvSpPr>
            <p:spPr>
              <a:xfrm>
                <a:off x="2700360" y="5373720"/>
                <a:ext cx="2303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3"/>
              <p:cNvSpPr txBox="1"/>
              <p:nvPr/>
            </p:nvSpPr>
            <p:spPr>
              <a:xfrm>
                <a:off x="324000" y="1773360"/>
                <a:ext cx="85690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J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⋅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I</m:t>
                                            </m:r>
                                          </m:sup>
                                          <m:e>
                                            <m:nary>
                                              <m:naryPr>
                                                <m:chr m:val="∑"/>
                                              </m:naryPr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  <m:r>
                                                  <m:t xml:space="preserve">=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J</m:t>
                                                </m:r>
                                              </m:sup>
                                              <m:e>
                                                <m:nary>
                                                  <m:naryPr>
                                                    <m:chr m:val="∑"/>
                                                  </m:naryPr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  <m:r>
                                                      <m:t xml:space="preserve">=</m:t>
                                                    </m:r>
                                                    <m:r>
                                                      <m:t xml:space="preserve">1</m:t>
                                                    </m:r>
                                                  </m:sub>
                                                  <m:sup>
                                                    <m:r>
                                                      <m:t xml:space="preserve">K</m:t>
                                                    </m:r>
                                                  </m:sup>
                                                  <m:e>
                                                    <m:r>
                                                      <m:t xml:space="preserve">(</m:t>
                                                    </m:r>
                                                    <m:sSub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rPr>
                                                            <m:lit/>
                                                            <m:nor/>
                                                          </m:rPr>
                                                          <m:t xml:space="preserve">ijk</m:t>
                                                        </m:r>
                                                      </m:sub>
                                                    </m:sSub>
                                                    <m:r>
                                                      <m:t xml:space="preserve">−</m:t>
                                                    </m:r>
                                                    <m:sSub>
                                                      <m:e>
                                                        <m:acc>
                                                          <m:accPr>
                                                            <m:chr m:val="¯"/>
                                                          </m:accPr>
                                                          <m:e>
                                                            <m:r>
                                                              <m:t xml:space="preserve">Y</m:t>
                                                            </m:r>
                                                          </m:e>
                                                        </m:acc>
                                                      </m:e>
                                                      <m:sub>
                                                        <m:r>
                                                          <m:t xml:space="preserve">⋅</m:t>
                                                        </m:r>
                                                      </m:sub>
                                                    </m:sSub>
                                                    <m:sSup>
                                                      <m:e>
                                                        <m:r>
                                                          <m:t xml:space="preserve">)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e>
                                                </m:nary>
                                              </m:e>
                                            </m:nary>
                                          </m:e>
                                        </m:nary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4"/>
              <p:cNvSpPr txBox="1"/>
              <p:nvPr/>
            </p:nvSpPr>
            <p:spPr>
              <a:xfrm>
                <a:off x="1258920" y="4437000"/>
                <a:ext cx="1944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6012000" y="4365720"/>
                <a:ext cx="2252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ct 6"/>
              <p:cNvSpPr txBox="1"/>
              <p:nvPr/>
            </p:nvSpPr>
            <p:spPr>
              <a:xfrm>
                <a:off x="1763640" y="3284640"/>
                <a:ext cx="452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0" name="Rectangle 7"/>
          <p:cNvSpPr/>
          <p:nvPr/>
        </p:nvSpPr>
        <p:spPr>
          <a:xfrm>
            <a:off x="468360" y="184464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324000" y="3933720"/>
            <a:ext cx="115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9"/>
              <p:cNvSpPr txBox="1"/>
              <p:nvPr/>
            </p:nvSpPr>
            <p:spPr>
              <a:xfrm>
                <a:off x="3718080" y="4437000"/>
                <a:ext cx="19969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6"/>
              <p:cNvSpPr txBox="1"/>
              <p:nvPr/>
            </p:nvSpPr>
            <p:spPr>
              <a:xfrm>
                <a:off x="1476360" y="2781360"/>
                <a:ext cx="6696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6" name="Text Box 5"/>
          <p:cNvSpPr/>
          <p:nvPr/>
        </p:nvSpPr>
        <p:spPr>
          <a:xfrm>
            <a:off x="468360" y="177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在正态假设下对参数做极大似然估计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对数似然函数为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8"/>
          <p:cNvSpPr/>
          <p:nvPr/>
        </p:nvSpPr>
        <p:spPr>
          <a:xfrm>
            <a:off x="684360" y="378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得参数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9"/>
              <p:cNvSpPr txBox="1"/>
              <p:nvPr/>
            </p:nvSpPr>
            <p:spPr>
              <a:xfrm>
                <a:off x="3276720" y="3933720"/>
                <a:ext cx="248904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δ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3"/>
              <p:cNvSpPr txBox="1"/>
              <p:nvPr/>
            </p:nvSpPr>
            <p:spPr>
              <a:xfrm>
                <a:off x="826920" y="2205000"/>
                <a:ext cx="2671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Object 4"/>
              <p:cNvSpPr txBox="1"/>
              <p:nvPr/>
            </p:nvSpPr>
            <p:spPr>
              <a:xfrm>
                <a:off x="755640" y="5373720"/>
                <a:ext cx="64087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"/>
              <p:cNvSpPr txBox="1"/>
              <p:nvPr/>
            </p:nvSpPr>
            <p:spPr>
              <a:xfrm>
                <a:off x="4284720" y="2205000"/>
                <a:ext cx="3370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3" name="Rectangle 6"/>
          <p:cNvSpPr/>
          <p:nvPr/>
        </p:nvSpPr>
        <p:spPr>
          <a:xfrm>
            <a:off x="250920" y="1700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Object 8"/>
              <p:cNvSpPr txBox="1"/>
              <p:nvPr/>
            </p:nvSpPr>
            <p:spPr>
              <a:xfrm>
                <a:off x="4356000" y="3284640"/>
                <a:ext cx="3456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900000" y="3213000"/>
                <a:ext cx="26812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11"/>
              <p:cNvSpPr txBox="1"/>
              <p:nvPr/>
            </p:nvSpPr>
            <p:spPr>
              <a:xfrm>
                <a:off x="539640" y="4365720"/>
                <a:ext cx="3283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2"/>
              <p:cNvSpPr txBox="1"/>
              <p:nvPr/>
            </p:nvSpPr>
            <p:spPr>
              <a:xfrm>
                <a:off x="4067280" y="4292640"/>
                <a:ext cx="46400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3"/>
              <p:cNvSpPr txBox="1"/>
              <p:nvPr/>
            </p:nvSpPr>
            <p:spPr>
              <a:xfrm>
                <a:off x="1258920" y="1700280"/>
                <a:ext cx="4249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7"/>
              <p:cNvSpPr txBox="1"/>
              <p:nvPr/>
            </p:nvSpPr>
            <p:spPr>
              <a:xfrm>
                <a:off x="1116000" y="3068640"/>
                <a:ext cx="3673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Object 4"/>
              <p:cNvSpPr txBox="1"/>
              <p:nvPr/>
            </p:nvSpPr>
            <p:spPr>
              <a:xfrm>
                <a:off x="1187280" y="2349360"/>
                <a:ext cx="547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5"/>
              <p:cNvSpPr txBox="1"/>
              <p:nvPr/>
            </p:nvSpPr>
            <p:spPr>
              <a:xfrm>
                <a:off x="1116000" y="4581360"/>
                <a:ext cx="48038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6"/>
              <p:cNvSpPr txBox="1"/>
              <p:nvPr/>
            </p:nvSpPr>
            <p:spPr>
              <a:xfrm>
                <a:off x="1055520" y="3789360"/>
                <a:ext cx="5240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Object 9"/>
              <p:cNvSpPr txBox="1"/>
              <p:nvPr/>
            </p:nvSpPr>
            <p:spPr>
              <a:xfrm>
                <a:off x="1187280" y="5300640"/>
                <a:ext cx="619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496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82" name="Picture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81800" cy="22449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6" descr=""/>
          <p:cNvPicPr/>
          <p:nvPr/>
        </p:nvPicPr>
        <p:blipFill>
          <a:blip r:embed="rId2"/>
          <a:stretch/>
        </p:blipFill>
        <p:spPr>
          <a:xfrm>
            <a:off x="1476360" y="3645000"/>
            <a:ext cx="640872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755640" y="155736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826920" y="2276640"/>
          <a:ext cx="6778800" cy="419256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959040"/>
                <a:gridCol w="977760"/>
                <a:gridCol w="968400"/>
                <a:gridCol w="96840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4" descr=""/>
          <p:cNvPicPr/>
          <p:nvPr/>
        </p:nvPicPr>
        <p:blipFill>
          <a:blip r:embed="rId1"/>
          <a:srcRect l="0" t="6071" r="9284" b="0"/>
          <a:stretch/>
        </p:blipFill>
        <p:spPr>
          <a:xfrm>
            <a:off x="324000" y="1628640"/>
            <a:ext cx="6048360" cy="5010120"/>
          </a:xfrm>
          <a:prstGeom prst="rect">
            <a:avLst/>
          </a:prstGeom>
          <a:ln w="0">
            <a:noFill/>
          </a:ln>
        </p:spPr>
      </p:pic>
      <p:sp>
        <p:nvSpPr>
          <p:cNvPr id="890" name="AutoShape 5"/>
          <p:cNvSpPr/>
          <p:nvPr/>
        </p:nvSpPr>
        <p:spPr>
          <a:xfrm>
            <a:off x="6300720" y="2997360"/>
            <a:ext cx="2519280" cy="2016000"/>
          </a:xfrm>
          <a:prstGeom prst="wedgeRoundRectCallout">
            <a:avLst>
              <a:gd name="adj1" fmla="val -136263"/>
              <a:gd name="adj2" fmla="val -18898"/>
              <a:gd name="adj3" fmla="val 16667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两条线段平行时无交互作用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两条线段不平行时有交互作用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468360" y="1773360"/>
            <a:ext cx="8064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人为划分的时间、空间、设备等实验条件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区组（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block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292929"/>
                </a:solidFill>
                <a:latin typeface="SimSun"/>
              </a:rPr>
              <a:t>区组因素也是影响实验指标的因素，但并不是实验者所要考察的因素，也称为非处理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SimSun"/>
              </a:rPr>
              <a:t>    </a:t>
            </a:r>
            <a:r>
              <a:rPr b="1" lang="zh-CN" sz="2400" spc="-1" strike="noStrike">
                <a:solidFill>
                  <a:srgbClr val="292929"/>
                </a:solidFill>
                <a:latin typeface="SimSun"/>
              </a:rPr>
              <a:t>任何实验都是在一定的时间、空间范围内并使用一定的设备进行的，把这些实验条件都保持一致是最理想的，但是这在很多场合是办不到的。解决的办法是把这些区组因素也纳入实验中，在对实验做设计和数据分析中也都作为实验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468360" y="1773360"/>
            <a:ext cx="80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随机化区组设计是指实验中含有一个实验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和一个区组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对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的每一种水平搭配，以概率均等的原则，随机地选择实验单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随机化区组设计可以是重复实验，也可以是无重复实验。如果要考查实验因素和区组因素的交互作用就必须做重复实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468360" y="1773360"/>
            <a:ext cx="806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7.3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研究药物减轻皮肤瘙痒的作用，实验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是药物种类，共有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种药物，同时还有不用药的空白水平（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o Drug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），和使用安慰剂（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lacebo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）的安慰对照水平，共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个水平。区组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是受试个体。使用药物种类的顺序是随机的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01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9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632720" cy="3571920"/>
          </a:xfrm>
          <a:prstGeom prst="rect">
            <a:avLst/>
          </a:prstGeom>
          <a:ln w="0">
            <a:noFill/>
          </a:ln>
        </p:spPr>
      </p:pic>
      <p:sp>
        <p:nvSpPr>
          <p:cNvPr id="904" name="AutoShape 5"/>
          <p:cNvSpPr/>
          <p:nvPr/>
        </p:nvSpPr>
        <p:spPr>
          <a:xfrm>
            <a:off x="1258920" y="5373720"/>
            <a:ext cx="309708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31" y="3117"/>
                </a:moveTo>
                <a:lnTo>
                  <a:pt x="-6167" y="3117"/>
                </a:lnTo>
                <a:lnTo>
                  <a:pt x="-6167" y="-23461"/>
                </a:lnTo>
                <a:lnTo>
                  <a:pt x="-565" y="-35711"/>
                </a:ln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没有重复实验，把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teraction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作为误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.4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非参数方法 </a:t>
            </a:r>
            <a:br>
              <a:rPr sz="44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Nonparametric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3"/>
              <p:cNvSpPr txBox="1"/>
              <p:nvPr/>
            </p:nvSpPr>
            <p:spPr>
              <a:xfrm>
                <a:off x="1042920" y="2637000"/>
                <a:ext cx="2087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4"/>
              <p:cNvSpPr txBox="1"/>
              <p:nvPr/>
            </p:nvSpPr>
            <p:spPr>
              <a:xfrm>
                <a:off x="1332000" y="3213000"/>
                <a:ext cx="54007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8" name="Text Box 5"/>
          <p:cNvSpPr/>
          <p:nvPr/>
        </p:nvSpPr>
        <p:spPr>
          <a:xfrm>
            <a:off x="539640" y="1557360"/>
            <a:ext cx="8353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单因素方差分析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onparametric Method- The Kruskal-Walli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3635280" y="263700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7"/>
              <p:cNvSpPr txBox="1"/>
              <p:nvPr/>
            </p:nvSpPr>
            <p:spPr>
              <a:xfrm>
                <a:off x="1835280" y="4221000"/>
                <a:ext cx="3887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1" name="Text Box 8"/>
          <p:cNvSpPr/>
          <p:nvPr/>
        </p:nvSpPr>
        <p:spPr>
          <a:xfrm>
            <a:off x="611280" y="5300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当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成立时近似有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.4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非参数方法 </a:t>
            </a:r>
            <a:br>
              <a:rPr sz="44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Nonparametric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176720" cy="324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4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38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4 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非参数方法 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nparametric Method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4"/>
              <p:cNvSpPr txBox="1"/>
              <p:nvPr/>
            </p:nvSpPr>
            <p:spPr>
              <a:xfrm>
                <a:off x="2297160" y="3213000"/>
                <a:ext cx="3470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7" name="Text Box 5"/>
          <p:cNvSpPr/>
          <p:nvPr/>
        </p:nvSpPr>
        <p:spPr>
          <a:xfrm>
            <a:off x="539640" y="1557360"/>
            <a:ext cx="8353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随机区组设计（双因素方差分析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onparametric Method- Friedman’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6"/>
          <p:cNvSpPr/>
          <p:nvPr/>
        </p:nvSpPr>
        <p:spPr>
          <a:xfrm>
            <a:off x="900000" y="2708280"/>
            <a:ext cx="64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Times New Roman"/>
              </a:rPr>
              <a:t>对第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292929"/>
                </a:solidFill>
                <a:latin typeface="Times New Roman"/>
              </a:rPr>
              <a:t>个区组，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个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7"/>
              <p:cNvSpPr txBox="1"/>
              <p:nvPr/>
            </p:nvSpPr>
            <p:spPr>
              <a:xfrm>
                <a:off x="2054160" y="4221000"/>
                <a:ext cx="34498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0" name="Text Box 8"/>
          <p:cNvSpPr/>
          <p:nvPr/>
        </p:nvSpPr>
        <p:spPr>
          <a:xfrm>
            <a:off x="611280" y="5300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当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成立时近似有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835280" y="1700280"/>
            <a:ext cx="20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情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547640" y="2349360"/>
          <a:ext cx="5040360" cy="324972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1344600"/>
                <a:gridCol w="7905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处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观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…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…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6948360" y="2492280"/>
            <a:ext cx="1800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箱线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xpl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Picture 31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64087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5"/>
              <p:cNvSpPr txBox="1"/>
              <p:nvPr/>
            </p:nvSpPr>
            <p:spPr>
              <a:xfrm>
                <a:off x="2050920" y="1773360"/>
                <a:ext cx="20163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7"/>
              <p:cNvSpPr txBox="1"/>
              <p:nvPr/>
            </p:nvSpPr>
            <p:spPr>
              <a:xfrm>
                <a:off x="5148360" y="2192400"/>
                <a:ext cx="1152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9"/>
              <p:cNvSpPr txBox="1"/>
              <p:nvPr/>
            </p:nvSpPr>
            <p:spPr>
              <a:xfrm>
                <a:off x="2050920" y="3230640"/>
                <a:ext cx="56898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9" name="Rectangle 3"/>
          <p:cNvSpPr/>
          <p:nvPr/>
        </p:nvSpPr>
        <p:spPr>
          <a:xfrm>
            <a:off x="324000" y="177336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统计模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11"/>
              <p:cNvSpPr txBox="1"/>
              <p:nvPr/>
            </p:nvSpPr>
            <p:spPr>
              <a:xfrm>
                <a:off x="1979640" y="4724280"/>
                <a:ext cx="1584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13"/>
              <p:cNvSpPr txBox="1"/>
              <p:nvPr/>
            </p:nvSpPr>
            <p:spPr>
              <a:xfrm>
                <a:off x="4140360" y="4724280"/>
                <a:ext cx="2016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14"/>
              <p:cNvSpPr txBox="1"/>
              <p:nvPr/>
            </p:nvSpPr>
            <p:spPr>
              <a:xfrm>
                <a:off x="2627280" y="4149720"/>
                <a:ext cx="2376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3" name="Rectangle 15"/>
          <p:cNvSpPr/>
          <p:nvPr/>
        </p:nvSpPr>
        <p:spPr>
          <a:xfrm>
            <a:off x="395280" y="234936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468360" y="2852640"/>
            <a:ext cx="23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684360" y="486900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5"/>
              <p:cNvSpPr txBox="1"/>
              <p:nvPr/>
            </p:nvSpPr>
            <p:spPr>
              <a:xfrm>
                <a:off x="2771640" y="1773360"/>
                <a:ext cx="21607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7"/>
              <p:cNvSpPr txBox="1"/>
              <p:nvPr/>
            </p:nvSpPr>
            <p:spPr>
              <a:xfrm>
                <a:off x="1763640" y="3500280"/>
                <a:ext cx="2448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9"/>
              <p:cNvSpPr txBox="1"/>
              <p:nvPr/>
            </p:nvSpPr>
            <p:spPr>
              <a:xfrm>
                <a:off x="1619280" y="2637000"/>
                <a:ext cx="3024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0" name="Rectangle 3"/>
          <p:cNvSpPr/>
          <p:nvPr/>
        </p:nvSpPr>
        <p:spPr>
          <a:xfrm>
            <a:off x="755640" y="198900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11"/>
              <p:cNvSpPr txBox="1"/>
              <p:nvPr/>
            </p:nvSpPr>
            <p:spPr>
              <a:xfrm>
                <a:off x="1692360" y="4869000"/>
                <a:ext cx="3281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13"/>
              <p:cNvSpPr txBox="1"/>
              <p:nvPr/>
            </p:nvSpPr>
            <p:spPr>
              <a:xfrm>
                <a:off x="1619280" y="5445000"/>
                <a:ext cx="3744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AutoShape 14"/>
          <p:cNvSpPr/>
          <p:nvPr/>
        </p:nvSpPr>
        <p:spPr>
          <a:xfrm>
            <a:off x="250920" y="4365720"/>
            <a:ext cx="1295280" cy="1008000"/>
          </a:xfrm>
          <a:prstGeom prst="wedgeRoundRectCallout">
            <a:avLst>
              <a:gd name="adj1" fmla="val 116666"/>
              <a:gd name="adj2" fmla="val -3220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ed sampl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5" name="Picture 6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984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Administrators</cp:lastModifiedBy>
  <dcterms:modified xsi:type="dcterms:W3CDTF">2009-03-22T01:23:01Z</dcterms:modified>
  <cp:revision>97</cp:revision>
  <dc:subject/>
  <dc:title>幻灯片 1</dc:title>
</cp:coreProperties>
</file>