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7FD6-64FE-4C88-9A78-338A4247A1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 of this class, you will be able to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ldImg"/>
          </p:nvPr>
        </p:nvSpPr>
        <p:spPr>
          <a:xfrm>
            <a:off x="1913040" y="692280"/>
            <a:ext cx="3031920" cy="2273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C60-C888-47B0-99C6-0342F704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FCA-AD88-450E-BD89-47A6524B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826-214B-4915-A732-336461B6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D76-7B43-427F-A526-11B191F3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D02-7A69-467E-A652-286073D5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AAC-5F13-4517-AA11-40B5772E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67A-FEFA-4824-8B63-BC0F1517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AA1-7502-47A6-882D-C2BB4B10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968-133C-46D2-8E8D-3706A672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527-D3B2-4A91-B1B0-57F873DE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710-177C-4297-AABB-DBBDF925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3F5-CF90-4E90-81CB-C1E65C86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ABA4-7AC1-46CC-B93D-11860431016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260280"/>
            <a:ext cx="13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概率基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3640" y="2130120"/>
            <a:ext cx="489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第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章 概率基础</a:t>
            </a:r>
            <a:br>
              <a:rPr sz="44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Probability Bas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80000" y="4652640"/>
            <a:ext cx="475128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数理统计课题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br>
              <a:rPr sz="3200"/>
            </a:b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2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Farlie-Morgenstern Family (P77-79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773360"/>
            <a:ext cx="828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1-(1-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(1-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维密度函数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523880" y="3112920"/>
                <a:ext cx="609624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24000" y="46530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：当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[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区间的均匀分布时，此时联合分布函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ul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改记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br>
              <a:rPr sz="3200"/>
            </a:b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2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Farlie-Morgenstern Family (P77-79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65534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6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2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随机变量的函数的分布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773360"/>
            <a:ext cx="835344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随机变量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密度函数。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（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与（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的一一对应变换，其反变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具有连续的一阶偏导数，则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联合密度函数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|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6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2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随机变量的函数的分布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16000" y="1604880"/>
                <a:ext cx="259236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⋯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⋮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⋮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924360" y="2421000"/>
            <a:ext cx="4174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雅可比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acobi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行列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221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187280" y="3598920"/>
                <a:ext cx="244800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⋯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⋮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⋮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24000" y="5229360"/>
            <a:ext cx="763272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|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4221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2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随机变量的函数的分布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3 (P99-102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71640" y="2060640"/>
                <a:ext cx="2592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2708280"/>
                <a:ext cx="3960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27280" y="3357720"/>
                <a:ext cx="33847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39640" y="1557360"/>
            <a:ext cx="81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独立的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随机变量，其联合密度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做变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284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逆变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71640" y="3716280"/>
                <a:ext cx="59767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47640" y="5445000"/>
                <a:ext cx="32403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2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随机变量的函数的分布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3 (P99-102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763640" y="3284640"/>
                <a:ext cx="46180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5013360"/>
                <a:ext cx="3240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1844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276640"/>
            <a:ext cx="763272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|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6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3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条件数学期望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Conditional Expection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56000" y="3716280"/>
                <a:ext cx="3600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p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39640" y="1557360"/>
            <a:ext cx="8136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给定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条件分布为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Y|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|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=∫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Y|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|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给定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件期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如果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取值没有事先给定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是随机变量， 是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函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716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离散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450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连续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157720"/>
            <a:ext cx="71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函数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条件期望为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]=∫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d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Y|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|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411280" y="4508640"/>
                <a:ext cx="36007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f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3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条件数学期望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Conditional Expection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   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4    P147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79640" y="3284640"/>
                <a:ext cx="48960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pλ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pλ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λ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λ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68360" y="1844640"/>
            <a:ext cx="8136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间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si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程平均发生次数为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间发生的总次数，对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&lt;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间发生的次数，求给定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条件分布和条件期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3500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5300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条件期望为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908000" y="4221000"/>
                <a:ext cx="5543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3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条件数学期望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Conditional Expection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     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5  P148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71640" y="2205000"/>
                <a:ext cx="62643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σ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σ</m:t>
                                            </m:r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932360" y="3573360"/>
                <a:ext cx="21607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ρ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68360" y="1557360"/>
            <a:ext cx="81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二维联合正态分布，由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3789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给定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条件期望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00000" y="4581360"/>
            <a:ext cx="5545080" cy="471600"/>
            <a:chOff x="900000" y="4581360"/>
            <a:chExt cx="5545080" cy="471600"/>
          </a:xfrm>
        </p:grpSpPr>
        <p:sp>
          <p:nvSpPr>
            <p:cNvPr id="126" name=""/>
            <p:cNvSpPr/>
            <p:nvPr/>
          </p:nvSpPr>
          <p:spPr>
            <a:xfrm>
              <a:off x="900000" y="4654080"/>
              <a:ext cx="554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问题                        是什么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620720" y="4581360"/>
                  <a:ext cx="136692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ρ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3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条件数学期望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Conditional Expectation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      全期望公式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Law of total expectation)  P149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692360" y="1773360"/>
                <a:ext cx="27367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763640" y="2421000"/>
                <a:ext cx="3167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68360" y="2421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离散型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306864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证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47640" y="3141720"/>
                <a:ext cx="266724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P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y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大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47640" y="2421000"/>
            <a:ext cx="5708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概率分布与分布的特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1.2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常见的统计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1.3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样本与抽样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3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条件数学期望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Conditional Expection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            随机和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(Random Sums)    P150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276720" y="1628640"/>
                <a:ext cx="1152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43280" y="2997360"/>
                <a:ext cx="345600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24000" y="2349360"/>
            <a:ext cx="835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与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互独立的随机变量，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相同的期望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835280" y="4221000"/>
                <a:ext cx="496872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95280" y="3645000"/>
            <a:ext cx="71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相同的方差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3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条件数学期望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Conditional Expection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            方差公式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P151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763640" y="1773360"/>
                <a:ext cx="4969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68360" y="2276640"/>
            <a:ext cx="100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证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71640" y="2276640"/>
                <a:ext cx="784836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[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[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200"/>
            </a:b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1.1.4  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矩母函数（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Moment-generating function)  P155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700360" y="1700280"/>
                <a:ext cx="3887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sup>
                        </m:sSup>
                        <m:r>
                          <m:t xml:space="preserve">d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11280" y="4005360"/>
            <a:ext cx="806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一个分布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矩母函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包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一个开区间内存在，则两者是相互惟一确定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95640" y="2421000"/>
                <a:ext cx="38890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离散型：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tx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连续型：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tx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200"/>
            </a:b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1.1.4  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矩母函数（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mgf, Moment-generating function)  P155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059280" y="3933720"/>
                <a:ext cx="20872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39640" y="1916280"/>
            <a:ext cx="770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一个分布函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矩母函数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包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一个开区间内存在，则两者是相互惟一确定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3141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一个矩母函数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包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一个开区间内存在，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200"/>
            </a:b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1.1.4  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矩母函数（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Moment-generating function)  P155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340000" y="2349360"/>
                <a:ext cx="3744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39640" y="1700280"/>
            <a:ext cx="518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141720"/>
            <a:ext cx="7272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独立随机变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+Y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11280" y="3933720"/>
                <a:ext cx="4032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200"/>
            </a:b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1.1.4  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矩母函数（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Moment-generating function)  P155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557360"/>
            <a:ext cx="331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见分布的矩母函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205000"/>
          <a:ext cx="7416720" cy="426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205000"/>
                    <a:ext cx="7416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133720"/>
            <a:ext cx="25210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2.1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2.2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2.3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2.3  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2.4  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635280" y="1773360"/>
            <a:ext cx="5256360" cy="3881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3600"/>
            </a:b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2.1  </a:t>
            </a:r>
            <a:r>
              <a:rPr b="1" lang="zh-CN" sz="2800" spc="-1" strike="noStrike">
                <a:solidFill>
                  <a:srgbClr val="ffff99"/>
                </a:solidFill>
                <a:latin typeface="Symbol"/>
                <a:ea typeface="Symbol"/>
              </a:rPr>
              <a:t>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分布和</a:t>
            </a:r>
            <a:r>
              <a:rPr b="1" lang="zh-CN" sz="28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分布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P53  P192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700280"/>
            <a:ext cx="37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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伽玛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的概率密度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4000" y="2205000"/>
                <a:ext cx="3527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68360" y="3357720"/>
            <a:ext cx="3311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中参数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为形状参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hape pramet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数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为规模参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cale pramet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1  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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和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00000" y="1916280"/>
            <a:ext cx="6337080" cy="555480"/>
            <a:chOff x="900000" y="1916280"/>
            <a:chExt cx="6337080" cy="555480"/>
          </a:xfrm>
        </p:grpSpPr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1765080" y="1916280"/>
                  <a:ext cx="194328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α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74" name=""/>
            <p:cNvSpPr/>
            <p:nvPr/>
          </p:nvSpPr>
          <p:spPr>
            <a:xfrm>
              <a:off x="900000" y="1916280"/>
              <a:ext cx="6337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6000"/>
            </a:bodyPr>
            <a:p>
              <a:pPr marL="157680" indent="-1576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其中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函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157680" indent="-1576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6836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42920" y="2565360"/>
                <a:ext cx="4608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αΓ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!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92360" y="3860640"/>
                <a:ext cx="5256000" cy="15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  <m:r>
                              <m:t xml:space="preserve">α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1  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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和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989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的矩母函数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700360" y="2637000"/>
                <a:ext cx="22320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11280" y="378936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可加性。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,2,…,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相互独立，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411280" y="4581360"/>
                <a:ext cx="25923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4000"/>
            </a:b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(Probability distributions and distribution characteristics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133720"/>
            <a:ext cx="568836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1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1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机变量函数的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1.3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件数学期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1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矩母函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1  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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和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19280" y="3500280"/>
                <a:ext cx="1512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43280" y="4365720"/>
                <a:ext cx="1052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763640" y="4941720"/>
                <a:ext cx="48243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95280" y="1700280"/>
            <a:ext cx="849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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反之，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/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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997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当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就是指数分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3645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的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称为自由度为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卡方分布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03120" y="438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记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1  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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和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771640" y="2565360"/>
                <a:ext cx="18003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39640" y="1989000"/>
            <a:ext cx="518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~N(0,1)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3500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明：只须证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987640" y="3357720"/>
                <a:ext cx="20160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Γ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5219640" y="357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再根据可加性即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508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独立同分布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dependent identical distribu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3600"/>
            </a:b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2.2  </a:t>
            </a:r>
            <a:r>
              <a:rPr b="1" lang="zh-CN" sz="2800" spc="-1" strike="noStrike">
                <a:solidFill>
                  <a:srgbClr val="ffff99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分布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P58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700280"/>
            <a:ext cx="37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的概率密度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19280" y="2276640"/>
                <a:ext cx="41050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79280" y="3141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参数，当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a=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就是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就是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7993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2.2  </a:t>
            </a:r>
            <a:r>
              <a:rPr b="1" lang="zh-CN" sz="2800" spc="-1" strike="noStrike">
                <a:solidFill>
                  <a:srgbClr val="ffff99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00000" y="1989000"/>
                <a:ext cx="3743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716360" y="2060640"/>
            <a:ext cx="13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28526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403280" y="2781360"/>
                <a:ext cx="5784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68360" y="4292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设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互独立，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124000" y="4869000"/>
                <a:ext cx="2100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3  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P193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635280" y="3500280"/>
                <a:ext cx="194472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03280" y="2133720"/>
                <a:ext cx="11304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79640" y="4869000"/>
                <a:ext cx="48243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140360" y="1557360"/>
                <a:ext cx="11761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68360" y="285264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性质：当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1666800"/>
            <a:ext cx="79930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i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~N(0,1)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则称                 为自由度为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卡方分布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记做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443700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于是得</a:t>
            </a:r>
            <a:r>
              <a:rPr b="0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密度函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556000" y="2708280"/>
                <a:ext cx="1512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Γ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116000" y="3645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根据可加性即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6093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i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独立同分布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dependent identical distribu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792612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由阿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be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年首先给出，后来由海尔墨特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mert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和卡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皮尔逊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·Pearson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分别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年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年推导出来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期望为：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，方差为：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3  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900000" y="3357720"/>
            <a:ext cx="3048120" cy="2697120"/>
            <a:chOff x="900000" y="3357720"/>
            <a:chExt cx="3048120" cy="2697120"/>
          </a:xfrm>
        </p:grpSpPr>
        <p:sp>
          <p:nvSpPr>
            <p:cNvPr id="228" name=""/>
            <p:cNvSpPr/>
            <p:nvPr/>
          </p:nvSpPr>
          <p:spPr>
            <a:xfrm>
              <a:off x="1387440" y="5780160"/>
              <a:ext cx="1326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不同自由度的卡方分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74800" y="5491080"/>
              <a:ext cx="267480" cy="38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</a:t>
              </a:r>
              <a:r>
                <a:rPr b="1" lang="en-US" sz="25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900000" y="3357720"/>
              <a:ext cx="3048120" cy="2117160"/>
              <a:chOff x="900000" y="3357720"/>
              <a:chExt cx="3048120" cy="2117160"/>
            </a:xfrm>
          </p:grpSpPr>
          <p:sp>
            <p:nvSpPr>
              <p:cNvPr id="231" name=""/>
              <p:cNvSpPr/>
              <p:nvPr/>
            </p:nvSpPr>
            <p:spPr>
              <a:xfrm>
                <a:off x="938160" y="3357720"/>
                <a:ext cx="3009960" cy="2088720"/>
              </a:xfrm>
              <a:custGeom>
                <a:avLst/>
                <a:gdLst/>
                <a:ahLst/>
                <a:rect l="l" t="t" r="r" b="b"/>
                <a:pathLst>
                  <a:path w="1708" h="696">
                    <a:moveTo>
                      <a:pt x="0" y="0"/>
                    </a:moveTo>
                    <a:lnTo>
                      <a:pt x="0" y="696"/>
                    </a:lnTo>
                    <a:lnTo>
                      <a:pt x="1708" y="696"/>
                    </a:lnTo>
                  </a:path>
                </a:pathLst>
              </a:custGeom>
              <a:noFill/>
              <a:ln w="302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  <a:effectLst>
                <a:outerShdw dist="17819" dir="2700000" blurRad="0" rotWithShape="0">
                  <a:srgbClr val="5c1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00000" y="3636720"/>
                <a:ext cx="38160" cy="1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00000" y="3835080"/>
                <a:ext cx="3816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900000" y="4038480"/>
                <a:ext cx="3816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900000" y="4240080"/>
                <a:ext cx="3816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900000" y="4439880"/>
                <a:ext cx="3816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00000" y="4641480"/>
                <a:ext cx="3816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00000" y="4848120"/>
                <a:ext cx="3816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00000" y="5045040"/>
                <a:ext cx="38160" cy="10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900000" y="5246640"/>
                <a:ext cx="38160" cy="252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6544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7348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97972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8920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9868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10492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1296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2244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2868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000080" y="4225680"/>
                <a:ext cx="2880720" cy="1061280"/>
                <a:chOff x="1000080" y="4225680"/>
                <a:chExt cx="2880720" cy="10612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500480" y="4225680"/>
                  <a:ext cx="2380320" cy="1061280"/>
                </a:xfrm>
                <a:custGeom>
                  <a:avLst/>
                  <a:gdLst/>
                  <a:ahLst/>
                  <a:rect l="l" t="t" r="r" b="b"/>
                  <a:pathLst>
                    <a:path w="1393" h="366">
                      <a:moveTo>
                        <a:pt x="1393" y="366"/>
                      </a:moveTo>
                      <a:lnTo>
                        <a:pt x="1247" y="362"/>
                      </a:lnTo>
                      <a:lnTo>
                        <a:pt x="1174" y="358"/>
                      </a:lnTo>
                      <a:lnTo>
                        <a:pt x="1100" y="352"/>
                      </a:lnTo>
                      <a:lnTo>
                        <a:pt x="1027" y="344"/>
                      </a:lnTo>
                      <a:lnTo>
                        <a:pt x="953" y="333"/>
                      </a:lnTo>
                      <a:lnTo>
                        <a:pt x="881" y="317"/>
                      </a:lnTo>
                      <a:lnTo>
                        <a:pt x="734" y="274"/>
                      </a:lnTo>
                      <a:lnTo>
                        <a:pt x="587" y="215"/>
                      </a:lnTo>
                      <a:lnTo>
                        <a:pt x="440" y="143"/>
                      </a:lnTo>
                      <a:lnTo>
                        <a:pt x="366" y="106"/>
                      </a:lnTo>
                      <a:lnTo>
                        <a:pt x="294" y="73"/>
                      </a:lnTo>
                      <a:lnTo>
                        <a:pt x="219" y="43"/>
                      </a:lnTo>
                      <a:lnTo>
                        <a:pt x="147" y="20"/>
                      </a:lnTo>
                      <a:lnTo>
                        <a:pt x="73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000080" y="4225680"/>
                  <a:ext cx="500400" cy="1061280"/>
                </a:xfrm>
                <a:custGeom>
                  <a:avLst/>
                  <a:gdLst/>
                  <a:ahLst/>
                  <a:rect l="l" t="t" r="r" b="b"/>
                  <a:pathLst>
                    <a:path w="293" h="366">
                      <a:moveTo>
                        <a:pt x="0" y="366"/>
                      </a:moveTo>
                      <a:lnTo>
                        <a:pt x="31" y="362"/>
                      </a:lnTo>
                      <a:lnTo>
                        <a:pt x="47" y="358"/>
                      </a:lnTo>
                      <a:lnTo>
                        <a:pt x="60" y="352"/>
                      </a:lnTo>
                      <a:lnTo>
                        <a:pt x="76" y="344"/>
                      </a:lnTo>
                      <a:lnTo>
                        <a:pt x="92" y="333"/>
                      </a:lnTo>
                      <a:lnTo>
                        <a:pt x="107" y="317"/>
                      </a:lnTo>
                      <a:lnTo>
                        <a:pt x="139" y="274"/>
                      </a:lnTo>
                      <a:lnTo>
                        <a:pt x="170" y="215"/>
                      </a:lnTo>
                      <a:lnTo>
                        <a:pt x="201" y="143"/>
                      </a:lnTo>
                      <a:lnTo>
                        <a:pt x="215" y="106"/>
                      </a:lnTo>
                      <a:lnTo>
                        <a:pt x="231" y="73"/>
                      </a:lnTo>
                      <a:lnTo>
                        <a:pt x="246" y="43"/>
                      </a:lnTo>
                      <a:lnTo>
                        <a:pt x="262" y="20"/>
                      </a:lnTo>
                      <a:lnTo>
                        <a:pt x="278" y="4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1245960" y="3949560"/>
                <a:ext cx="1131480" cy="1431000"/>
                <a:chOff x="1245960" y="3949560"/>
                <a:chExt cx="1131480" cy="14310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410120" y="3949560"/>
                  <a:ext cx="967320" cy="1431000"/>
                </a:xfrm>
                <a:custGeom>
                  <a:avLst/>
                  <a:gdLst/>
                  <a:ahLst/>
                  <a:rect l="l" t="t" r="r" b="b"/>
                  <a:pathLst>
                    <a:path w="566" h="495">
                      <a:moveTo>
                        <a:pt x="566" y="495"/>
                      </a:moveTo>
                      <a:lnTo>
                        <a:pt x="505" y="489"/>
                      </a:lnTo>
                      <a:lnTo>
                        <a:pt x="476" y="483"/>
                      </a:lnTo>
                      <a:lnTo>
                        <a:pt x="446" y="475"/>
                      </a:lnTo>
                      <a:lnTo>
                        <a:pt x="417" y="466"/>
                      </a:lnTo>
                      <a:lnTo>
                        <a:pt x="386" y="450"/>
                      </a:lnTo>
                      <a:lnTo>
                        <a:pt x="356" y="428"/>
                      </a:lnTo>
                      <a:lnTo>
                        <a:pt x="298" y="372"/>
                      </a:lnTo>
                      <a:lnTo>
                        <a:pt x="237" y="292"/>
                      </a:lnTo>
                      <a:lnTo>
                        <a:pt x="178" y="194"/>
                      </a:lnTo>
                      <a:lnTo>
                        <a:pt x="149" y="145"/>
                      </a:lnTo>
                      <a:lnTo>
                        <a:pt x="118" y="98"/>
                      </a:lnTo>
                      <a:lnTo>
                        <a:pt x="88" y="59"/>
                      </a:lnTo>
                      <a:lnTo>
                        <a:pt x="59" y="28"/>
                      </a:lnTo>
                      <a:lnTo>
                        <a:pt x="3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ff99"/>
                  </a:solidFill>
                  <a:round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245960" y="3949560"/>
                  <a:ext cx="164160" cy="1431000"/>
                </a:xfrm>
                <a:custGeom>
                  <a:avLst/>
                  <a:gdLst/>
                  <a:ahLst/>
                  <a:rect l="l" t="t" r="r" b="b"/>
                  <a:pathLst>
                    <a:path w="96" h="495">
                      <a:moveTo>
                        <a:pt x="0" y="495"/>
                      </a:moveTo>
                      <a:lnTo>
                        <a:pt x="10" y="489"/>
                      </a:lnTo>
                      <a:lnTo>
                        <a:pt x="16" y="483"/>
                      </a:lnTo>
                      <a:lnTo>
                        <a:pt x="20" y="475"/>
                      </a:lnTo>
                      <a:lnTo>
                        <a:pt x="26" y="466"/>
                      </a:lnTo>
                      <a:lnTo>
                        <a:pt x="30" y="450"/>
                      </a:lnTo>
                      <a:lnTo>
                        <a:pt x="36" y="428"/>
                      </a:lnTo>
                      <a:lnTo>
                        <a:pt x="45" y="372"/>
                      </a:lnTo>
                      <a:lnTo>
                        <a:pt x="55" y="292"/>
                      </a:lnTo>
                      <a:lnTo>
                        <a:pt x="65" y="194"/>
                      </a:lnTo>
                      <a:lnTo>
                        <a:pt x="71" y="145"/>
                      </a:lnTo>
                      <a:lnTo>
                        <a:pt x="75" y="98"/>
                      </a:lnTo>
                      <a:lnTo>
                        <a:pt x="81" y="59"/>
                      </a:lnTo>
                      <a:lnTo>
                        <a:pt x="86" y="28"/>
                      </a:lnTo>
                      <a:lnTo>
                        <a:pt x="90" y="8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38160">
                  <a:solidFill>
                    <a:srgbClr val="ffff99"/>
                  </a:solidFill>
                  <a:round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1000080" y="3530520"/>
                <a:ext cx="2535120" cy="1801440"/>
              </a:xfrm>
              <a:custGeom>
                <a:avLst/>
                <a:gdLst/>
                <a:ahLst/>
                <a:rect l="l" t="t" r="r" b="b"/>
                <a:pathLst>
                  <a:path w="1483" h="622">
                    <a:moveTo>
                      <a:pt x="0" y="0"/>
                    </a:moveTo>
                    <a:lnTo>
                      <a:pt x="4" y="39"/>
                    </a:lnTo>
                    <a:lnTo>
                      <a:pt x="14" y="80"/>
                    </a:lnTo>
                    <a:lnTo>
                      <a:pt x="34" y="119"/>
                    </a:lnTo>
                    <a:lnTo>
                      <a:pt x="57" y="159"/>
                    </a:lnTo>
                    <a:lnTo>
                      <a:pt x="90" y="198"/>
                    </a:lnTo>
                    <a:lnTo>
                      <a:pt x="129" y="235"/>
                    </a:lnTo>
                    <a:lnTo>
                      <a:pt x="174" y="272"/>
                    </a:lnTo>
                    <a:lnTo>
                      <a:pt x="227" y="309"/>
                    </a:lnTo>
                    <a:lnTo>
                      <a:pt x="286" y="342"/>
                    </a:lnTo>
                    <a:lnTo>
                      <a:pt x="350" y="376"/>
                    </a:lnTo>
                    <a:lnTo>
                      <a:pt x="421" y="407"/>
                    </a:lnTo>
                    <a:lnTo>
                      <a:pt x="497" y="438"/>
                    </a:lnTo>
                    <a:lnTo>
                      <a:pt x="577" y="466"/>
                    </a:lnTo>
                    <a:lnTo>
                      <a:pt x="664" y="491"/>
                    </a:lnTo>
                    <a:lnTo>
                      <a:pt x="756" y="516"/>
                    </a:lnTo>
                    <a:lnTo>
                      <a:pt x="849" y="538"/>
                    </a:lnTo>
                    <a:lnTo>
                      <a:pt x="947" y="557"/>
                    </a:lnTo>
                    <a:lnTo>
                      <a:pt x="1051" y="575"/>
                    </a:lnTo>
                    <a:lnTo>
                      <a:pt x="1155" y="591"/>
                    </a:lnTo>
                    <a:lnTo>
                      <a:pt x="1262" y="604"/>
                    </a:lnTo>
                    <a:lnTo>
                      <a:pt x="1372" y="614"/>
                    </a:lnTo>
                    <a:lnTo>
                      <a:pt x="1483" y="622"/>
                    </a:lnTo>
                  </a:path>
                </a:pathLst>
              </a:custGeom>
              <a:noFill/>
              <a:ln w="38160">
                <a:solidFill>
                  <a:srgbClr val="ffff9b"/>
                </a:solidFill>
                <a:round/>
              </a:ln>
              <a:effectLst>
                <a:outerShdw dist="45929" dir="3371122" blurRad="0" rotWithShape="0">
                  <a:srgbClr val="5c1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164960" y="4484520"/>
                <a:ext cx="2549160" cy="807480"/>
                <a:chOff x="1164960" y="4484520"/>
                <a:chExt cx="2549160" cy="807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437920" y="4484520"/>
                  <a:ext cx="1276200" cy="807480"/>
                </a:xfrm>
                <a:custGeom>
                  <a:avLst/>
                  <a:gdLst/>
                  <a:ahLst/>
                  <a:rect l="l" t="t" r="r" b="b"/>
                  <a:pathLst>
                    <a:path w="747" h="717">
                      <a:moveTo>
                        <a:pt x="747" y="717"/>
                      </a:moveTo>
                      <a:lnTo>
                        <a:pt x="668" y="709"/>
                      </a:lnTo>
                      <a:lnTo>
                        <a:pt x="630" y="700"/>
                      </a:lnTo>
                      <a:lnTo>
                        <a:pt x="590" y="689"/>
                      </a:lnTo>
                      <a:lnTo>
                        <a:pt x="550" y="672"/>
                      </a:lnTo>
                      <a:lnTo>
                        <a:pt x="512" y="649"/>
                      </a:lnTo>
                      <a:lnTo>
                        <a:pt x="472" y="620"/>
                      </a:lnTo>
                      <a:lnTo>
                        <a:pt x="394" y="538"/>
                      </a:lnTo>
                      <a:lnTo>
                        <a:pt x="316" y="420"/>
                      </a:lnTo>
                      <a:lnTo>
                        <a:pt x="236" y="280"/>
                      </a:lnTo>
                      <a:lnTo>
                        <a:pt x="196" y="208"/>
                      </a:lnTo>
                      <a:lnTo>
                        <a:pt x="158" y="142"/>
                      </a:lnTo>
                      <a:lnTo>
                        <a:pt x="118" y="84"/>
                      </a:lnTo>
                      <a:lnTo>
                        <a:pt x="80" y="38"/>
                      </a:lnTo>
                      <a:lnTo>
                        <a:pt x="4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64960" y="4484520"/>
                  <a:ext cx="1272960" cy="807480"/>
                </a:xfrm>
                <a:custGeom>
                  <a:avLst/>
                  <a:gdLst/>
                  <a:ahLst/>
                  <a:rect l="l" t="t" r="r" b="b"/>
                  <a:pathLst>
                    <a:path w="745" h="717">
                      <a:moveTo>
                        <a:pt x="0" y="717"/>
                      </a:moveTo>
                      <a:lnTo>
                        <a:pt x="78" y="709"/>
                      </a:lnTo>
                      <a:lnTo>
                        <a:pt x="118" y="700"/>
                      </a:lnTo>
                      <a:lnTo>
                        <a:pt x="156" y="689"/>
                      </a:lnTo>
                      <a:lnTo>
                        <a:pt x="196" y="672"/>
                      </a:lnTo>
                      <a:lnTo>
                        <a:pt x="236" y="649"/>
                      </a:lnTo>
                      <a:lnTo>
                        <a:pt x="274" y="620"/>
                      </a:lnTo>
                      <a:lnTo>
                        <a:pt x="354" y="538"/>
                      </a:lnTo>
                      <a:lnTo>
                        <a:pt x="432" y="420"/>
                      </a:lnTo>
                      <a:lnTo>
                        <a:pt x="510" y="280"/>
                      </a:lnTo>
                      <a:lnTo>
                        <a:pt x="550" y="208"/>
                      </a:lnTo>
                      <a:lnTo>
                        <a:pt x="589" y="142"/>
                      </a:lnTo>
                      <a:lnTo>
                        <a:pt x="628" y="84"/>
                      </a:lnTo>
                      <a:lnTo>
                        <a:pt x="667" y="38"/>
                      </a:lnTo>
                      <a:lnTo>
                        <a:pt x="707" y="9"/>
                      </a:lnTo>
                      <a:lnTo>
                        <a:pt x="745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1128600" y="3446280"/>
                <a:ext cx="531720" cy="331560"/>
              </a:xfrm>
              <a:prstGeom prst="wedgeRoundRectCallout">
                <a:avLst>
                  <a:gd name="adj1" fmla="val -50000"/>
                  <a:gd name="adj2" fmla="val 80148"/>
                  <a:gd name="adj3" fmla="val 16667"/>
                </a:avLst>
              </a:prstGeom>
              <a:noFill/>
              <a:ln w="1260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=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90720" y="3705120"/>
                <a:ext cx="533160" cy="331560"/>
              </a:xfrm>
              <a:prstGeom prst="wedgeRoundRectCallout">
                <a:avLst>
                  <a:gd name="adj1" fmla="val -107083"/>
                  <a:gd name="adj2" fmla="val 41754"/>
                  <a:gd name="adj3" fmla="val 16667"/>
                </a:avLst>
              </a:prstGeom>
              <a:noFill/>
              <a:ln w="1260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=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77960" y="3887640"/>
                <a:ext cx="684360" cy="331560"/>
              </a:xfrm>
              <a:prstGeom prst="wedgeRoundRectCallout">
                <a:avLst>
                  <a:gd name="adj1" fmla="val -116560"/>
                  <a:gd name="adj2" fmla="val 96851"/>
                  <a:gd name="adj3" fmla="val 16667"/>
                </a:avLst>
              </a:prstGeom>
              <a:noFill/>
              <a:ln w="1260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=1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09680" y="4398840"/>
                <a:ext cx="685800" cy="331560"/>
              </a:xfrm>
              <a:prstGeom prst="wedgeRoundRectCallout">
                <a:avLst>
                  <a:gd name="adj1" fmla="val -61328"/>
                  <a:gd name="adj2" fmla="val 95657"/>
                  <a:gd name="adj3" fmla="val 16667"/>
                </a:avLst>
              </a:prstGeom>
              <a:noFill/>
              <a:ln w="1260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=2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4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2.4   </a:t>
            </a:r>
            <a:r>
              <a:rPr b="1" i="1" lang="zh-CN" sz="3600" spc="-1" strike="noStrike">
                <a:solidFill>
                  <a:srgbClr val="ffff99"/>
                </a:solidFill>
                <a:latin typeface="Times New Roman"/>
              </a:rPr>
              <a:t>t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分布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P193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设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0,1),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，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258920" y="2205000"/>
                <a:ext cx="12970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752720" cy="33192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68360" y="3068640"/>
            <a:ext cx="34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为自由度为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布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记为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84360" y="4005360"/>
                <a:ext cx="22320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 algn="just">
              <a:spcBef>
                <a:spcPts val="19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由统计学家费舍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.A.Fisher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提出的，以其姓氏的第一个字母来命名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19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设若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为服从自由度为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分布，即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zh-CN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为服从自由度为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分布，即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相互独立，则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4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为服从自由度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分布，记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5   </a:t>
            </a:r>
            <a:r>
              <a:rPr b="1" i="1" lang="zh-CN" sz="32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P194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132000" y="4437000"/>
                <a:ext cx="13687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724360" y="5373720"/>
                <a:ext cx="1800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5   </a:t>
            </a:r>
            <a:r>
              <a:rPr b="1" i="1" lang="zh-CN" sz="32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5300640"/>
            <a:ext cx="34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同自由度的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788000" y="3068640"/>
            <a:ext cx="3884400" cy="2184480"/>
            <a:chOff x="4788000" y="3068640"/>
            <a:chExt cx="3884400" cy="2184480"/>
          </a:xfrm>
        </p:grpSpPr>
        <p:sp>
          <p:nvSpPr>
            <p:cNvPr id="277" name=""/>
            <p:cNvSpPr/>
            <p:nvPr/>
          </p:nvSpPr>
          <p:spPr>
            <a:xfrm>
              <a:off x="8478000" y="4871880"/>
              <a:ext cx="194400" cy="38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292929"/>
                  </a:solidFill>
                  <a:latin typeface="Arial"/>
                </a:rPr>
                <a:t>F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39840" y="3068640"/>
              <a:ext cx="3545280" cy="1958040"/>
            </a:xfrm>
            <a:custGeom>
              <a:avLst/>
              <a:gdLst/>
              <a:ahLst/>
              <a:rect l="l" t="t" r="r" b="b"/>
              <a:pathLst>
                <a:path w="1708" h="696">
                  <a:moveTo>
                    <a:pt x="0" y="0"/>
                  </a:moveTo>
                  <a:lnTo>
                    <a:pt x="0" y="696"/>
                  </a:lnTo>
                  <a:lnTo>
                    <a:pt x="1708" y="696"/>
                  </a:lnTo>
                </a:path>
              </a:pathLst>
            </a:custGeom>
            <a:noFill/>
            <a:ln w="39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520960" y="4976280"/>
              <a:ext cx="2749320" cy="27000"/>
              <a:chOff x="5520960" y="4976280"/>
              <a:chExt cx="2749320" cy="27000"/>
            </a:xfrm>
          </p:grpSpPr>
          <p:sp>
            <p:nvSpPr>
              <p:cNvPr id="280" name=""/>
              <p:cNvSpPr/>
              <p:nvPr/>
            </p:nvSpPr>
            <p:spPr>
              <a:xfrm>
                <a:off x="826884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2648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8268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3672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9472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5272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20676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296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52096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4788000" y="3159360"/>
              <a:ext cx="387360" cy="1843920"/>
              <a:chOff x="4788000" y="3159360"/>
              <a:chExt cx="387360" cy="1843920"/>
            </a:xfrm>
          </p:grpSpPr>
          <p:sp>
            <p:nvSpPr>
              <p:cNvPr id="290" name=""/>
              <p:cNvSpPr/>
              <p:nvPr/>
            </p:nvSpPr>
            <p:spPr>
              <a:xfrm>
                <a:off x="4788000" y="3159360"/>
                <a:ext cx="4464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88000" y="3341520"/>
                <a:ext cx="4464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88000" y="3522240"/>
                <a:ext cx="44640" cy="252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88000" y="3705840"/>
                <a:ext cx="44640" cy="10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88000" y="3888000"/>
                <a:ext cx="44640" cy="252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88000" y="4068720"/>
                <a:ext cx="44640" cy="10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88000" y="4250880"/>
                <a:ext cx="4464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88000" y="4435920"/>
                <a:ext cx="4464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88000" y="4613760"/>
                <a:ext cx="4464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88000" y="4797360"/>
                <a:ext cx="44640" cy="1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73920" y="4976640"/>
                <a:ext cx="1440" cy="266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878720" y="3942000"/>
              <a:ext cx="3391200" cy="957600"/>
              <a:chOff x="4878720" y="3942000"/>
              <a:chExt cx="3391200" cy="957600"/>
            </a:xfrm>
          </p:grpSpPr>
          <p:sp>
            <p:nvSpPr>
              <p:cNvPr id="302" name=""/>
              <p:cNvSpPr/>
              <p:nvPr/>
            </p:nvSpPr>
            <p:spPr>
              <a:xfrm>
                <a:off x="5468040" y="3942000"/>
                <a:ext cx="2801880" cy="957600"/>
              </a:xfrm>
              <a:custGeom>
                <a:avLst/>
                <a:gdLst/>
                <a:ahLst/>
                <a:rect l="l" t="t" r="r" b="b"/>
                <a:pathLst>
                  <a:path w="1393" h="366">
                    <a:moveTo>
                      <a:pt x="1393" y="366"/>
                    </a:moveTo>
                    <a:lnTo>
                      <a:pt x="1247" y="362"/>
                    </a:lnTo>
                    <a:lnTo>
                      <a:pt x="1174" y="358"/>
                    </a:lnTo>
                    <a:lnTo>
                      <a:pt x="1100" y="352"/>
                    </a:lnTo>
                    <a:lnTo>
                      <a:pt x="1027" y="344"/>
                    </a:lnTo>
                    <a:lnTo>
                      <a:pt x="953" y="333"/>
                    </a:lnTo>
                    <a:lnTo>
                      <a:pt x="881" y="317"/>
                    </a:lnTo>
                    <a:lnTo>
                      <a:pt x="734" y="274"/>
                    </a:lnTo>
                    <a:lnTo>
                      <a:pt x="587" y="215"/>
                    </a:lnTo>
                    <a:lnTo>
                      <a:pt x="440" y="143"/>
                    </a:lnTo>
                    <a:lnTo>
                      <a:pt x="366" y="106"/>
                    </a:lnTo>
                    <a:lnTo>
                      <a:pt x="294" y="73"/>
                    </a:lnTo>
                    <a:lnTo>
                      <a:pt x="219" y="43"/>
                    </a:lnTo>
                    <a:lnTo>
                      <a:pt x="147" y="20"/>
                    </a:lnTo>
                    <a:lnTo>
                      <a:pt x="73" y="4"/>
                    </a:lnTo>
                    <a:lnTo>
                      <a:pt x="0" y="0"/>
                    </a:lnTo>
                  </a:path>
                </a:pathLst>
              </a:custGeom>
              <a:noFill/>
              <a:ln w="57240">
                <a:solidFill>
                  <a:srgbClr val="ff00ff"/>
                </a:solidFill>
                <a:round/>
              </a:ln>
              <a:effectLst>
                <a:outerShdw dist="17819" dir="2700000" blurRad="0" rotWithShape="0">
                  <a:srgbClr val="5c1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78720" y="3942000"/>
                <a:ext cx="589320" cy="957600"/>
              </a:xfrm>
              <a:custGeom>
                <a:avLst/>
                <a:gdLst/>
                <a:ahLst/>
                <a:rect l="l" t="t" r="r" b="b"/>
                <a:pathLst>
                  <a:path w="293" h="366">
                    <a:moveTo>
                      <a:pt x="0" y="366"/>
                    </a:moveTo>
                    <a:lnTo>
                      <a:pt x="31" y="362"/>
                    </a:lnTo>
                    <a:lnTo>
                      <a:pt x="47" y="358"/>
                    </a:lnTo>
                    <a:lnTo>
                      <a:pt x="60" y="352"/>
                    </a:lnTo>
                    <a:lnTo>
                      <a:pt x="76" y="344"/>
                    </a:lnTo>
                    <a:lnTo>
                      <a:pt x="92" y="333"/>
                    </a:lnTo>
                    <a:lnTo>
                      <a:pt x="107" y="317"/>
                    </a:lnTo>
                    <a:lnTo>
                      <a:pt x="139" y="274"/>
                    </a:lnTo>
                    <a:lnTo>
                      <a:pt x="170" y="215"/>
                    </a:lnTo>
                    <a:lnTo>
                      <a:pt x="201" y="143"/>
                    </a:lnTo>
                    <a:lnTo>
                      <a:pt x="215" y="106"/>
                    </a:lnTo>
                    <a:lnTo>
                      <a:pt x="231" y="73"/>
                    </a:lnTo>
                    <a:lnTo>
                      <a:pt x="246" y="43"/>
                    </a:lnTo>
                    <a:lnTo>
                      <a:pt x="262" y="20"/>
                    </a:lnTo>
                    <a:lnTo>
                      <a:pt x="278" y="4"/>
                    </a:lnTo>
                    <a:lnTo>
                      <a:pt x="293" y="0"/>
                    </a:lnTo>
                  </a:path>
                </a:pathLst>
              </a:custGeom>
              <a:noFill/>
              <a:ln w="57240">
                <a:solidFill>
                  <a:srgbClr val="ff00ff"/>
                </a:solidFill>
                <a:round/>
              </a:ln>
              <a:effectLst>
                <a:outerShdw dist="17819" dir="2700000" blurRad="0" rotWithShape="0">
                  <a:srgbClr val="5c1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4878720" y="3317040"/>
              <a:ext cx="2984400" cy="1625760"/>
            </a:xfrm>
            <a:custGeom>
              <a:avLst/>
              <a:gdLst/>
              <a:ahLst/>
              <a:rect l="l" t="t" r="r" b="b"/>
              <a:pathLst>
                <a:path w="1483" h="622">
                  <a:moveTo>
                    <a:pt x="0" y="0"/>
                  </a:moveTo>
                  <a:lnTo>
                    <a:pt x="4" y="39"/>
                  </a:lnTo>
                  <a:lnTo>
                    <a:pt x="14" y="80"/>
                  </a:lnTo>
                  <a:lnTo>
                    <a:pt x="34" y="119"/>
                  </a:lnTo>
                  <a:lnTo>
                    <a:pt x="57" y="159"/>
                  </a:lnTo>
                  <a:lnTo>
                    <a:pt x="90" y="198"/>
                  </a:lnTo>
                  <a:lnTo>
                    <a:pt x="129" y="235"/>
                  </a:lnTo>
                  <a:lnTo>
                    <a:pt x="174" y="272"/>
                  </a:lnTo>
                  <a:lnTo>
                    <a:pt x="227" y="309"/>
                  </a:lnTo>
                  <a:lnTo>
                    <a:pt x="286" y="342"/>
                  </a:lnTo>
                  <a:lnTo>
                    <a:pt x="350" y="376"/>
                  </a:lnTo>
                  <a:lnTo>
                    <a:pt x="421" y="407"/>
                  </a:lnTo>
                  <a:lnTo>
                    <a:pt x="497" y="438"/>
                  </a:lnTo>
                  <a:lnTo>
                    <a:pt x="577" y="466"/>
                  </a:lnTo>
                  <a:lnTo>
                    <a:pt x="664" y="491"/>
                  </a:lnTo>
                  <a:lnTo>
                    <a:pt x="756" y="516"/>
                  </a:lnTo>
                  <a:lnTo>
                    <a:pt x="849" y="538"/>
                  </a:lnTo>
                  <a:lnTo>
                    <a:pt x="947" y="557"/>
                  </a:lnTo>
                  <a:lnTo>
                    <a:pt x="1051" y="575"/>
                  </a:lnTo>
                  <a:lnTo>
                    <a:pt x="1155" y="591"/>
                  </a:lnTo>
                  <a:lnTo>
                    <a:pt x="1262" y="604"/>
                  </a:lnTo>
                  <a:lnTo>
                    <a:pt x="1372" y="614"/>
                  </a:lnTo>
                  <a:lnTo>
                    <a:pt x="1483" y="622"/>
                  </a:lnTo>
                </a:path>
              </a:pathLst>
            </a:custGeom>
            <a:noFill/>
            <a:ln w="57240">
              <a:solidFill>
                <a:srgbClr val="ffff9b"/>
              </a:solidFill>
              <a:round/>
            </a:ln>
            <a:effectLst>
              <a:outerShdw dist="45929" dir="3371122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47560" y="3367080"/>
              <a:ext cx="820800" cy="298080"/>
            </a:xfrm>
            <a:prstGeom prst="wedgeRoundRectCallout">
              <a:avLst>
                <a:gd name="adj1" fmla="val -51574"/>
                <a:gd name="adj2" fmla="val 108259"/>
                <a:gd name="adj3" fmla="val 16667"/>
              </a:avLst>
            </a:prstGeom>
            <a:noFill/>
            <a:ln w="1260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92929"/>
                  </a:solidFill>
                  <a:latin typeface="Arial"/>
                </a:rPr>
                <a:t>（</a:t>
              </a: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,1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92240" y="3565440"/>
              <a:ext cx="790200" cy="298080"/>
            </a:xfrm>
            <a:prstGeom prst="wedgeRoundRectCallout">
              <a:avLst>
                <a:gd name="adj1" fmla="val -109379"/>
                <a:gd name="adj2" fmla="val 149152"/>
                <a:gd name="adj3" fmla="val 16667"/>
              </a:avLst>
            </a:prstGeom>
            <a:noFill/>
            <a:ln w="1260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(5,1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82800" y="4019400"/>
              <a:ext cx="865080" cy="298080"/>
            </a:xfrm>
            <a:prstGeom prst="wedgeRoundRectCallout">
              <a:avLst>
                <a:gd name="adj1" fmla="val -86226"/>
                <a:gd name="adj2" fmla="val 139143"/>
                <a:gd name="adj3" fmla="val 16667"/>
              </a:avLst>
            </a:prstGeom>
            <a:noFill/>
            <a:ln w="1260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(10,1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4967640" y="3707280"/>
              <a:ext cx="3139920" cy="1252800"/>
              <a:chOff x="4967640" y="3707280"/>
              <a:chExt cx="3139920" cy="1252800"/>
            </a:xfrm>
          </p:grpSpPr>
          <p:sp>
            <p:nvSpPr>
              <p:cNvPr id="309" name=""/>
              <p:cNvSpPr/>
              <p:nvPr/>
            </p:nvSpPr>
            <p:spPr>
              <a:xfrm>
                <a:off x="5954400" y="3707280"/>
                <a:ext cx="2153160" cy="1252800"/>
              </a:xfrm>
              <a:custGeom>
                <a:avLst/>
                <a:gdLst/>
                <a:ahLst/>
                <a:rect l="l" t="t" r="r" b="b"/>
                <a:pathLst>
                  <a:path w="1393" h="366">
                    <a:moveTo>
                      <a:pt x="1393" y="366"/>
                    </a:moveTo>
                    <a:lnTo>
                      <a:pt x="1247" y="362"/>
                    </a:lnTo>
                    <a:lnTo>
                      <a:pt x="1174" y="358"/>
                    </a:lnTo>
                    <a:lnTo>
                      <a:pt x="1100" y="352"/>
                    </a:lnTo>
                    <a:lnTo>
                      <a:pt x="1027" y="344"/>
                    </a:lnTo>
                    <a:lnTo>
                      <a:pt x="953" y="333"/>
                    </a:lnTo>
                    <a:lnTo>
                      <a:pt x="881" y="317"/>
                    </a:lnTo>
                    <a:lnTo>
                      <a:pt x="734" y="274"/>
                    </a:lnTo>
                    <a:lnTo>
                      <a:pt x="587" y="215"/>
                    </a:lnTo>
                    <a:lnTo>
                      <a:pt x="440" y="143"/>
                    </a:lnTo>
                    <a:lnTo>
                      <a:pt x="366" y="106"/>
                    </a:lnTo>
                    <a:lnTo>
                      <a:pt x="294" y="73"/>
                    </a:lnTo>
                    <a:lnTo>
                      <a:pt x="219" y="43"/>
                    </a:lnTo>
                    <a:lnTo>
                      <a:pt x="147" y="20"/>
                    </a:lnTo>
                    <a:lnTo>
                      <a:pt x="73" y="4"/>
                    </a:lnTo>
                    <a:lnTo>
                      <a:pt x="0" y="0"/>
                    </a:lnTo>
                  </a:path>
                </a:pathLst>
              </a:custGeom>
              <a:noFill/>
              <a:ln w="57240">
                <a:solidFill>
                  <a:srgbClr val="ffff99"/>
                </a:solidFill>
                <a:round/>
              </a:ln>
              <a:effectLst>
                <a:outerShdw dist="17819" dir="2700000" blurRad="0" rotWithShape="0">
                  <a:srgbClr val="5c1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67640" y="3707280"/>
                <a:ext cx="986760" cy="1175040"/>
              </a:xfrm>
              <a:custGeom>
                <a:avLst/>
                <a:gdLst/>
                <a:ahLst/>
                <a:rect l="l" t="t" r="r" b="b"/>
                <a:pathLst>
                  <a:path w="293" h="366">
                    <a:moveTo>
                      <a:pt x="0" y="366"/>
                    </a:moveTo>
                    <a:lnTo>
                      <a:pt x="31" y="362"/>
                    </a:lnTo>
                    <a:lnTo>
                      <a:pt x="47" y="358"/>
                    </a:lnTo>
                    <a:lnTo>
                      <a:pt x="60" y="352"/>
                    </a:lnTo>
                    <a:lnTo>
                      <a:pt x="76" y="344"/>
                    </a:lnTo>
                    <a:lnTo>
                      <a:pt x="92" y="333"/>
                    </a:lnTo>
                    <a:lnTo>
                      <a:pt x="107" y="317"/>
                    </a:lnTo>
                    <a:lnTo>
                      <a:pt x="139" y="274"/>
                    </a:lnTo>
                    <a:lnTo>
                      <a:pt x="170" y="215"/>
                    </a:lnTo>
                    <a:lnTo>
                      <a:pt x="201" y="143"/>
                    </a:lnTo>
                    <a:lnTo>
                      <a:pt x="215" y="106"/>
                    </a:lnTo>
                    <a:lnTo>
                      <a:pt x="231" y="73"/>
                    </a:lnTo>
                    <a:lnTo>
                      <a:pt x="246" y="43"/>
                    </a:lnTo>
                    <a:lnTo>
                      <a:pt x="262" y="20"/>
                    </a:lnTo>
                    <a:lnTo>
                      <a:pt x="278" y="4"/>
                    </a:lnTo>
                    <a:lnTo>
                      <a:pt x="293" y="0"/>
                    </a:lnTo>
                  </a:path>
                </a:pathLst>
              </a:custGeom>
              <a:noFill/>
              <a:ln w="57240">
                <a:solidFill>
                  <a:srgbClr val="ffff99"/>
                </a:solidFill>
                <a:round/>
              </a:ln>
              <a:effectLst>
                <a:outerShdw dist="17819" dir="2700000" blurRad="0" rotWithShape="0">
                  <a:srgbClr val="5c1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468360" y="1916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的期望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635280" y="1773360"/>
                <a:ext cx="3024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468360" y="2708280"/>
            <a:ext cx="4248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8360" y="4005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,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3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样本与抽样分布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87280" y="2133720"/>
            <a:ext cx="61930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3.1 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样本均值的抽样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3.2 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中心极限定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3.3 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样本方差的抽样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6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9280" y="2349360"/>
            <a:ext cx="78850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分布函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随机变量， 对给定的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实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其联合分布函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3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样本均值的抽样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例题分析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500720" y="4584600"/>
                <a:ext cx="2447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755640" y="1916280"/>
            <a:ext cx="7993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则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正态分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容量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简单随机样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简称为样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378936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样本均值  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sample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500720" y="3500280"/>
                <a:ext cx="17269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539640" y="4724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样本方差  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sample var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3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样本均值的抽样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例题分析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484360" y="2908440"/>
                <a:ext cx="2664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i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33520" y="1828800"/>
            <a:ext cx="807696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【例】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设总体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分布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)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3)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4)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258920" y="4365720"/>
            <a:ext cx="3809880" cy="2135880"/>
            <a:chOff x="1258920" y="4365720"/>
            <a:chExt cx="3809880" cy="2135880"/>
          </a:xfrm>
        </p:grpSpPr>
        <p:grpSp>
          <p:nvGrpSpPr>
            <p:cNvPr id="328" name=""/>
            <p:cNvGrpSpPr/>
            <p:nvPr/>
          </p:nvGrpSpPr>
          <p:grpSpPr>
            <a:xfrm>
              <a:off x="1716120" y="4365720"/>
              <a:ext cx="3352680" cy="1676160"/>
              <a:chOff x="1716120" y="4365720"/>
              <a:chExt cx="3352680" cy="1676160"/>
            </a:xfrm>
          </p:grpSpPr>
          <p:sp>
            <p:nvSpPr>
              <p:cNvPr id="329" name=""/>
              <p:cNvSpPr/>
              <p:nvPr/>
            </p:nvSpPr>
            <p:spPr>
              <a:xfrm>
                <a:off x="1716120" y="6041880"/>
                <a:ext cx="3352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16120" y="4365720"/>
                <a:ext cx="0" cy="1676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1944720" y="6041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68400" y="4898880"/>
              <a:ext cx="609480" cy="114264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06680" y="6041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82800" y="6041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44920" y="6041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30520" y="4898880"/>
              <a:ext cx="609480" cy="114264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92280" y="4898880"/>
              <a:ext cx="609840" cy="114264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54400" y="4898880"/>
              <a:ext cx="609480" cy="114264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34880" y="5736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8920" y="5356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58920" y="4898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58920" y="4441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9800" y="558468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39800" y="512748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39800" y="467028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104840" y="306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总体均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06600" y="3789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340000" y="3645000"/>
                <a:ext cx="3024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1.3.1  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样本均值的抽样分布</a:t>
            </a:r>
            <a:br>
              <a:rPr sz="4000"/>
            </a:b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例题分析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1773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从总体中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简单随机样本，在重复抽样条件下，共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样本。所有样本的结果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523880" y="2971800"/>
            <a:ext cx="6781680" cy="3106440"/>
            <a:chOff x="1523880" y="2971800"/>
            <a:chExt cx="6781680" cy="3106440"/>
          </a:xfrm>
        </p:grpSpPr>
        <p:sp>
          <p:nvSpPr>
            <p:cNvPr id="352" name=""/>
            <p:cNvSpPr/>
            <p:nvPr/>
          </p:nvSpPr>
          <p:spPr>
            <a:xfrm>
              <a:off x="7026120" y="5172120"/>
              <a:ext cx="1279080" cy="46224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3,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46320" y="5172120"/>
              <a:ext cx="1279800" cy="46224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3,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66520" y="5172120"/>
              <a:ext cx="1279800" cy="46224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3,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42080" y="5172120"/>
              <a:ext cx="1324440" cy="46224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3,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23880" y="5172120"/>
              <a:ext cx="1618200" cy="46224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26120" y="4745520"/>
              <a:ext cx="127908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2,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46320" y="4745520"/>
              <a:ext cx="127980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2,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66520" y="4745520"/>
              <a:ext cx="127980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2,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42080" y="4745520"/>
              <a:ext cx="132444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2,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23880" y="4745520"/>
              <a:ext cx="161820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26120" y="5634720"/>
              <a:ext cx="1279080" cy="4435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4,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46320" y="5634720"/>
              <a:ext cx="1279800" cy="4435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4,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66520" y="5634720"/>
              <a:ext cx="1279800" cy="4435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4,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42080" y="5634720"/>
              <a:ext cx="1324440" cy="4435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4,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23880" y="5634720"/>
              <a:ext cx="1618200" cy="44352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26120" y="4318560"/>
              <a:ext cx="127908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1,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26120" y="3891960"/>
              <a:ext cx="127908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46320" y="4318560"/>
              <a:ext cx="127980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1,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46320" y="3891960"/>
              <a:ext cx="127980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66520" y="3891960"/>
              <a:ext cx="127980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42080" y="3891960"/>
              <a:ext cx="132444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66520" y="4318560"/>
              <a:ext cx="127980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1,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42080" y="4318560"/>
              <a:ext cx="132444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1,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23880" y="4318560"/>
              <a:ext cx="161820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42080" y="3465360"/>
              <a:ext cx="516312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5c1f00"/>
                  </a:solidFill>
                  <a:latin typeface="Arial"/>
                </a:rPr>
                <a:t>第二个观察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23880" y="3465360"/>
              <a:ext cx="1618200" cy="8532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5c1f00"/>
                  </a:solidFill>
                  <a:latin typeface="Arial"/>
                </a:rPr>
                <a:t>第一个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5c1f00"/>
                  </a:solidFill>
                  <a:latin typeface="Arial"/>
                </a:rPr>
                <a:t>观察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23880" y="2971800"/>
              <a:ext cx="6781680" cy="493560"/>
            </a:xfrm>
            <a:prstGeom prst="rect">
              <a:avLst/>
            </a:prstGeom>
            <a:solidFill>
              <a:srgbClr val="c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所有可能的</a:t>
              </a:r>
              <a:r>
                <a:rPr b="1" i="1" lang="zh-CN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 = 2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的样本（共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个）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3880" y="2971800"/>
              <a:ext cx="6781680" cy="0"/>
            </a:xfrm>
            <a:prstGeom prst="line">
              <a:avLst/>
            </a:prstGeom>
            <a:ln cap="sq"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3880" y="3465360"/>
              <a:ext cx="67816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3880" y="4318560"/>
              <a:ext cx="67816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42080" y="3465360"/>
              <a:ext cx="0" cy="261288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3880" y="2971800"/>
              <a:ext cx="0" cy="3106440"/>
            </a:xfrm>
            <a:prstGeom prst="line">
              <a:avLst/>
            </a:prstGeom>
            <a:ln cap="sq"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3880" y="6078240"/>
              <a:ext cx="6781680" cy="0"/>
            </a:xfrm>
            <a:prstGeom prst="line">
              <a:avLst/>
            </a:prstGeom>
            <a:ln cap="sq"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42080" y="3891960"/>
              <a:ext cx="516312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6520" y="3891960"/>
              <a:ext cx="0" cy="218628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46320" y="3891960"/>
              <a:ext cx="0" cy="218628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26120" y="3891960"/>
              <a:ext cx="0" cy="218628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23880" y="5634720"/>
              <a:ext cx="67816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23880" y="4745520"/>
              <a:ext cx="67816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23880" y="5172120"/>
              <a:ext cx="67816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1.3.1  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样本均值的抽样分布</a:t>
            </a:r>
            <a:br>
              <a:rPr sz="4000"/>
            </a:b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例题分析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8288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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计算出各样本的均值，如下表。并给出样本均值的抽样分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2895480"/>
            <a:ext cx="4038480" cy="2971440"/>
            <a:chOff x="685800" y="2895480"/>
            <a:chExt cx="4038480" cy="2971440"/>
          </a:xfrm>
        </p:grpSpPr>
        <p:sp>
          <p:nvSpPr>
            <p:cNvPr id="395" name=""/>
            <p:cNvSpPr/>
            <p:nvPr/>
          </p:nvSpPr>
          <p:spPr>
            <a:xfrm>
              <a:off x="3962160" y="5005080"/>
              <a:ext cx="762120" cy="439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3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00400" y="5005080"/>
              <a:ext cx="761760" cy="439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3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38280" y="5005080"/>
              <a:ext cx="762120" cy="439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49160" y="5005080"/>
              <a:ext cx="789120" cy="439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5800" y="5005080"/>
              <a:ext cx="963360" cy="43992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62160" y="4599360"/>
              <a:ext cx="762120" cy="405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3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00400" y="4599360"/>
              <a:ext cx="761760" cy="405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4599360"/>
              <a:ext cx="762120" cy="405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49160" y="4599360"/>
              <a:ext cx="789120" cy="405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1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5800" y="4599360"/>
              <a:ext cx="963360" cy="405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62160" y="5445000"/>
              <a:ext cx="762120" cy="421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4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00400" y="5445000"/>
              <a:ext cx="761760" cy="421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3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38280" y="5445000"/>
              <a:ext cx="762120" cy="421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3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49160" y="5445000"/>
              <a:ext cx="789120" cy="421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5800" y="5445000"/>
              <a:ext cx="963360" cy="42192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2160" y="4176000"/>
              <a:ext cx="762120" cy="423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62160" y="3770280"/>
              <a:ext cx="762120" cy="405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00400" y="4176000"/>
              <a:ext cx="761760" cy="423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00400" y="3770280"/>
              <a:ext cx="761760" cy="405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38280" y="3770280"/>
              <a:ext cx="762120" cy="405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49160" y="3770280"/>
              <a:ext cx="789120" cy="405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38280" y="4176000"/>
              <a:ext cx="762120" cy="423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1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49160" y="4176000"/>
              <a:ext cx="789120" cy="423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1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5800" y="4176000"/>
              <a:ext cx="963360" cy="423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49160" y="3364560"/>
              <a:ext cx="3075120" cy="405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c1f00"/>
                  </a:solidFill>
                  <a:latin typeface="Arial"/>
                </a:rPr>
                <a:t>第二个观察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" y="3364560"/>
              <a:ext cx="963360" cy="81108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c1f00"/>
                  </a:solidFill>
                  <a:latin typeface="Arial"/>
                </a:rPr>
                <a:t>第一个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c1f00"/>
                  </a:solidFill>
                  <a:latin typeface="Arial"/>
                </a:rPr>
                <a:t>观察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5800" y="2895480"/>
              <a:ext cx="4038480" cy="469080"/>
            </a:xfrm>
            <a:prstGeom prst="rect">
              <a:avLst/>
            </a:prstGeom>
            <a:solidFill>
              <a:srgbClr val="c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个样本的均值（</a:t>
              </a: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5800" y="2895480"/>
              <a:ext cx="4038480" cy="0"/>
            </a:xfrm>
            <a:prstGeom prst="line">
              <a:avLst/>
            </a:prstGeom>
            <a:ln cap="sq"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5800" y="3364560"/>
              <a:ext cx="40384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5800" y="4176000"/>
              <a:ext cx="40384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49160" y="3364560"/>
              <a:ext cx="0" cy="250236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24280" y="2895480"/>
              <a:ext cx="0" cy="2971440"/>
            </a:xfrm>
            <a:prstGeom prst="line">
              <a:avLst/>
            </a:prstGeom>
            <a:ln cap="sq"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5800" y="5866920"/>
              <a:ext cx="4038480" cy="0"/>
            </a:xfrm>
            <a:prstGeom prst="line">
              <a:avLst/>
            </a:prstGeom>
            <a:ln cap="sq"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49160" y="3770280"/>
              <a:ext cx="307512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3770280"/>
              <a:ext cx="0" cy="209664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0400" y="3770280"/>
              <a:ext cx="0" cy="209664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62160" y="3770280"/>
              <a:ext cx="0" cy="209664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5800" y="5445000"/>
              <a:ext cx="40384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" y="4599360"/>
              <a:ext cx="40384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5800" y="5005080"/>
              <a:ext cx="40384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1280" y="3051720"/>
              <a:ext cx="76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518640" y="2997360"/>
            <a:ext cx="5625360" cy="3907080"/>
            <a:chOff x="3518640" y="2997360"/>
            <a:chExt cx="5625360" cy="3907080"/>
          </a:xfrm>
        </p:grpSpPr>
        <p:sp>
          <p:nvSpPr>
            <p:cNvPr id="437" name=""/>
            <p:cNvSpPr/>
            <p:nvPr/>
          </p:nvSpPr>
          <p:spPr>
            <a:xfrm>
              <a:off x="8610480" y="54039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518640" y="2997360"/>
              <a:ext cx="5444280" cy="3907080"/>
              <a:chOff x="3518640" y="2997360"/>
              <a:chExt cx="5444280" cy="390708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3518640" y="4998600"/>
                <a:ext cx="2733480" cy="1905840"/>
                <a:chOff x="3518640" y="4998600"/>
                <a:chExt cx="2733480" cy="1905840"/>
              </a:xfrm>
            </p:grpSpPr>
            <p:sp>
              <p:nvSpPr>
                <p:cNvPr id="440" name=""/>
                <p:cNvSpPr/>
                <p:nvPr/>
              </p:nvSpPr>
              <p:spPr>
                <a:xfrm flipH="1" rot="12071400">
                  <a:off x="3639960" y="5416920"/>
                  <a:ext cx="2509560" cy="1036080"/>
                </a:xfrm>
                <a:custGeom>
                  <a:avLst/>
                  <a:gdLst/>
                  <a:ahLst/>
                  <a:rect l="l" t="t" r="r" b="b"/>
                  <a:pathLst>
                    <a:path w="1726" h="759">
                      <a:moveTo>
                        <a:pt x="7" y="425"/>
                      </a:moveTo>
                      <a:lnTo>
                        <a:pt x="0" y="386"/>
                      </a:lnTo>
                      <a:lnTo>
                        <a:pt x="52" y="320"/>
                      </a:lnTo>
                      <a:lnTo>
                        <a:pt x="86" y="282"/>
                      </a:lnTo>
                      <a:lnTo>
                        <a:pt x="122" y="255"/>
                      </a:lnTo>
                      <a:lnTo>
                        <a:pt x="151" y="227"/>
                      </a:lnTo>
                      <a:lnTo>
                        <a:pt x="190" y="200"/>
                      </a:lnTo>
                      <a:lnTo>
                        <a:pt x="224" y="175"/>
                      </a:lnTo>
                      <a:lnTo>
                        <a:pt x="269" y="153"/>
                      </a:lnTo>
                      <a:lnTo>
                        <a:pt x="304" y="134"/>
                      </a:lnTo>
                      <a:lnTo>
                        <a:pt x="341" y="113"/>
                      </a:lnTo>
                      <a:lnTo>
                        <a:pt x="394" y="93"/>
                      </a:lnTo>
                      <a:lnTo>
                        <a:pt x="443" y="75"/>
                      </a:lnTo>
                      <a:lnTo>
                        <a:pt x="502" y="57"/>
                      </a:lnTo>
                      <a:lnTo>
                        <a:pt x="581" y="34"/>
                      </a:lnTo>
                      <a:lnTo>
                        <a:pt x="646" y="20"/>
                      </a:lnTo>
                      <a:lnTo>
                        <a:pt x="700" y="14"/>
                      </a:lnTo>
                      <a:lnTo>
                        <a:pt x="778" y="6"/>
                      </a:lnTo>
                      <a:lnTo>
                        <a:pt x="837" y="0"/>
                      </a:lnTo>
                      <a:lnTo>
                        <a:pt x="896" y="2"/>
                      </a:lnTo>
                      <a:lnTo>
                        <a:pt x="958" y="4"/>
                      </a:lnTo>
                      <a:lnTo>
                        <a:pt x="1021" y="14"/>
                      </a:lnTo>
                      <a:lnTo>
                        <a:pt x="1076" y="22"/>
                      </a:lnTo>
                      <a:lnTo>
                        <a:pt x="1132" y="36"/>
                      </a:lnTo>
                      <a:lnTo>
                        <a:pt x="1185" y="57"/>
                      </a:lnTo>
                      <a:lnTo>
                        <a:pt x="1236" y="79"/>
                      </a:lnTo>
                      <a:lnTo>
                        <a:pt x="1290" y="108"/>
                      </a:lnTo>
                      <a:lnTo>
                        <a:pt x="1342" y="147"/>
                      </a:lnTo>
                      <a:lnTo>
                        <a:pt x="1382" y="181"/>
                      </a:lnTo>
                      <a:lnTo>
                        <a:pt x="1426" y="225"/>
                      </a:lnTo>
                      <a:lnTo>
                        <a:pt x="1457" y="258"/>
                      </a:lnTo>
                      <a:lnTo>
                        <a:pt x="1472" y="277"/>
                      </a:lnTo>
                      <a:lnTo>
                        <a:pt x="1582" y="46"/>
                      </a:lnTo>
                      <a:lnTo>
                        <a:pt x="1594" y="94"/>
                      </a:lnTo>
                      <a:lnTo>
                        <a:pt x="1594" y="147"/>
                      </a:lnTo>
                      <a:lnTo>
                        <a:pt x="1596" y="197"/>
                      </a:lnTo>
                      <a:lnTo>
                        <a:pt x="1600" y="247"/>
                      </a:lnTo>
                      <a:lnTo>
                        <a:pt x="1605" y="300"/>
                      </a:lnTo>
                      <a:lnTo>
                        <a:pt x="1615" y="354"/>
                      </a:lnTo>
                      <a:lnTo>
                        <a:pt x="1624" y="398"/>
                      </a:lnTo>
                      <a:lnTo>
                        <a:pt x="1637" y="450"/>
                      </a:lnTo>
                      <a:lnTo>
                        <a:pt x="1651" y="499"/>
                      </a:lnTo>
                      <a:lnTo>
                        <a:pt x="1671" y="561"/>
                      </a:lnTo>
                      <a:lnTo>
                        <a:pt x="1706" y="627"/>
                      </a:lnTo>
                      <a:lnTo>
                        <a:pt x="1725" y="698"/>
                      </a:lnTo>
                      <a:lnTo>
                        <a:pt x="1685" y="685"/>
                      </a:lnTo>
                      <a:lnTo>
                        <a:pt x="1646" y="676"/>
                      </a:lnTo>
                      <a:lnTo>
                        <a:pt x="1601" y="667"/>
                      </a:lnTo>
                      <a:lnTo>
                        <a:pt x="1559" y="663"/>
                      </a:lnTo>
                      <a:lnTo>
                        <a:pt x="1534" y="664"/>
                      </a:lnTo>
                      <a:lnTo>
                        <a:pt x="1507" y="666"/>
                      </a:lnTo>
                      <a:lnTo>
                        <a:pt x="1469" y="671"/>
                      </a:lnTo>
                      <a:lnTo>
                        <a:pt x="1434" y="681"/>
                      </a:lnTo>
                      <a:lnTo>
                        <a:pt x="1403" y="690"/>
                      </a:lnTo>
                      <a:lnTo>
                        <a:pt x="1367" y="707"/>
                      </a:lnTo>
                      <a:lnTo>
                        <a:pt x="1330" y="723"/>
                      </a:lnTo>
                      <a:lnTo>
                        <a:pt x="1277" y="758"/>
                      </a:lnTo>
                      <a:lnTo>
                        <a:pt x="1259" y="687"/>
                      </a:lnTo>
                      <a:lnTo>
                        <a:pt x="1362" y="500"/>
                      </a:lnTo>
                      <a:lnTo>
                        <a:pt x="1345" y="482"/>
                      </a:lnTo>
                      <a:lnTo>
                        <a:pt x="1286" y="434"/>
                      </a:lnTo>
                      <a:lnTo>
                        <a:pt x="1237" y="396"/>
                      </a:lnTo>
                      <a:lnTo>
                        <a:pt x="1172" y="350"/>
                      </a:lnTo>
                      <a:lnTo>
                        <a:pt x="1131" y="328"/>
                      </a:lnTo>
                      <a:lnTo>
                        <a:pt x="1092" y="305"/>
                      </a:lnTo>
                      <a:lnTo>
                        <a:pt x="1036" y="277"/>
                      </a:lnTo>
                      <a:lnTo>
                        <a:pt x="982" y="251"/>
                      </a:lnTo>
                      <a:lnTo>
                        <a:pt x="921" y="232"/>
                      </a:lnTo>
                      <a:lnTo>
                        <a:pt x="868" y="219"/>
                      </a:lnTo>
                      <a:lnTo>
                        <a:pt x="811" y="209"/>
                      </a:lnTo>
                      <a:lnTo>
                        <a:pt x="753" y="197"/>
                      </a:lnTo>
                      <a:lnTo>
                        <a:pt x="707" y="195"/>
                      </a:lnTo>
                      <a:lnTo>
                        <a:pt x="647" y="196"/>
                      </a:lnTo>
                      <a:lnTo>
                        <a:pt x="587" y="201"/>
                      </a:lnTo>
                      <a:lnTo>
                        <a:pt x="531" y="204"/>
                      </a:lnTo>
                      <a:lnTo>
                        <a:pt x="470" y="211"/>
                      </a:lnTo>
                      <a:lnTo>
                        <a:pt x="401" y="222"/>
                      </a:lnTo>
                      <a:lnTo>
                        <a:pt x="334" y="232"/>
                      </a:lnTo>
                      <a:lnTo>
                        <a:pt x="273" y="254"/>
                      </a:lnTo>
                      <a:lnTo>
                        <a:pt x="231" y="266"/>
                      </a:lnTo>
                      <a:lnTo>
                        <a:pt x="189" y="284"/>
                      </a:lnTo>
                      <a:lnTo>
                        <a:pt x="158" y="301"/>
                      </a:lnTo>
                      <a:lnTo>
                        <a:pt x="126" y="322"/>
                      </a:lnTo>
                      <a:lnTo>
                        <a:pt x="97" y="343"/>
                      </a:lnTo>
                      <a:lnTo>
                        <a:pt x="7" y="425"/>
                      </a:lnTo>
                    </a:path>
                  </a:pathLst>
                </a:custGeom>
                <a:solidFill>
                  <a:srgbClr val="be79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 rot="12071400">
                  <a:off x="3611160" y="5508720"/>
                  <a:ext cx="2484000" cy="979920"/>
                </a:xfrm>
                <a:custGeom>
                  <a:avLst/>
                  <a:gdLst/>
                  <a:ahLst/>
                  <a:rect l="l" t="t" r="r" b="b"/>
                  <a:pathLst>
                    <a:path w="1708" h="718">
                      <a:moveTo>
                        <a:pt x="0" y="421"/>
                      </a:moveTo>
                      <a:lnTo>
                        <a:pt x="57" y="326"/>
                      </a:lnTo>
                      <a:lnTo>
                        <a:pt x="84" y="296"/>
                      </a:lnTo>
                      <a:lnTo>
                        <a:pt x="117" y="264"/>
                      </a:lnTo>
                      <a:lnTo>
                        <a:pt x="146" y="239"/>
                      </a:lnTo>
                      <a:lnTo>
                        <a:pt x="183" y="210"/>
                      </a:lnTo>
                      <a:lnTo>
                        <a:pt x="219" y="183"/>
                      </a:lnTo>
                      <a:lnTo>
                        <a:pt x="263" y="156"/>
                      </a:lnTo>
                      <a:lnTo>
                        <a:pt x="299" y="137"/>
                      </a:lnTo>
                      <a:lnTo>
                        <a:pt x="336" y="117"/>
                      </a:lnTo>
                      <a:lnTo>
                        <a:pt x="388" y="95"/>
                      </a:lnTo>
                      <a:lnTo>
                        <a:pt x="438" y="79"/>
                      </a:lnTo>
                      <a:lnTo>
                        <a:pt x="496" y="61"/>
                      </a:lnTo>
                      <a:lnTo>
                        <a:pt x="575" y="37"/>
                      </a:lnTo>
                      <a:lnTo>
                        <a:pt x="640" y="23"/>
                      </a:lnTo>
                      <a:lnTo>
                        <a:pt x="694" y="16"/>
                      </a:lnTo>
                      <a:lnTo>
                        <a:pt x="771" y="6"/>
                      </a:lnTo>
                      <a:lnTo>
                        <a:pt x="831" y="0"/>
                      </a:lnTo>
                      <a:lnTo>
                        <a:pt x="889" y="1"/>
                      </a:lnTo>
                      <a:lnTo>
                        <a:pt x="951" y="2"/>
                      </a:lnTo>
                      <a:lnTo>
                        <a:pt x="1013" y="10"/>
                      </a:lnTo>
                      <a:lnTo>
                        <a:pt x="1069" y="17"/>
                      </a:lnTo>
                      <a:lnTo>
                        <a:pt x="1124" y="30"/>
                      </a:lnTo>
                      <a:lnTo>
                        <a:pt x="1176" y="49"/>
                      </a:lnTo>
                      <a:lnTo>
                        <a:pt x="1228" y="69"/>
                      </a:lnTo>
                      <a:lnTo>
                        <a:pt x="1280" y="96"/>
                      </a:lnTo>
                      <a:lnTo>
                        <a:pt x="1332" y="132"/>
                      </a:lnTo>
                      <a:lnTo>
                        <a:pt x="1371" y="164"/>
                      </a:lnTo>
                      <a:lnTo>
                        <a:pt x="1414" y="205"/>
                      </a:lnTo>
                      <a:lnTo>
                        <a:pt x="1445" y="236"/>
                      </a:lnTo>
                      <a:lnTo>
                        <a:pt x="1488" y="281"/>
                      </a:lnTo>
                      <a:lnTo>
                        <a:pt x="1583" y="78"/>
                      </a:lnTo>
                      <a:lnTo>
                        <a:pt x="1582" y="129"/>
                      </a:lnTo>
                      <a:lnTo>
                        <a:pt x="1583" y="176"/>
                      </a:lnTo>
                      <a:lnTo>
                        <a:pt x="1587" y="224"/>
                      </a:lnTo>
                      <a:lnTo>
                        <a:pt x="1592" y="274"/>
                      </a:lnTo>
                      <a:lnTo>
                        <a:pt x="1601" y="326"/>
                      </a:lnTo>
                      <a:lnTo>
                        <a:pt x="1609" y="368"/>
                      </a:lnTo>
                      <a:lnTo>
                        <a:pt x="1622" y="417"/>
                      </a:lnTo>
                      <a:lnTo>
                        <a:pt x="1635" y="464"/>
                      </a:lnTo>
                      <a:lnTo>
                        <a:pt x="1655" y="523"/>
                      </a:lnTo>
                      <a:lnTo>
                        <a:pt x="1674" y="576"/>
                      </a:lnTo>
                      <a:lnTo>
                        <a:pt x="1689" y="611"/>
                      </a:lnTo>
                      <a:lnTo>
                        <a:pt x="1707" y="656"/>
                      </a:lnTo>
                      <a:lnTo>
                        <a:pt x="1668" y="643"/>
                      </a:lnTo>
                      <a:lnTo>
                        <a:pt x="1628" y="634"/>
                      </a:lnTo>
                      <a:lnTo>
                        <a:pt x="1583" y="626"/>
                      </a:lnTo>
                      <a:lnTo>
                        <a:pt x="1542" y="623"/>
                      </a:lnTo>
                      <a:lnTo>
                        <a:pt x="1516" y="623"/>
                      </a:lnTo>
                      <a:lnTo>
                        <a:pt x="1491" y="626"/>
                      </a:lnTo>
                      <a:lnTo>
                        <a:pt x="1452" y="632"/>
                      </a:lnTo>
                      <a:lnTo>
                        <a:pt x="1417" y="641"/>
                      </a:lnTo>
                      <a:lnTo>
                        <a:pt x="1386" y="650"/>
                      </a:lnTo>
                      <a:lnTo>
                        <a:pt x="1350" y="668"/>
                      </a:lnTo>
                      <a:lnTo>
                        <a:pt x="1313" y="684"/>
                      </a:lnTo>
                      <a:lnTo>
                        <a:pt x="1260" y="717"/>
                      </a:lnTo>
                      <a:lnTo>
                        <a:pt x="1381" y="493"/>
                      </a:lnTo>
                      <a:lnTo>
                        <a:pt x="1332" y="453"/>
                      </a:lnTo>
                      <a:lnTo>
                        <a:pt x="1274" y="408"/>
                      </a:lnTo>
                      <a:lnTo>
                        <a:pt x="1224" y="372"/>
                      </a:lnTo>
                      <a:lnTo>
                        <a:pt x="1160" y="330"/>
                      </a:lnTo>
                      <a:lnTo>
                        <a:pt x="1119" y="308"/>
                      </a:lnTo>
                      <a:lnTo>
                        <a:pt x="1081" y="287"/>
                      </a:lnTo>
                      <a:lnTo>
                        <a:pt x="1026" y="261"/>
                      </a:lnTo>
                      <a:lnTo>
                        <a:pt x="972" y="238"/>
                      </a:lnTo>
                      <a:lnTo>
                        <a:pt x="911" y="220"/>
                      </a:lnTo>
                      <a:lnTo>
                        <a:pt x="859" y="209"/>
                      </a:lnTo>
                      <a:lnTo>
                        <a:pt x="802" y="200"/>
                      </a:lnTo>
                      <a:lnTo>
                        <a:pt x="744" y="190"/>
                      </a:lnTo>
                      <a:lnTo>
                        <a:pt x="699" y="189"/>
                      </a:lnTo>
                      <a:lnTo>
                        <a:pt x="640" y="191"/>
                      </a:lnTo>
                      <a:lnTo>
                        <a:pt x="579" y="196"/>
                      </a:lnTo>
                      <a:lnTo>
                        <a:pt x="523" y="200"/>
                      </a:lnTo>
                      <a:lnTo>
                        <a:pt x="462" y="208"/>
                      </a:lnTo>
                      <a:lnTo>
                        <a:pt x="393" y="218"/>
                      </a:lnTo>
                      <a:lnTo>
                        <a:pt x="327" y="230"/>
                      </a:lnTo>
                      <a:lnTo>
                        <a:pt x="267" y="252"/>
                      </a:lnTo>
                      <a:lnTo>
                        <a:pt x="224" y="263"/>
                      </a:lnTo>
                      <a:lnTo>
                        <a:pt x="182" y="281"/>
                      </a:lnTo>
                      <a:lnTo>
                        <a:pt x="148" y="299"/>
                      </a:lnTo>
                      <a:lnTo>
                        <a:pt x="117" y="317"/>
                      </a:lnTo>
                      <a:lnTo>
                        <a:pt x="91" y="340"/>
                      </a:lnTo>
                      <a:lnTo>
                        <a:pt x="0" y="421"/>
                      </a:lnTo>
                    </a:path>
                  </a:pathLst>
                </a:custGeom>
                <a:solidFill>
                  <a:srgbClr val="be79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952880" y="2997360"/>
                <a:ext cx="4010040" cy="2944440"/>
                <a:chOff x="4952880" y="2997360"/>
                <a:chExt cx="4010040" cy="29444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5943600" y="5578560"/>
                  <a:ext cx="28954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spcBef>
                      <a:spcPts val="15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样本均值的抽样分布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5410080" y="5265360"/>
                  <a:ext cx="3552840" cy="18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410080" y="2997360"/>
                  <a:ext cx="0" cy="2270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562720" y="5267520"/>
                  <a:ext cx="533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.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562720" y="4854600"/>
                  <a:ext cx="457200" cy="41292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029200" y="485460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952880" y="433872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.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952880" y="37195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.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952880" y="310068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.3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334120" y="464832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334120" y="4029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334120" y="3410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410080" y="299736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292929"/>
                      </a:solidFill>
                      <a:latin typeface="Arial"/>
                    </a:rPr>
                    <a:t>P </a:t>
                  </a:r>
                  <a:r>
                    <a:rPr b="1" lang="en-US" sz="1600" spc="-1" strike="noStrike">
                      <a:solidFill>
                        <a:srgbClr val="292929"/>
                      </a:solidFill>
                      <a:latin typeface="Arial"/>
                    </a:rPr>
                    <a:t>(</a:t>
                  </a:r>
                  <a:r>
                    <a:rPr b="1" i="1" lang="en-US" sz="1600" spc="-1" strike="noStrike">
                      <a:solidFill>
                        <a:srgbClr val="292929"/>
                      </a:solidFill>
                      <a:latin typeface="Times New Roman"/>
                    </a:rPr>
                    <a:t>X </a:t>
                  </a:r>
                  <a:r>
                    <a:rPr b="1" lang="en-US" sz="1600" spc="-1" strike="noStrike">
                      <a:solidFill>
                        <a:srgbClr val="292929"/>
                      </a:solidFill>
                      <a:latin typeface="Arial"/>
                    </a:rPr>
                    <a:t>)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91320" y="2997360"/>
                  <a:ext cx="15228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19920" y="5267520"/>
                  <a:ext cx="533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.5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315200" y="526752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.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8229600" y="526752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.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772400" y="526752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.5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400800" y="526752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.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58000" y="526752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.5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19920" y="4545000"/>
                  <a:ext cx="457200" cy="72252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477120" y="4132440"/>
                  <a:ext cx="457200" cy="113508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34320" y="3719520"/>
                  <a:ext cx="457200" cy="154800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391520" y="4132440"/>
                  <a:ext cx="457200" cy="113508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848720" y="4545000"/>
                  <a:ext cx="457200" cy="72252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305920" y="4854600"/>
                  <a:ext cx="457200" cy="41292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839080" y="5392800"/>
                  <a:ext cx="76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92200" y="228240"/>
            <a:ext cx="75326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1.3.1  </a:t>
            </a: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样本均值的抽样分布</a:t>
            </a:r>
            <a:br>
              <a:rPr sz="4000"/>
            </a:b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例题分析</a:t>
            </a: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76520" y="5105520"/>
            <a:ext cx="1527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= 2.5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zh-CN" sz="2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=1.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1981080"/>
            <a:ext cx="243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体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39640" y="2708280"/>
            <a:ext cx="3809880" cy="2075400"/>
            <a:chOff x="539640" y="2708280"/>
            <a:chExt cx="3809880" cy="2075400"/>
          </a:xfrm>
        </p:grpSpPr>
        <p:sp>
          <p:nvSpPr>
            <p:cNvPr id="474" name=""/>
            <p:cNvSpPr/>
            <p:nvPr/>
          </p:nvSpPr>
          <p:spPr>
            <a:xfrm>
              <a:off x="996840" y="4384800"/>
              <a:ext cx="3352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96840" y="2708280"/>
              <a:ext cx="0" cy="1676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25440" y="4384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49120" y="3241800"/>
              <a:ext cx="609480" cy="114300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87400" y="43848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63520" y="4384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25640" y="4384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11240" y="3241800"/>
              <a:ext cx="609480" cy="114300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73000" y="3241800"/>
              <a:ext cx="609840" cy="114300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35120" y="3241800"/>
              <a:ext cx="609480" cy="114300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5600" y="40798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9640" y="36990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9640" y="3241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9640" y="27846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20520" y="392760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20520" y="347040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20520" y="301320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643280" y="2060640"/>
            <a:ext cx="4190760" cy="4038480"/>
            <a:chOff x="4643280" y="2060640"/>
            <a:chExt cx="4190760" cy="4038480"/>
          </a:xfrm>
        </p:grpSpPr>
        <p:sp>
          <p:nvSpPr>
            <p:cNvPr id="492" name=""/>
            <p:cNvSpPr/>
            <p:nvPr/>
          </p:nvSpPr>
          <p:spPr>
            <a:xfrm>
              <a:off x="5938560" y="2060640"/>
              <a:ext cx="2133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抽样分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0480" y="2289240"/>
              <a:ext cx="0" cy="221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00480" y="228924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P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57680" y="2289240"/>
              <a:ext cx="152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00480" y="4500720"/>
              <a:ext cx="3504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5276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2760" y="4098960"/>
              <a:ext cx="457200" cy="4017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19240" y="409896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43280" y="35956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43280" y="2992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43280" y="23893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24160" y="389736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24160" y="329400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24160" y="269100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0996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0524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91964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6244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9084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4804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09960" y="3797280"/>
              <a:ext cx="457200" cy="7034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67160" y="3395880"/>
              <a:ext cx="457200" cy="11048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24360" y="2992680"/>
              <a:ext cx="457200" cy="15080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1560" y="3395880"/>
              <a:ext cx="457200" cy="11048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38760" y="3797280"/>
              <a:ext cx="457200" cy="7034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95960" y="4098960"/>
              <a:ext cx="457200" cy="4017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00880" y="46958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29480" y="470232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5987880" y="5032440"/>
                  <a:ext cx="12999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5987880" y="5565960"/>
                  <a:ext cx="16365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2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1.3.1  </a:t>
            </a: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样本均值的抽样分布</a:t>
            </a:r>
            <a:br>
              <a:rPr sz="3600"/>
            </a:b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正态总体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2060640"/>
            <a:ext cx="81518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Book Antiqua"/>
              </a:rPr>
              <a:t>      </a:t>
            </a:r>
            <a:r>
              <a:rPr b="1" lang="zh-CN" sz="2800" spc="-1" strike="noStrike">
                <a:solidFill>
                  <a:srgbClr val="292929"/>
                </a:solidFill>
                <a:latin typeface="Book Antiqua"/>
              </a:rPr>
              <a:t>样本均值 </a:t>
            </a:r>
            <a:r>
              <a:rPr b="1" lang="zh-CN" sz="2400" spc="-1" strike="noStrike">
                <a:solidFill>
                  <a:srgbClr val="292929"/>
                </a:solidFill>
                <a:latin typeface="Symbol"/>
                <a:ea typeface="Symbol"/>
              </a:rPr>
              <a:t>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292929"/>
                </a:solidFill>
                <a:latin typeface="Book Antiqua"/>
              </a:rPr>
              <a:t> </a:t>
            </a:r>
            <a:r>
              <a:rPr b="1" lang="zh-CN" sz="2800" spc="-1" strike="noStrike">
                <a:solidFill>
                  <a:srgbClr val="292929"/>
                </a:solidFill>
                <a:latin typeface="Book Antiqua"/>
              </a:rPr>
              <a:t>的抽样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292929"/>
                </a:solidFill>
                <a:latin typeface="Times New Roman"/>
              </a:rPr>
              <a:t>当总体分布为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正态分布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(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μ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σ</a:t>
            </a:r>
            <a:r>
              <a:rPr b="1" lang="zh-CN" sz="2400" spc="-1" strike="noStrike" baseline="30000">
                <a:solidFill>
                  <a:srgbClr val="292929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时，则样本均值</a:t>
            </a:r>
            <a:r>
              <a:rPr b="1" lang="zh-CN" sz="2400" spc="-1" strike="noStrike">
                <a:solidFill>
                  <a:srgbClr val="292929"/>
                </a:solidFill>
                <a:latin typeface="Symbol"/>
                <a:ea typeface="Symbol"/>
              </a:rPr>
              <a:t>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服从正态分布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μ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σ</a:t>
            </a:r>
            <a:r>
              <a:rPr b="1" lang="zh-CN" sz="2400" spc="-1" strike="noStrike" baseline="30000">
                <a:solidFill>
                  <a:srgbClr val="29292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/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，其均值 仍为</a:t>
            </a:r>
            <a:r>
              <a:rPr b="1" i="1" lang="zh-CN" sz="2400" spc="-1" strike="noStrike">
                <a:solidFill>
                  <a:srgbClr val="292929"/>
                </a:solidFill>
                <a:latin typeface="Arial"/>
              </a:rPr>
              <a:t>μ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，方差为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σ</a:t>
            </a:r>
            <a:r>
              <a:rPr b="1" lang="zh-CN" sz="2400" spc="-1" strike="noStrike" baseline="30000">
                <a:solidFill>
                  <a:srgbClr val="29292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/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908000" y="4221000"/>
                <a:ext cx="43196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的标准差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3.2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中心极限定理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4000" y="1916280"/>
            <a:ext cx="853416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292929"/>
                </a:solidFill>
                <a:latin typeface="Times New Roman"/>
              </a:rPr>
              <a:t>中心极限定理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92929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292929"/>
                </a:solidFill>
                <a:latin typeface="Times New Roman"/>
              </a:rPr>
              <a:t>当总体分布不为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正态分布或未知 时，但其均值</a:t>
            </a:r>
            <a:r>
              <a:rPr b="1" i="1" lang="zh-CN" sz="2400" spc="-1" strike="noStrike">
                <a:solidFill>
                  <a:srgbClr val="292929"/>
                </a:solidFill>
                <a:latin typeface="Arial"/>
              </a:rPr>
              <a:t>μ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和方差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σ</a:t>
            </a:r>
            <a:r>
              <a:rPr b="1" lang="zh-CN" sz="2400" spc="-1" strike="noStrike" baseline="30000">
                <a:solidFill>
                  <a:srgbClr val="29292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都存在，则当</a:t>
            </a:r>
            <a:r>
              <a:rPr b="1" i="1" lang="zh-CN" sz="26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相当大时，样本均值</a:t>
            </a:r>
            <a:r>
              <a:rPr b="1" lang="zh-CN" sz="2400" spc="-1" strike="noStrike">
                <a:solidFill>
                  <a:srgbClr val="292929"/>
                </a:solidFill>
                <a:latin typeface="Symbol"/>
                <a:ea typeface="Symbol"/>
              </a:rPr>
              <a:t>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近似服从正态分布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μ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σ</a:t>
            </a:r>
            <a:r>
              <a:rPr b="1" lang="zh-CN" sz="2400" spc="-1" strike="noStrike" baseline="30000">
                <a:solidFill>
                  <a:srgbClr val="29292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/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，其均值 仍为</a:t>
            </a:r>
            <a:r>
              <a:rPr b="1" i="1" lang="zh-CN" sz="2400" spc="-1" strike="noStrike">
                <a:solidFill>
                  <a:srgbClr val="292929"/>
                </a:solidFill>
                <a:latin typeface="Arial"/>
              </a:rPr>
              <a:t>μ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，方差为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σ</a:t>
            </a:r>
            <a:r>
              <a:rPr b="1" lang="zh-CN" sz="2400" spc="-1" strike="noStrike" baseline="30000">
                <a:solidFill>
                  <a:srgbClr val="29292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/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292929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68360" y="4508640"/>
                <a:ext cx="35276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的标准差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3.2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中心极限定理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6933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755640" y="1700280"/>
            <a:ext cx="7993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理Ａ　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正态分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样本，则　与随机向量　　　　　　　　　　　相互独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1.3.3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样本方差的抽样分布</a:t>
            </a:r>
            <a:br>
              <a:rPr sz="4000"/>
            </a:b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正态总体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627280" y="2301840"/>
                <a:ext cx="423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856040" y="2349360"/>
                <a:ext cx="3600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539640" y="3284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1403280" y="3429000"/>
                <a:ext cx="7129440" cy="297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684360" y="1700280"/>
            <a:ext cx="7993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推论　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正态分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样本，则　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互独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1.3.3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样本方差的抽样分布</a:t>
            </a:r>
            <a:br>
              <a:rPr sz="4400"/>
            </a:b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正态总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195640" y="2349360"/>
                <a:ext cx="3427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340000" y="2852640"/>
                <a:ext cx="2808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908000" y="4365720"/>
                <a:ext cx="53866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539640" y="2852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定理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37162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首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5640" y="4508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再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00000" y="5516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记做                 </a:t>
            </a:r>
            <a:r>
              <a:rPr b="0" i="1" lang="zh-CN" sz="2400" spc="-1" strike="noStrike">
                <a:solidFill>
                  <a:srgbClr val="292929"/>
                </a:solidFill>
                <a:latin typeface="Times New Roman"/>
              </a:rPr>
              <a:t>W     =            U+               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979640" y="3429000"/>
                <a:ext cx="4464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6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828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散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联合概率函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187280" y="4292640"/>
                <a:ext cx="6985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⋯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4360" y="515772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则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其联合概率密度函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141720"/>
            <a:ext cx="78487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续型：联合概率密度函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存在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维非负可积函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使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1.3.3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样本方差的抽样分布</a:t>
            </a:r>
            <a:br>
              <a:rPr sz="4400"/>
            </a:b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正态总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809720" y="1925640"/>
                <a:ext cx="3384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908000" y="2708280"/>
                <a:ext cx="352764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684360" y="19162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4360" y="2708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2050920" y="4653000"/>
                <a:ext cx="3235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1.3.3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样本方差的抽样分布</a:t>
            </a:r>
            <a:br>
              <a:rPr sz="4400"/>
            </a:b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正态总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843280" y="2637000"/>
                <a:ext cx="14396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684360" y="19890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推论  对于正态总体的样本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21560" y="436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2268360" y="3716280"/>
                <a:ext cx="221796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6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773360"/>
            <a:ext cx="8351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缘分布函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随机变量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其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维联合分布函数，对正整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,2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+∞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∞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≤ +∞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≤ + ∞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边缘分布，这样的边缘分布有     个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83360" y="4894200"/>
                <a:ext cx="450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】 多项分布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Multinomial Distribution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773360"/>
            <a:ext cx="835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随机现象共有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可能的结果，第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结果出现的概率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做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独立重复实验，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第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结果出现的次数，则对给定的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非负整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,n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476360" y="3716280"/>
                <a:ext cx="504036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den>
                        </m:f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  <m:r>
                          <m:t xml:space="preserve">⋯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1280" y="587700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称为多项分布（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分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br>
              <a:rPr sz="3200"/>
            </a:b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】 多项分布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Multinomial Distribution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773360"/>
            <a:ext cx="8351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项分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际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维的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改记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76360" y="2859120"/>
                <a:ext cx="50403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den>
                        </m:f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  <m:r>
                          <m:t xml:space="preserve">⋯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68360" y="5013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显然二项分布是多项分布的边缘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br>
              <a:rPr sz="3200"/>
            </a:b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2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Farlie-Morgenstern Family (P77-79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773360"/>
            <a:ext cx="828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都是一维连续型分布函数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证明，对任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1≤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≤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{1+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1-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][1-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]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二维连续型分布函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∞)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∞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4437000"/>
            <a:ext cx="835164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[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区间的均匀分布，此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≤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≤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≤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≤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0:52:52Z</dcterms:created>
  <dc:creator>Lenovo User</dc:creator>
  <dc:description/>
  <dc:language>en-US</dc:language>
  <cp:lastModifiedBy>LiuWQ</cp:lastModifiedBy>
  <dcterms:modified xsi:type="dcterms:W3CDTF">2007-12-01T10:19:22Z</dcterms:modified>
  <cp:revision>76</cp:revision>
  <dc:subject/>
  <dc:title>幻灯片 1</dc:title>
</cp:coreProperties>
</file>