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TYPE.WAV" ContentType="audio/x-wav"/>
  <Override PartName="/ppt/media/image9.wmf" ContentType="image/x-wmf"/>
  <Override PartName="/ppt/media/image14.png" ContentType="image/png"/>
  <Override PartName="/ppt/media/image15.png" ContentType="image/png"/>
  <Override PartName="/ppt/media/image12.png" ContentType="image/png"/>
  <Override PartName="/ppt/media/image4.wmf" ContentType="image/x-wmf"/>
  <Override PartName="/ppt/media/CAMERA.WAV" ContentType="audio/x-wav"/>
  <Override PartName="/ppt/media/image7.png" ContentType="image/png"/>
  <Override PartName="/ppt/media/image1.jpeg" ContentType="image/jpeg"/>
  <Override PartName="/ppt/media/image2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media/image8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301-6EB5-4B64-801F-AF517116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BBE-CC8F-4B2C-A05E-245F5356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528-7081-450D-A136-5DCA2BB7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BAF-6B96-49EE-BB2C-914E452E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ED3-0641-4E30-BF69-142FF30D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94D-9B19-4737-AE3D-AEFC31A1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1471-5BAA-42A2-85E9-1E65161F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EDE-FA08-4FE3-94CD-6569DC4D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684-E29E-491F-AB70-9BCAC69B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BBB-8EBC-4B00-8D70-097DC94E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EC6-67E8-4A53-8C24-8B4EF5CA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6F6-1338-4796-814D-CA50AE1F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1D16-FB11-40BE-9AFB-889155AD00B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2130120"/>
            <a:ext cx="57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抽样和抽样分布</a:t>
            </a:r>
            <a:br>
              <a:rPr sz="4000"/>
            </a:b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基本计算</a:t>
            </a:r>
            <a:br>
              <a:rPr sz="4000"/>
            </a:b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Sampling &amp; Sampling distribution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0000" y="4652640"/>
            <a:ext cx="475128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数理统计课题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838080" y="3352680"/>
          <a:ext cx="7239240" cy="312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352680"/>
                    <a:ext cx="723924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6094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分布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密度函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f(y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曲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676520" y="1219320"/>
                <a:ext cx="5562360" cy="16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sup>
                                  </m:sSup>
                                  <m:r>
                                    <m:t xml:space="preserve">Γ</m:t>
                                  </m:r>
                                  <m:r>
                                    <m:t xml:space="preserve">(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n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f>
                                    <m:num>
                                      <m:r>
                                        <m:t xml:space="preserve">n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y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53352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分位点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X ~ 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lang="zh-CN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(n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，若对于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&lt;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&lt;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存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1143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满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2438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则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23623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987640" y="1125360"/>
                <a:ext cx="1676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χ</m:t>
                        </m:r>
                      </m:e>
                      <m:sub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352680" y="1676520"/>
                <a:ext cx="30481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828800" y="2438280"/>
                <a:ext cx="914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276720" y="2362320"/>
                <a:ext cx="99036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267080" y="2438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分布的上</a:t>
            </a:r>
            <a:r>
              <a:rPr b="1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尾分位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495680" y="6157800"/>
                <a:ext cx="9907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7" name=""/>
          <p:cNvGraphicFramePr/>
          <p:nvPr/>
        </p:nvGraphicFramePr>
        <p:xfrm>
          <a:off x="539640" y="2997360"/>
          <a:ext cx="701064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997360"/>
                    <a:ext cx="701064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514760" y="3327480"/>
                <a:ext cx="114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75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25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325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925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225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75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228600"/>
            <a:ext cx="79261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性质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可加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~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~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独立，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望与方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~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(X)= 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Var(X)=2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88620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构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若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~N(0, 1),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n),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独立，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743200" y="4495680"/>
                <a:ext cx="2717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ξ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η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762120" y="56973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(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称为自由度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0481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布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75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75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75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75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75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533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概率密度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143000" y="1066680"/>
                <a:ext cx="617220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π</m:t>
                            </m:r>
                          </m:e>
                        </m:rad>
                        <m:r>
                          <m:t xml:space="preserve">Γ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762120" y="2666880"/>
          <a:ext cx="7315200" cy="396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666880"/>
                    <a:ext cx="73152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75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457200"/>
            <a:ext cx="739152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性质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 f(t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=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纵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 f(t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极限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(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密度函数，即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3124080"/>
            <a:ext cx="4191120" cy="36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位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(n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若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0&lt;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1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)&gt;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满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{T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)}=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(n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上侧分位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828800" y="2209680"/>
                <a:ext cx="4952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2" name=""/>
          <p:cNvGraphicFramePr/>
          <p:nvPr/>
        </p:nvGraphicFramePr>
        <p:xfrm>
          <a:off x="4419720" y="3200400"/>
          <a:ext cx="472428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3200400"/>
                    <a:ext cx="47242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7543800" y="6172200"/>
                <a:ext cx="711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75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75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75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75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75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75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75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75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762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76520" y="762120"/>
                <a:ext cx="2698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7" name=""/>
          <p:cNvGraphicFramePr/>
          <p:nvPr/>
        </p:nvGraphicFramePr>
        <p:xfrm>
          <a:off x="1600200" y="1828800"/>
          <a:ext cx="5119560" cy="30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828800"/>
                    <a:ext cx="511956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209680" y="4952880"/>
                <a:ext cx="11923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952880" y="5029200"/>
                <a:ext cx="981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e7960"/>
                </a:solidFill>
                <a:latin typeface="Arial"/>
              </a:rPr>
              <a:t>三、</a:t>
            </a:r>
            <a:r>
              <a:rPr b="1" lang="zh-CN" sz="4000" spc="-1" strike="noStrike">
                <a:solidFill>
                  <a:srgbClr val="be7960"/>
                </a:solidFill>
                <a:latin typeface="Arial"/>
              </a:rPr>
              <a:t>F</a:t>
            </a:r>
            <a:r>
              <a:rPr b="1" lang="zh-CN" sz="4000" spc="-1" strike="noStrike">
                <a:solidFill>
                  <a:srgbClr val="be7960"/>
                </a:solidFill>
                <a:latin typeface="Arial"/>
              </a:rPr>
              <a:t>分布</a:t>
            </a:r>
            <a:r>
              <a:rPr b="1" lang="zh-CN" sz="4400" spc="-1" strike="noStrike">
                <a:solidFill>
                  <a:srgbClr val="dfd293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1557360"/>
            <a:ext cx="78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构造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~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独立，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057400" y="2133720"/>
                <a:ext cx="4267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85800" y="327672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称为第一自由度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第二自由度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概率密度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23880" y="4292640"/>
                <a:ext cx="5562720" cy="18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Γ</m:t>
                                  </m:r>
                                  <m:r>
                                    <m:t xml:space="preserve">(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+</m:t>
                                      </m:r>
                                      <m:r>
                                        <m:t xml:space="preserve">n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  <m:r>
                                    <m:t xml:space="preserve">(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sSub>
                                            <m:e>
                                              <m:r>
                                                <m:t xml:space="preserve">n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p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n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Γ</m:t>
                                  </m:r>
                                  <m:r>
                                    <m:t xml:space="preserve">(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  <m:r>
                                    <m:t xml:space="preserve">Γ</m:t>
                                  </m:r>
                                  <m:r>
                                    <m:t xml:space="preserve">(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y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)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sup>
                                  </m:sSup>
                                </m:den>
                              </m:f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7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7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68360" y="1628640"/>
            <a:ext cx="4038480" cy="51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F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布的分位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&lt;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存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&gt;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{F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}=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则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侧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位点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629400" y="5257800"/>
                <a:ext cx="1143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8" name=""/>
          <p:cNvGraphicFramePr/>
          <p:nvPr/>
        </p:nvGraphicFramePr>
        <p:xfrm>
          <a:off x="4648320" y="1676520"/>
          <a:ext cx="3933720" cy="35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676520"/>
                    <a:ext cx="39337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75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75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75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75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75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75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75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80880" y="2819520"/>
                <a:ext cx="46260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380880" y="1676520"/>
            <a:ext cx="365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证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F~F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,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86000" y="228600"/>
                <a:ext cx="36576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533520" y="380880"/>
            <a:ext cx="99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注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57200" y="3962520"/>
                <a:ext cx="47340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724280" y="1523880"/>
                <a:ext cx="213372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419720" y="4876920"/>
                <a:ext cx="423216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800600" y="3276720"/>
                <a:ext cx="394488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5791320" y="5029200"/>
            <a:ext cx="1981080" cy="1143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3352680"/>
            <a:ext cx="1981440" cy="1143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57913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得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293"/>
                </a:solidFill>
                <a:latin typeface="Arial"/>
              </a:rPr>
              <a:t>4.3 </a:t>
            </a:r>
            <a:r>
              <a:rPr b="1" lang="zh-CN" sz="4000" spc="-1" strike="noStrike">
                <a:solidFill>
                  <a:srgbClr val="dfd293"/>
                </a:solidFill>
                <a:latin typeface="Arial"/>
              </a:rPr>
              <a:t>正态总体的抽样分布定理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79600" y="1430280"/>
                <a:ext cx="758340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若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X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iid</m:t>
                        </m:r>
                      </m:lim>
                    </m:limUpp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则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33520" y="2743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证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835280" y="2637000"/>
                <a:ext cx="21333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57200" y="38098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个独立的正态随机变量的线性组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故服从正态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343400" y="2666880"/>
                <a:ext cx="39625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064040" y="3811680"/>
                <a:ext cx="46735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62120" y="5257800"/>
                <a:ext cx="30477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m>
                      <m:mr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343400" y="5257800"/>
                <a:ext cx="29354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1640" y="549360"/>
            <a:ext cx="739116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来自总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随机样本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 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…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记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514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显然，样本联合分布函数或密度函数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724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124000" y="1628640"/>
          <a:ext cx="4103640" cy="68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1628640"/>
                    <a:ext cx="410364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692360" y="3068640"/>
          <a:ext cx="5154480" cy="1136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3068640"/>
                    <a:ext cx="515448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124000" y="4365720"/>
          <a:ext cx="4969080" cy="1119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4365720"/>
                    <a:ext cx="496908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825480" y="4940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4365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50920" y="0"/>
                <a:ext cx="446400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若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id</m:t>
                            </m:r>
                          </m:lim>
                        </m:limUp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则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与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相互独立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4000" y="1413000"/>
                <a:ext cx="36003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4000" y="2133720"/>
                <a:ext cx="34560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950080" y="4809960"/>
                <a:ext cx="1434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68360" y="3284640"/>
                <a:ext cx="34560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284720" y="3284640"/>
                <a:ext cx="38307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643280" y="4365720"/>
                <a:ext cx="297180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187280" y="5373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450864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独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布的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900000" y="1700280"/>
                <a:ext cx="6480360" cy="20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若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id</m:t>
                            </m:r>
                          </m:lim>
                        </m:limUpp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id</m:t>
                            </m:r>
                          </m:lim>
                        </m:limUpp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且两样本独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则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971640" y="3860640"/>
                <a:ext cx="6553080" cy="265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进一步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假定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就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其中</m:t>
                        </m:r>
                      </m:e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称为混合样本方差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57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总体、样本、样本观察值的关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1600200"/>
            <a:ext cx="1981080" cy="6094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总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2209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276720"/>
            <a:ext cx="2057400" cy="6094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样本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6576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3200400"/>
            <a:ext cx="3048120" cy="6094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样本观察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886200" y="2209680"/>
            <a:ext cx="12952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24280" y="2286000"/>
            <a:ext cx="4572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600200"/>
            <a:ext cx="3581280" cy="4572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理论分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42670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统计是从手中已有的资料——样本观察值，去推断总体的情况——总体分布。样本是联系两者的桥梁。总体分布决定了样本取值的概率规律，也就是样本取到样本观察值的规律，因而可以用样本观察值去推断总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抽样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简单随机抽样：抽取样本量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样本，分为有放回的抽样和无放回的抽样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观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ospita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不同抽样样本量下统计量    的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692360" y="3041640"/>
            <a:ext cx="5391000" cy="381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689880" y="2031840"/>
                <a:ext cx="468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293"/>
                </a:solidFill>
                <a:latin typeface="Arial"/>
                <a:ea typeface="楷体_GB2312"/>
              </a:rPr>
              <a:t>二、统计量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050920" y="3716280"/>
          <a:ext cx="4176720" cy="120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3716280"/>
                    <a:ext cx="417672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80880" y="1484280"/>
            <a:ext cx="85122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定义：称样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 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…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的函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g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 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…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是总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的一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统计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如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g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 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…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不含 未知 参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34640" y="2997360"/>
            <a:ext cx="3594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个常用的统计量 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124000" y="4581360"/>
          <a:ext cx="5257800" cy="186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4581360"/>
                    <a:ext cx="52578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75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3816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中心极限定理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042920" y="836280"/>
            <a:ext cx="1905120" cy="5727600"/>
            <a:chOff x="1042920" y="836280"/>
            <a:chExt cx="1905120" cy="5727600"/>
          </a:xfrm>
        </p:grpSpPr>
        <p:grpSp>
          <p:nvGrpSpPr>
            <p:cNvPr id="79" name=""/>
            <p:cNvGrpSpPr/>
            <p:nvPr/>
          </p:nvGrpSpPr>
          <p:grpSpPr>
            <a:xfrm>
              <a:off x="1042920" y="836280"/>
              <a:ext cx="1600200" cy="1392480"/>
              <a:chOff x="1042920" y="836280"/>
              <a:chExt cx="1600200" cy="1392480"/>
            </a:xfrm>
          </p:grpSpPr>
          <p:sp>
            <p:nvSpPr>
              <p:cNvPr id="80" name=""/>
              <p:cNvSpPr/>
              <p:nvPr/>
            </p:nvSpPr>
            <p:spPr>
              <a:xfrm>
                <a:off x="1042920" y="2228760"/>
                <a:ext cx="160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1042920" y="836280"/>
                <a:ext cx="0" cy="139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119240" y="3034080"/>
              <a:ext cx="1600200" cy="1392480"/>
              <a:chOff x="1119240" y="3034080"/>
              <a:chExt cx="1600200" cy="1392480"/>
            </a:xfrm>
          </p:grpSpPr>
          <p:sp>
            <p:nvSpPr>
              <p:cNvPr id="83" name=""/>
              <p:cNvSpPr/>
              <p:nvPr/>
            </p:nvSpPr>
            <p:spPr>
              <a:xfrm>
                <a:off x="1119240" y="4426560"/>
                <a:ext cx="160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1119240" y="3034080"/>
                <a:ext cx="0" cy="139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119240" y="5159520"/>
              <a:ext cx="1600200" cy="1391760"/>
              <a:chOff x="1119240" y="5159520"/>
              <a:chExt cx="1600200" cy="1391760"/>
            </a:xfrm>
          </p:grpSpPr>
          <p:sp>
            <p:nvSpPr>
              <p:cNvPr id="86" name=""/>
              <p:cNvSpPr/>
              <p:nvPr/>
            </p:nvSpPr>
            <p:spPr>
              <a:xfrm>
                <a:off x="1119240" y="6551280"/>
                <a:ext cx="160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1119240" y="5159520"/>
                <a:ext cx="0" cy="139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2338560" y="2228760"/>
              <a:ext cx="609480" cy="459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62240" y="4500360"/>
              <a:ext cx="609480" cy="459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47840" y="1422720"/>
              <a:ext cx="1066680" cy="80568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24160" y="5526000"/>
              <a:ext cx="761760" cy="1037880"/>
            </a:xfrm>
            <a:custGeom>
              <a:avLst/>
              <a:gdLst/>
              <a:ahLst/>
              <a:rect l="l" t="t" r="r" b="b"/>
              <a:pathLst>
                <a:path w="1008" h="1112">
                  <a:moveTo>
                    <a:pt x="0" y="1112"/>
                  </a:moveTo>
                  <a:cubicBezTo>
                    <a:pt x="104" y="1060"/>
                    <a:pt x="208" y="1008"/>
                    <a:pt x="288" y="824"/>
                  </a:cubicBezTo>
                  <a:cubicBezTo>
                    <a:pt x="368" y="640"/>
                    <a:pt x="400" y="0"/>
                    <a:pt x="480" y="8"/>
                  </a:cubicBezTo>
                  <a:cubicBezTo>
                    <a:pt x="560" y="16"/>
                    <a:pt x="680" y="696"/>
                    <a:pt x="768" y="872"/>
                  </a:cubicBezTo>
                  <a:cubicBezTo>
                    <a:pt x="856" y="1048"/>
                    <a:pt x="968" y="1032"/>
                    <a:pt x="1008" y="1064"/>
                  </a:cubicBezTo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76440" y="3401280"/>
              <a:ext cx="838080" cy="1025640"/>
            </a:xfrm>
            <a:prstGeom prst="rtTriangle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873600" y="749160"/>
            <a:ext cx="1904400" cy="5727600"/>
            <a:chOff x="3873600" y="749160"/>
            <a:chExt cx="1904400" cy="5727600"/>
          </a:xfrm>
        </p:grpSpPr>
        <p:grpSp>
          <p:nvGrpSpPr>
            <p:cNvPr id="94" name=""/>
            <p:cNvGrpSpPr/>
            <p:nvPr/>
          </p:nvGrpSpPr>
          <p:grpSpPr>
            <a:xfrm>
              <a:off x="3873600" y="749160"/>
              <a:ext cx="1599840" cy="1391760"/>
              <a:chOff x="3873600" y="749160"/>
              <a:chExt cx="1599840" cy="1391760"/>
            </a:xfrm>
          </p:grpSpPr>
          <p:sp>
            <p:nvSpPr>
              <p:cNvPr id="95" name=""/>
              <p:cNvSpPr/>
              <p:nvPr/>
            </p:nvSpPr>
            <p:spPr>
              <a:xfrm>
                <a:off x="3873600" y="2140920"/>
                <a:ext cx="159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3873600" y="749160"/>
                <a:ext cx="0" cy="139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949560" y="2947320"/>
              <a:ext cx="1599840" cy="1391760"/>
              <a:chOff x="3949560" y="2947320"/>
              <a:chExt cx="1599840" cy="1391760"/>
            </a:xfrm>
          </p:grpSpPr>
          <p:sp>
            <p:nvSpPr>
              <p:cNvPr id="98" name=""/>
              <p:cNvSpPr/>
              <p:nvPr/>
            </p:nvSpPr>
            <p:spPr>
              <a:xfrm>
                <a:off x="3949560" y="4339080"/>
                <a:ext cx="159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3949560" y="2947320"/>
                <a:ext cx="0" cy="139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949560" y="5072040"/>
              <a:ext cx="1599840" cy="1392480"/>
              <a:chOff x="3949560" y="5072040"/>
              <a:chExt cx="1599840" cy="1392480"/>
            </a:xfrm>
          </p:grpSpPr>
          <p:sp>
            <p:nvSpPr>
              <p:cNvPr id="101" name=""/>
              <p:cNvSpPr/>
              <p:nvPr/>
            </p:nvSpPr>
            <p:spPr>
              <a:xfrm>
                <a:off x="3949560" y="6464520"/>
                <a:ext cx="159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3949560" y="5072040"/>
                <a:ext cx="0" cy="139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4939920" y="2140920"/>
              <a:ext cx="609480" cy="459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68520" y="4339440"/>
              <a:ext cx="609480" cy="459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54120" y="1335240"/>
              <a:ext cx="990360" cy="805680"/>
            </a:xfrm>
            <a:prstGeom prst="triangle">
              <a:avLst>
                <a:gd name="adj" fmla="val 50000"/>
              </a:avLst>
            </a:prstGeom>
            <a:solidFill>
              <a:srgbClr val="dfd2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78160" y="3387240"/>
              <a:ext cx="1066320" cy="988920"/>
            </a:xfrm>
            <a:custGeom>
              <a:avLst/>
              <a:gdLst/>
              <a:ahLst/>
              <a:rect l="l" t="t" r="r" b="b"/>
              <a:pathLst>
                <a:path w="984" h="648">
                  <a:moveTo>
                    <a:pt x="0" y="640"/>
                  </a:moveTo>
                  <a:cubicBezTo>
                    <a:pt x="16" y="336"/>
                    <a:pt x="32" y="32"/>
                    <a:pt x="144" y="16"/>
                  </a:cubicBezTo>
                  <a:cubicBezTo>
                    <a:pt x="256" y="0"/>
                    <a:pt x="536" y="440"/>
                    <a:pt x="672" y="544"/>
                  </a:cubicBezTo>
                  <a:cubicBezTo>
                    <a:pt x="808" y="648"/>
                    <a:pt x="936" y="632"/>
                    <a:pt x="960" y="640"/>
                  </a:cubicBezTo>
                  <a:cubicBezTo>
                    <a:pt x="984" y="648"/>
                    <a:pt x="900" y="620"/>
                    <a:pt x="816" y="592"/>
                  </a:cubicBezTo>
                </a:path>
              </a:pathLst>
            </a:custGeom>
            <a:solidFill>
              <a:srgbClr val="dfd29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78160" y="5438520"/>
              <a:ext cx="1066320" cy="1038240"/>
            </a:xfrm>
            <a:custGeom>
              <a:avLst/>
              <a:gdLst/>
              <a:ahLst/>
              <a:rect l="l" t="t" r="r" b="b"/>
              <a:pathLst>
                <a:path w="1008" h="1112">
                  <a:moveTo>
                    <a:pt x="0" y="1112"/>
                  </a:moveTo>
                  <a:cubicBezTo>
                    <a:pt x="104" y="1060"/>
                    <a:pt x="208" y="1008"/>
                    <a:pt x="288" y="824"/>
                  </a:cubicBezTo>
                  <a:cubicBezTo>
                    <a:pt x="368" y="640"/>
                    <a:pt x="400" y="0"/>
                    <a:pt x="480" y="8"/>
                  </a:cubicBezTo>
                  <a:cubicBezTo>
                    <a:pt x="560" y="16"/>
                    <a:pt x="680" y="696"/>
                    <a:pt x="768" y="872"/>
                  </a:cubicBezTo>
                  <a:cubicBezTo>
                    <a:pt x="856" y="1048"/>
                    <a:pt x="968" y="1032"/>
                    <a:pt x="1008" y="1064"/>
                  </a:cubicBezTo>
                </a:path>
              </a:pathLst>
            </a:custGeom>
            <a:solidFill>
              <a:srgbClr val="dfd29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540480" y="825480"/>
            <a:ext cx="1980720" cy="5638320"/>
            <a:chOff x="6540480" y="825480"/>
            <a:chExt cx="1980720" cy="5638320"/>
          </a:xfrm>
        </p:grpSpPr>
        <p:grpSp>
          <p:nvGrpSpPr>
            <p:cNvPr id="109" name=""/>
            <p:cNvGrpSpPr/>
            <p:nvPr/>
          </p:nvGrpSpPr>
          <p:grpSpPr>
            <a:xfrm>
              <a:off x="6540480" y="825480"/>
              <a:ext cx="1599840" cy="1373040"/>
              <a:chOff x="6540480" y="825480"/>
              <a:chExt cx="1599840" cy="1373040"/>
            </a:xfrm>
          </p:grpSpPr>
          <p:sp>
            <p:nvSpPr>
              <p:cNvPr id="110" name=""/>
              <p:cNvSpPr/>
              <p:nvPr/>
            </p:nvSpPr>
            <p:spPr>
              <a:xfrm>
                <a:off x="6540480" y="2198520"/>
                <a:ext cx="159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6540480" y="825480"/>
                <a:ext cx="0" cy="137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616440" y="2994120"/>
              <a:ext cx="1599840" cy="1373040"/>
              <a:chOff x="6616440" y="2994120"/>
              <a:chExt cx="1599840" cy="1373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616440" y="4367160"/>
                <a:ext cx="159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616440" y="2994120"/>
                <a:ext cx="0" cy="137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6616440" y="5090040"/>
              <a:ext cx="1599840" cy="1373760"/>
              <a:chOff x="6616440" y="5090040"/>
              <a:chExt cx="1599840" cy="1373760"/>
            </a:xfrm>
          </p:grpSpPr>
          <p:sp>
            <p:nvSpPr>
              <p:cNvPr id="116" name=""/>
              <p:cNvSpPr/>
              <p:nvPr/>
            </p:nvSpPr>
            <p:spPr>
              <a:xfrm>
                <a:off x="6616440" y="6463800"/>
                <a:ext cx="159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6616440" y="5090040"/>
                <a:ext cx="0" cy="137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759440" y="2198520"/>
              <a:ext cx="609120" cy="459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7911720" y="4414680"/>
              <a:ext cx="609480" cy="459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16440" y="5439600"/>
              <a:ext cx="1371240" cy="1024200"/>
            </a:xfrm>
            <a:custGeom>
              <a:avLst/>
              <a:gdLst/>
              <a:ahLst/>
              <a:rect l="l" t="t" r="r" b="b"/>
              <a:pathLst>
                <a:path w="1008" h="1112">
                  <a:moveTo>
                    <a:pt x="0" y="1112"/>
                  </a:moveTo>
                  <a:cubicBezTo>
                    <a:pt x="104" y="1060"/>
                    <a:pt x="208" y="1008"/>
                    <a:pt x="288" y="824"/>
                  </a:cubicBezTo>
                  <a:cubicBezTo>
                    <a:pt x="368" y="640"/>
                    <a:pt x="400" y="0"/>
                    <a:pt x="480" y="8"/>
                  </a:cubicBezTo>
                  <a:cubicBezTo>
                    <a:pt x="560" y="16"/>
                    <a:pt x="680" y="696"/>
                    <a:pt x="768" y="872"/>
                  </a:cubicBezTo>
                  <a:cubicBezTo>
                    <a:pt x="856" y="1048"/>
                    <a:pt x="968" y="1032"/>
                    <a:pt x="1008" y="1064"/>
                  </a:cubicBezTo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16440" y="3393000"/>
              <a:ext cx="1371240" cy="1024200"/>
            </a:xfrm>
            <a:custGeom>
              <a:avLst/>
              <a:gdLst/>
              <a:ahLst/>
              <a:rect l="l" t="t" r="r" b="b"/>
              <a:pathLst>
                <a:path w="1008" h="1112">
                  <a:moveTo>
                    <a:pt x="0" y="1112"/>
                  </a:moveTo>
                  <a:cubicBezTo>
                    <a:pt x="104" y="1060"/>
                    <a:pt x="208" y="1008"/>
                    <a:pt x="288" y="824"/>
                  </a:cubicBezTo>
                  <a:cubicBezTo>
                    <a:pt x="368" y="640"/>
                    <a:pt x="400" y="0"/>
                    <a:pt x="480" y="8"/>
                  </a:cubicBezTo>
                  <a:cubicBezTo>
                    <a:pt x="560" y="16"/>
                    <a:pt x="680" y="696"/>
                    <a:pt x="768" y="872"/>
                  </a:cubicBezTo>
                  <a:cubicBezTo>
                    <a:pt x="856" y="1048"/>
                    <a:pt x="968" y="1032"/>
                    <a:pt x="1008" y="1064"/>
                  </a:cubicBezTo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92680" y="1201680"/>
              <a:ext cx="1371240" cy="1024200"/>
            </a:xfrm>
            <a:custGeom>
              <a:avLst/>
              <a:gdLst/>
              <a:ahLst/>
              <a:rect l="l" t="t" r="r" b="b"/>
              <a:pathLst>
                <a:path w="1008" h="1112">
                  <a:moveTo>
                    <a:pt x="0" y="1112"/>
                  </a:moveTo>
                  <a:cubicBezTo>
                    <a:pt x="104" y="1060"/>
                    <a:pt x="208" y="1008"/>
                    <a:pt x="288" y="824"/>
                  </a:cubicBezTo>
                  <a:cubicBezTo>
                    <a:pt x="368" y="640"/>
                    <a:pt x="400" y="0"/>
                    <a:pt x="480" y="8"/>
                  </a:cubicBezTo>
                  <a:cubicBezTo>
                    <a:pt x="560" y="16"/>
                    <a:pt x="680" y="696"/>
                    <a:pt x="768" y="872"/>
                  </a:cubicBezTo>
                  <a:cubicBezTo>
                    <a:pt x="856" y="1048"/>
                    <a:pt x="968" y="1032"/>
                    <a:pt x="1008" y="1064"/>
                  </a:cubicBezTo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882880" y="3720960"/>
            <a:ext cx="762120" cy="457200"/>
          </a:xfrm>
          <a:custGeom>
            <a:avLst/>
            <a:gdLst>
              <a:gd name="textAreaLeft" fmla="*/ 0 w 762120"/>
              <a:gd name="textAreaRight" fmla="*/ 762480 w 7621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02400" y="3797280"/>
            <a:ext cx="761760" cy="457200"/>
          </a:xfrm>
          <a:custGeom>
            <a:avLst/>
            <a:gdLst>
              <a:gd name="textAreaLeft" fmla="*/ 0 w 761760"/>
              <a:gd name="textAreaRight" fmla="*/ 762120 w 761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06360" y="444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总体分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49560" y="520560"/>
            <a:ext cx="182880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抽样分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较小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49960" y="520560"/>
            <a:ext cx="182880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抽样分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较大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6600" y="21970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45200" y="440676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17000" y="44830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35760" y="22734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79640" y="1628640"/>
            <a:ext cx="4176720" cy="1944720"/>
          </a:xfrm>
          <a:prstGeom prst="rect">
            <a:avLst/>
          </a:prstGeom>
          <a:solidFill>
            <a:srgbClr val="dfd2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120760" y="1593720"/>
                <a:ext cx="3803760" cy="19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原点矩</m:t>
                        </m:r>
                        <m:r>
                          <m:t xml:space="preserve"> </m:t>
                        </m:r>
                        <m:sSub>
                          <m:e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中心矩</m:t>
                        </m:r>
                        <m:r>
                          <m:t xml:space="preserve"> </m:t>
                        </m:r>
                        <m:sSub>
                          <m:e>
                            <m:limUpp>
                              <m:e>
                                <m:r>
                                  <m:t xml:space="preserve">B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85800" y="8380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样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k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阶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性质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93116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84360" y="1916280"/>
                <a:ext cx="6553080" cy="20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重复抽样：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不重复抽样：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（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）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55640" y="3573360"/>
                <a:ext cx="4859280" cy="26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重复抽样：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但是，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nary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≠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691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293"/>
                </a:solidFill>
                <a:latin typeface="Arial"/>
              </a:rPr>
              <a:t>2  </a:t>
            </a:r>
            <a:r>
              <a:rPr b="1" lang="zh-CN" sz="4000" spc="-1" strike="noStrike">
                <a:solidFill>
                  <a:srgbClr val="dfd293"/>
                </a:solidFill>
                <a:latin typeface="Arial"/>
              </a:rPr>
              <a:t>抽样分布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440" y="33523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、  </a:t>
            </a:r>
            <a:r>
              <a:rPr b="0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lang="zh-CN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分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3716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统计量的分布称为抽样分布。数理统计中常用到如下三个分布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布、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—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布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布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5800" y="4191120"/>
                <a:ext cx="80773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构造</m:t>
                        </m:r>
                        <m:r>
                          <m:t xml:space="preserve"> </m:t>
                        </m:r>
                        <m:r>
                          <m:t xml:space="preserve">设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id</m:t>
                            </m:r>
                          </m:lim>
                        </m:limUp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则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e>
                        </m:nary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称为自由度为</m:t>
                        </m:r>
                        <m:sSup>
                          <m:e>
                            <m:r>
                              <m:t xml:space="preserve">n的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分布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75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75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0:52:52Z</dcterms:created>
  <dc:creator>Lenovo User</dc:creator>
  <dc:description/>
  <dc:language>en-US</dc:language>
  <cp:lastModifiedBy>雨林木风</cp:lastModifiedBy>
  <dcterms:modified xsi:type="dcterms:W3CDTF">2009-03-28T13:29:52Z</dcterms:modified>
  <cp:revision>94</cp:revision>
  <dc:subject/>
  <dc:title>幻灯片 1</dc:title>
</cp:coreProperties>
</file>