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AC4E-1BA2-483C-B698-7F16025E61F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应用场景决定知识储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可供选择的包及我们的选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高性能计算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ask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cran.r-project.org/web/views/HighPerformanceComputing.html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（写扩展、并行计算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ction3.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pply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：非计算密集时跟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o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差不多，因为瓶颈在分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fall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其适用环境：各子线程是计算密集型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的优势在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ackag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众多，弊病则在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ackag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的良莠不全。所谓成也萧何，败也萧何。很多包是基于研究目的而设计，实现没有过多考虑性能问题，有些甚至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BUG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。可喜的是都是开源的，发现问题可以自己加以改进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初识向量化，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tlab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转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因缘。数据挖掘、算法人员的绝佳助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很慢的循环速度，跟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tlab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一样的面向科学计算目的，并不直接适用于工程应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出路跟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tlab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一致，有一失必其要有一得，总有一扇窗户通向你所要去的地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原生的支持：向量运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而简单，事实上我们经常接触到，只是没有过多注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硬件支持（如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ntel mmx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软件上的支持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blas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演示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blas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对矩阵相乘的并行支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向量化也是现代大型计算机的基本特点，因为易于并行计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p-reduc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简介。类比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pply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相当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p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，矢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矩阵运算相当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re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原因：向量化后的算法具有天然的可并行性，这类算法的可扩展性很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实战案例：稀疏矩阵不同行的各元素减去某个值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ction2.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27E6-97D2-4A3A-B7F8-FF754593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BAA0-E9AE-43E4-9834-31117D78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293B-F9E0-46BD-839C-8DC27A5E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5558-8501-400D-BCA9-4386847DC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CB44-E20C-4717-A2A3-F10D9249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E09C-6CF4-4A28-ACDB-55D6E709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49A9-BAFC-4106-AA48-64650133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3D97-6D9B-4473-8AFE-5971571F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63E2-A80A-4A74-B98E-4DF0D407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0E72-60DF-49B8-B972-A93B4A08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2F6F-FF7C-41F4-9583-6DE9650D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2C2A-CD30-41B0-A06B-E9BF8BAC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AF7C-6984-4342-AA4A-FC87806E088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wentrue.net/blog/?p=945" TargetMode="External"/><Relationship Id="rId4" Type="http://schemas.openxmlformats.org/officeDocument/2006/relationships/hyperlink" Target="http://www.wentrue.net/blog/?p=945" TargetMode="External"/><Relationship Id="rId5" Type="http://schemas.openxmlformats.org/officeDocument/2006/relationships/hyperlink" Target="http://www.wentrue.net/blog/?p=945" TargetMode="External"/><Relationship Id="rId6" Type="http://schemas.openxmlformats.org/officeDocument/2006/relationships/hyperlink" Target="http://www.wentrue.net/blog/?tag=r" TargetMode="External"/><Relationship Id="rId7" Type="http://schemas.openxmlformats.org/officeDocument/2006/relationships/hyperlink" Target="http://www.wentrue.net/blog/?tag=r" TargetMode="External"/><Relationship Id="rId8" Type="http://schemas.openxmlformats.org/officeDocument/2006/relationships/hyperlink" Target="http://www.wentrue.net/blog/?tag=r" TargetMode="External"/><Relationship Id="rId9" Type="http://schemas.openxmlformats.org/officeDocument/2006/relationships/hyperlink" Target="http://www.douban.com/people/wentrue/" TargetMode="External"/><Relationship Id="rId10" Type="http://schemas.openxmlformats.org/officeDocument/2006/relationships/hyperlink" Target="http://www.douban.com/people/wentrue/" TargetMode="External"/><Relationship Id="rId11" Type="http://schemas.openxmlformats.org/officeDocument/2006/relationships/hyperlink" Target="http://www.douban.com/people/wentrue/" TargetMode="External"/><Relationship Id="rId1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371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7481880"/>
            <a:ext cx="10159920" cy="138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6400" y="2417760"/>
            <a:ext cx="8547120" cy="15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Arial"/>
                <a:ea typeface="宋体"/>
              </a:rPr>
              <a:t>加速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zh-CN" sz="5500" spc="-1" strike="noStrike">
                <a:solidFill>
                  <a:srgbClr val="000000"/>
                </a:solidFill>
                <a:latin typeface="Arial"/>
                <a:ea typeface="宋体"/>
              </a:rPr>
              <a:t>，向量化与并行计算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85960" y="4673520"/>
            <a:ext cx="50072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阿稳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entru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算法攻城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@Dou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371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7481880"/>
            <a:ext cx="10159920" cy="1382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4000" y="3017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我已经做了向量化转换了，它还是慢！！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371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7481880"/>
            <a:ext cx="10159920" cy="1382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74880" y="2154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那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…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把它并行了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47600" y="414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向量化是并行计算天然的先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371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7481880"/>
            <a:ext cx="10159920" cy="1382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82720" y="29541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我们的选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371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7481880"/>
            <a:ext cx="10159920" cy="1382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82720" y="2895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关于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snowfall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的一个试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371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7481880"/>
            <a:ext cx="10159920" cy="1382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27080" y="2811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优化之路任重而道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371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7481880"/>
            <a:ext cx="10159920" cy="1382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47600" y="2666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终极原则：过早的优化是魔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3715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7481880"/>
            <a:ext cx="10159920" cy="138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42520" y="179388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11240" y="18651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95840" y="39546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谢谢收听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02000" y="5713560"/>
            <a:ext cx="527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更多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4"/>
              </a:rPr>
              <a:t>www.wentrue.net/blog/?p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5"/>
              </a:rPr>
              <a:t>=9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6"/>
              </a:rPr>
              <a:t>http:/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7"/>
              </a:rPr>
              <a:t>www.wentrue.net/blog/?tag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8"/>
              </a:rPr>
              <a:t>=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9"/>
              </a:rPr>
              <a:t>http:/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0"/>
              </a:rPr>
              <a:t>www.douban.com/people/wentrue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1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371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7481880"/>
            <a:ext cx="10159920" cy="138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89360" y="3047760"/>
            <a:ext cx="4944960" cy="10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宋体"/>
                <a:ea typeface="宋体"/>
              </a:rPr>
              <a:t>从</a:t>
            </a:r>
            <a:r>
              <a:rPr b="0" lang="en-US" sz="5500" spc="-1" strike="noStrike">
                <a:solidFill>
                  <a:srgbClr val="000000"/>
                </a:solidFill>
                <a:latin typeface="宋体"/>
                <a:ea typeface="宋体"/>
              </a:rPr>
              <a:t>Matlab</a:t>
            </a:r>
            <a:r>
              <a:rPr b="0" lang="zh-CN" sz="5500" spc="-1" strike="noStrike">
                <a:solidFill>
                  <a:srgbClr val="000000"/>
                </a:solidFill>
                <a:latin typeface="宋体"/>
                <a:ea typeface="宋体"/>
              </a:rPr>
              <a:t>到</a:t>
            </a:r>
            <a:r>
              <a:rPr b="0" lang="en-US" sz="55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371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7481880"/>
            <a:ext cx="10159920" cy="138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54000" y="2819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的困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371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7481880"/>
            <a:ext cx="10159920" cy="1382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42520" y="179388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7600" y="273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解决方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371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7481880"/>
            <a:ext cx="10159920" cy="1382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42520" y="179388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47600" y="273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ization is the more limited process of converting a computer program from a scalar implementation, which processes a single pair of operands at a time, to a vector implementation which processes one operation on multiple pairs of operands at once. The term comes from the convention of putting operands into vectors or array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371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7481880"/>
            <a:ext cx="10159920" cy="1382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03240" y="56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向量化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@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1960" y="222552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向量取值：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V[1: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向量赋值：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V[1:10] &lt;- seq(1,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pply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系列：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pply(A, 1, me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矩阵运算：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 + B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 %*%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371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7481880"/>
            <a:ext cx="10159920" cy="1382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42520" y="353880"/>
            <a:ext cx="905508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54000" y="2819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为什么要这样做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371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7481880"/>
            <a:ext cx="10159920" cy="1382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2520" y="353880"/>
            <a:ext cx="905508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54000" y="2819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map-reduc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371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7481880"/>
            <a:ext cx="10159920" cy="138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03240" y="287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算法设计范型：向量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wen</cp:lastModifiedBy>
  <dcterms:modified xsi:type="dcterms:W3CDTF">2010-06-19T03:07:56Z</dcterms:modified>
  <cp:revision>70</cp:revision>
  <dc:subject/>
  <dc:title>PowerPoint Presentation</dc:title>
</cp:coreProperties>
</file>