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3841920"/>
            <a:ext cx="74340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44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3841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60440" y="3841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64800" y="907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78320" y="907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3841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64800" y="3841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78320" y="3841920"/>
            <a:ext cx="239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627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0440" y="907920"/>
            <a:ext cx="3627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188640"/>
            <a:ext cx="763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0440" y="907920"/>
            <a:ext cx="3627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3841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627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044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60440" y="3841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60440" y="907920"/>
            <a:ext cx="362772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841920"/>
            <a:ext cx="74340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69160" y="189000"/>
            <a:ext cx="1368360" cy="6119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26391" b="35286"/>
          <a:stretch/>
        </p:blipFill>
        <p:spPr>
          <a:xfrm>
            <a:off x="7778880" y="6381720"/>
            <a:ext cx="1379520" cy="432000"/>
          </a:xfrm>
          <a:prstGeom prst="rect">
            <a:avLst/>
          </a:prstGeom>
          <a:ln w="9360">
            <a:solidFill>
              <a:srgbClr val="cc99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769160" y="260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华文细黑"/>
                <a:ea typeface="华文细黑"/>
              </a:rPr>
              <a:t>R </a:t>
            </a:r>
            <a:r>
              <a:rPr b="1" lang="zh-CN" sz="1000" spc="-1" strike="noStrike">
                <a:solidFill>
                  <a:srgbClr val="0033cc"/>
                </a:solidFill>
                <a:latin typeface="华文细黑"/>
                <a:ea typeface="华文细黑"/>
              </a:rPr>
              <a:t>基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69160" y="860400"/>
            <a:ext cx="1374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Out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R</a:t>
            </a: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简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背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与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下载和安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帮助系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图形界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数据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数字，字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矩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data frame,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数据操作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属性，类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字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data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a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输入输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常用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编写</a:t>
            </a: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R</a:t>
            </a: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控制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写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统计相关的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统计分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常用的统计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99"/>
                </a:solidFill>
                <a:latin typeface="Arial"/>
                <a:ea typeface="华文细黑"/>
              </a:rPr>
              <a:t>示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28000" y="620640"/>
            <a:ext cx="1008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189000"/>
            <a:ext cx="7632720" cy="576000"/>
            <a:chOff x="108000" y="189000"/>
            <a:chExt cx="7632720" cy="576000"/>
          </a:xfrm>
        </p:grpSpPr>
        <p:sp>
          <p:nvSpPr>
            <p:cNvPr id="8" name=""/>
            <p:cNvSpPr/>
            <p:nvPr/>
          </p:nvSpPr>
          <p:spPr>
            <a:xfrm>
              <a:off x="115560" y="189000"/>
              <a:ext cx="0" cy="57600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8000" y="189000"/>
              <a:ext cx="7632720" cy="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50920" y="6526080"/>
            <a:ext cx="74548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an.r-project.org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ran.r-project.org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85228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基础培训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618480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Mango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-</a:t>
            </a: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0a4"/>
                </a:solidFill>
                <a:latin typeface="Arial Narrow"/>
                <a:ea typeface="华文细黑"/>
              </a:rPr>
              <a:t>ShangHai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数据的简单操作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960" y="1197000"/>
            <a:ext cx="6908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象属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attributes()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data.class ()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length 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改变对象属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as.character(), as.numeric(), as.factor(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as.POSIXct(), as.D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查看对象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vector.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[1],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vector.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[c(1,3)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data.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[1, 2], data.df[2, ], data.df[, 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查看缺失值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(missing value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和无限值 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(infinit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is.na(), is.nan()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is.finite(x), is.infinite(x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0040" y="3798720"/>
            <a:ext cx="133164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字符数据的操作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604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字符操作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符合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cbc”   &lt;&gt;  paste("abc", "bc", sep=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取长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char("abcccc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取子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str("abcdef", 2,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string("abcdef",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代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sub("abc", "", c("abc", "abcc", "abcbc"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分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lit(“abcd”, “c”, fixed=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0040" y="39528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2854440"/>
            <a:ext cx="7210440" cy="309564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data fram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操作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6000" y="1052280"/>
            <a:ext cx="7434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矩阵、数据框的操作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列或者行合并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cbind(), rbind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公有列合并数据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merg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据形状转化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reshap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95360" y="3389760"/>
            <a:ext cx="64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43000" y="3389760"/>
            <a:ext cx="64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3840" y="29973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bind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3053160"/>
            <a:ext cx="64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5080" y="3458160"/>
            <a:ext cx="64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88760" y="29973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rbind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28920" y="5070600"/>
            <a:ext cx="69048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2560" y="46101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ge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4800" y="5070600"/>
            <a:ext cx="86364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^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1040" y="5070600"/>
            <a:ext cx="69048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60680" y="45417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hape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5010120"/>
            <a:ext cx="193680" cy="650880"/>
          </a:xfrm>
          <a:prstGeom prst="leftRight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24560" y="4765680"/>
            <a:ext cx="14954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9440" y="4189320"/>
            <a:ext cx="471600" cy="127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6640" y="54608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54400" y="5259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90040" y="410544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特别的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ppl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函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行、列或者代替循环的操作函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apply, apply, lappy, tapply, aggregate, by,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90040" y="429264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2205000"/>
            <a:ext cx="7561440" cy="453708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数据的输入输出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7201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数据与外部设备的交互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读入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ad.table, read.csv, read.xls, scan, load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   write.table, WriteXLS, write, sav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276640"/>
            <a:ext cx="50403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read.table()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and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write.tab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2832120"/>
            <a:ext cx="2700360" cy="1280160"/>
          </a:xfrm>
          <a:prstGeom prst="rect">
            <a:avLst/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egory,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.1,0.57565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.1,0.1279008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and so forth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1520" y="2560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ample.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141720"/>
            <a:ext cx="460836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f .data &lt;- read.table(paste(DataDir,”example.csv”, sep=""), header = TRUE, sep = ",", as.is =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After processing this da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rite.table(df.summary, file=paste(ResultDir, “Summary Result.csv",sep=""), sep=",", row.names=FA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520" y="4784760"/>
            <a:ext cx="2700360" cy="1604520"/>
          </a:xfrm>
          <a:prstGeom prst="rect">
            <a:avLst/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egory,Mean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.1,0.634002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.2,0.911242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.3,0.138726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and so forth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9960" y="4329000"/>
            <a:ext cx="346320" cy="416160"/>
          </a:xfrm>
          <a:prstGeom prst="downArrow">
            <a:avLst>
              <a:gd name="adj1" fmla="val 50000"/>
              <a:gd name="adj2" fmla="val 300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9080" y="44388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f.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90040" y="4410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常用的函数汇总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基础函数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减乘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+,-, *,ˆ, /,%%,%/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逻辑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&lt; &gt;, &lt;= ,&gt;=, ==,!=, &amp;,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学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bs, sqrt, round, log, exp, sin, cos, tan, asin, acos, 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wd, getwd, se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, seq, rep, cut, table, is.element, %in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nique, order, sort, duplicated, replace, setdiff, intersect, un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ames, colnames, row.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ir, list.files, dir.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统计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ax, min, range,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um, mean, median, IQR, quantile, sd, var, cumsum, m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矩阵运算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lSums, colMeans, rowSums, rowMea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, diag, %*%, solve(a,b), eigen(x), dist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90040" y="457992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5761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写自己的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程序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618480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Mango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-</a:t>
            </a: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0a4"/>
                </a:solidFill>
                <a:latin typeface="Arial Narrow"/>
                <a:ea typeface="华文细黑"/>
              </a:rPr>
              <a:t>ShangHai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90040" y="4869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控制流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052640"/>
            <a:ext cx="6264360" cy="316692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if (te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...true stat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} 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...false statement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细黑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221000"/>
            <a:ext cx="6264360" cy="187200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细黑"/>
              </a:rPr>
              <a:t>for (var in seq) exp, while (could) exp, repeat exp, break, next, if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90040" y="257652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90040" y="5022720"/>
            <a:ext cx="133164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1280" y="3211560"/>
            <a:ext cx="6769080" cy="2521080"/>
          </a:xfrm>
          <a:prstGeom prst="rect">
            <a:avLst/>
          </a:prstGeom>
          <a:solidFill>
            <a:srgbClr val="d5f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控制流示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6374" t="46029" r="72079" b="22209"/>
          <a:stretch/>
        </p:blipFill>
        <p:spPr>
          <a:xfrm>
            <a:off x="1042920" y="3571920"/>
            <a:ext cx="2592360" cy="1728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612720" y="1268280"/>
            <a:ext cx="3384720" cy="194472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## try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x &lt;-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if(x&gt;1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print("x = 10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}  else print("x &lt;&gt; 10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1268280"/>
            <a:ext cx="3384720" cy="194472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## try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sumx &lt;-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for (x in 1: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sumx &lt;- sumx+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舒体"/>
              </a:rPr>
              <a:t>su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9970" t="61556" r="65757" b="18498"/>
          <a:stretch/>
        </p:blipFill>
        <p:spPr>
          <a:xfrm>
            <a:off x="4067280" y="3645000"/>
            <a:ext cx="2663640" cy="1368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3794040" y="43387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375080"/>
            <a:ext cx="669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0040" y="274644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90040" y="5022720"/>
            <a:ext cx="133164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创建函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5545080" cy="273672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函数名”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&lt;- function(a, b, c, …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exp(a, b, c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90040" y="51768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Outl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共五章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背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，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 VS SA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资源，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控制与更新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安装，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界面，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命令行，基本语法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对象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作空间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基础包，脚本窗口，帮助系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数据类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vecto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atri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ata fram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, ..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操作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函数调用，数值函数，字符函数，逻辑函数，缺失值函数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ata fram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 appl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函数，输入输出函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控制流，函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gument,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返回对象，创建函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统计相关的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抽样， 分布函数，常用统计分析函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90040" y="152712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创建函数示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141720"/>
            <a:ext cx="5905800" cy="25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197000"/>
            <a:ext cx="5905800" cy="1944720"/>
          </a:xfrm>
          <a:prstGeom prst="rect">
            <a:avLst/>
          </a:prstGeom>
          <a:solidFill>
            <a:srgbClr val="feeb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"myfunction" &lt;- function(x, y,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if(!is.numeric(x)|!is.numeric(y)|!is.numeric(z)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stop("parameter must be numeric 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x.list &lt;- c(sum(c(x,y,z), na.rm=T),   mean(c(x,y,z), na.rm=T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sd(c(x,y,z), na.rm=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x.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舒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0403" t="38843" r="37658" b="19143"/>
          <a:stretch/>
        </p:blipFill>
        <p:spPr>
          <a:xfrm>
            <a:off x="1187280" y="3259080"/>
            <a:ext cx="5185080" cy="2257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90040" y="51768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5761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统计相关的函数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618480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Mango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-</a:t>
            </a:r>
            <a:r>
              <a:rPr b="1" lang="zh-CN" sz="1800" spc="-1" strike="noStrike">
                <a:solidFill>
                  <a:srgbClr val="ff9933"/>
                </a:solidFill>
                <a:latin typeface="Arial Narrow"/>
                <a:ea typeface="华文细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华文细黑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0a4"/>
                </a:solidFill>
                <a:latin typeface="Arial Narrow"/>
                <a:ea typeface="华文细黑"/>
              </a:rPr>
              <a:t>ShangHai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90040" y="549756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抽样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43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ample(x, n, replace = T, prob = p)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以概率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p,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放回的从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中抽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项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78880" y="2421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90040" y="565164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分布相关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7434000" cy="79236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怎么求正态分布的密度，分为点，概率，产生随机数？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22439" t="16493" r="20471" b="5900"/>
          <a:stretch/>
        </p:blipFill>
        <p:spPr>
          <a:xfrm>
            <a:off x="1332000" y="1773360"/>
            <a:ext cx="4824360" cy="4467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8880" y="259236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90040" y="564192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基本的统计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2920" y="907560"/>
            <a:ext cx="7434360" cy="79236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均值， 标准差，中位数， 众数，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IQR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， 分位数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1917720"/>
            <a:ext cx="6573960" cy="424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均值 </a:t>
            </a:r>
            <a:r>
              <a:rPr b="0" lang="zh-CN" sz="1800" spc="-1" strike="noStrike">
                <a:solidFill>
                  <a:srgbClr val="f91807"/>
                </a:solidFill>
                <a:latin typeface="Arial"/>
                <a:ea typeface="华文细黑"/>
              </a:rPr>
              <a:t>PK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位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x &lt;- rnorm(50, 4,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hist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mean(x);median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x[10] &lt;- 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hist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mean(x);median(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53" t="36759" r="81629" b="29631"/>
          <a:stretch/>
        </p:blipFill>
        <p:spPr>
          <a:xfrm>
            <a:off x="971640" y="3790800"/>
            <a:ext cx="194472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2793960" cy="2788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778880" y="274644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检验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1760" y="1052640"/>
            <a:ext cx="7434360" cy="100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比较两个样本的均值是否相等：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例：患有某种肿瘤的大白鼠接受不同的实验处理后（对照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未服药，服抗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药），比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后体内平均存活的肿瘤细胞数是否有差异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2120" y="2071800"/>
            <a:ext cx="743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T-test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的前提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两样本独立，并且服从正态分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,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须先做同方差检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2120" y="3057480"/>
            <a:ext cx="7445520" cy="3108240"/>
          </a:xfrm>
          <a:prstGeom prst="rect">
            <a:avLst/>
          </a:prstGeom>
          <a:solidFill>
            <a:srgbClr val="feebda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的实现：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t.tes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48836" b="0"/>
          <a:stretch/>
        </p:blipFill>
        <p:spPr>
          <a:xfrm>
            <a:off x="439560" y="3935520"/>
            <a:ext cx="3095640" cy="1325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0" t="42643" r="49350" b="25878"/>
          <a:stretch/>
        </p:blipFill>
        <p:spPr>
          <a:xfrm>
            <a:off x="3635280" y="3718080"/>
            <a:ext cx="3902040" cy="2158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640" y="188640"/>
            <a:ext cx="622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方差分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2120" y="1052640"/>
            <a:ext cx="7434360" cy="100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比较多个样本的均值是否相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例：患有某种肿瘤的大白鼠接受不同的实验处理后（对照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未服药，服抗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A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药，服抗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药， 服抗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药），比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周后体内平均存活的肿瘤细胞数是否有差异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  <a:ea typeface="华文细黑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2120" y="2071800"/>
            <a:ext cx="743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方差分析的前提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样本独立，并且服从正态分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,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等方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2120" y="3057480"/>
            <a:ext cx="7445520" cy="339588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的实现：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anova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: m0=ma=mb=mc 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4319640" cy="1325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0" t="16414" r="81629" b="58406"/>
          <a:stretch/>
        </p:blipFill>
        <p:spPr>
          <a:xfrm>
            <a:off x="5148360" y="3716280"/>
            <a:ext cx="1728720" cy="1481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68915" r="54603" b="9049"/>
          <a:stretch/>
        </p:blipFill>
        <p:spPr>
          <a:xfrm>
            <a:off x="395280" y="5013360"/>
            <a:ext cx="4321080" cy="1224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两样本方差分析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PK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T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检验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等方差的条件下，两者等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74148" r="45401" b="9049"/>
          <a:stretch/>
        </p:blipFill>
        <p:spPr>
          <a:xfrm>
            <a:off x="181080" y="2276640"/>
            <a:ext cx="7559640" cy="1454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线性相关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2120" y="1052640"/>
            <a:ext cx="7434360" cy="100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描述两变量之间的线性相关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例：生长发育中的身高和年龄的关系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  <a:ea typeface="华文细黑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" y="2071800"/>
            <a:ext cx="743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线性相关的前提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X,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服从正态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120" y="3057480"/>
            <a:ext cx="7445520" cy="339588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的实现：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cor.test()           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: r=0  ?? r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为相关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3759120"/>
            <a:ext cx="3273480" cy="1325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0" t="14304" r="84912" b="41578"/>
          <a:stretch/>
        </p:blipFill>
        <p:spPr>
          <a:xfrm>
            <a:off x="4932360" y="3933720"/>
            <a:ext cx="1655640" cy="237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rcRect l="0" t="58406" r="54603" b="13238"/>
          <a:stretch/>
        </p:blipFill>
        <p:spPr>
          <a:xfrm>
            <a:off x="682560" y="5118120"/>
            <a:ext cx="3384720" cy="1353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27640" y="1052640"/>
                <a:ext cx="3024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元线性回归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2120" y="1052640"/>
            <a:ext cx="7434360" cy="100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描述变量之间的线性相关程度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y=a+bx+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例：生长发育中的身高和年龄的关系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  <a:ea typeface="华文细黑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120" y="2071800"/>
            <a:ext cx="743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线性相关的前提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随机误差值相互独立，且同方差，随机误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~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σ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2120" y="3057480"/>
            <a:ext cx="7445520" cy="339588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的实现：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lm()           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: slope=0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3759120"/>
            <a:ext cx="3273480" cy="1325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0" t="14304" r="84912" b="41578"/>
          <a:stretch/>
        </p:blipFill>
        <p:spPr>
          <a:xfrm>
            <a:off x="4932360" y="3933720"/>
            <a:ext cx="1655640" cy="237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rcRect l="0" t="69960" r="53415" b="10094"/>
          <a:stretch/>
        </p:blipFill>
        <p:spPr>
          <a:xfrm>
            <a:off x="684360" y="5156280"/>
            <a:ext cx="3527280" cy="1297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? Huh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080" y="1341360"/>
            <a:ext cx="7415280" cy="2148120"/>
          </a:xfrm>
          <a:prstGeom prst="rect">
            <a:avLst/>
          </a:prstGeom>
          <a:solidFill>
            <a:srgbClr val="feeca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  <a:ea typeface="宋体"/>
              </a:rPr>
              <a:t>Backgr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from S language (AT&amp;T Bell L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reeware developed by statisticians and programmers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华文细黑"/>
              </a:rPr>
              <a:t>Ross Ihaka and Robert Gentlem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latform designed for analysis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Data manipulation, statistical analysis, plo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Like Splus, SAS, Matlab, Stata, SPSS,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529080"/>
            <a:ext cx="7415280" cy="2473200"/>
          </a:xfrm>
          <a:prstGeom prst="rect">
            <a:avLst/>
          </a:prstGeom>
          <a:solidFill>
            <a:srgbClr val="feeb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Where can we ge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cran.r-projec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te: install on your computer even if you are not ad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90040" y="1989000"/>
            <a:ext cx="133164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线性相关 </a:t>
            </a:r>
            <a:r>
              <a:rPr b="0" lang="zh-CN" sz="3200" spc="-1" strike="noStrike">
                <a:solidFill>
                  <a:srgbClr val="f91807"/>
                </a:solidFill>
                <a:latin typeface="Arial"/>
              </a:rPr>
              <a:t>PK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元线性回归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267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两者等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2133720"/>
            <a:ext cx="7445520" cy="339552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相关系数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=0 ??           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: slope=0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69960" r="53415" b="10094"/>
          <a:stretch/>
        </p:blipFill>
        <p:spPr>
          <a:xfrm>
            <a:off x="4140360" y="3284640"/>
            <a:ext cx="3311280" cy="1296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58406" r="54603" b="13238"/>
          <a:stretch/>
        </p:blipFill>
        <p:spPr>
          <a:xfrm>
            <a:off x="395280" y="3284640"/>
            <a:ext cx="3384720" cy="1353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多元线性回归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2120" y="1052640"/>
            <a:ext cx="7434360" cy="100800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描述一个因变量跟多个自变量之间的线性关系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y=b</a:t>
            </a:r>
            <a:r>
              <a:rPr b="0" lang="zh-CN" sz="1800" spc="-1" strike="noStrike" baseline="-25000">
                <a:solidFill>
                  <a:srgbClr val="0000ff"/>
                </a:solidFill>
                <a:latin typeface="Arial"/>
                <a:ea typeface="华文细黑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+b</a:t>
            </a:r>
            <a:r>
              <a:rPr b="0" lang="zh-CN" sz="1800" spc="-1" strike="noStrike" baseline="-25000">
                <a:solidFill>
                  <a:srgbClr val="0000ff"/>
                </a:solidFill>
                <a:latin typeface="Arial"/>
                <a:ea typeface="华文细黑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x</a:t>
            </a:r>
            <a:r>
              <a:rPr b="0" lang="zh-CN" sz="1800" spc="-1" strike="noStrike" baseline="-25000">
                <a:solidFill>
                  <a:srgbClr val="0000ff"/>
                </a:solidFill>
                <a:latin typeface="Arial"/>
                <a:ea typeface="华文细黑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+b</a:t>
            </a:r>
            <a:r>
              <a:rPr b="0" lang="zh-CN" sz="1800" spc="-1" strike="noStrike" baseline="-25000">
                <a:solidFill>
                  <a:srgbClr val="0000ff"/>
                </a:solidFill>
                <a:latin typeface="Arial"/>
                <a:ea typeface="华文细黑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x</a:t>
            </a:r>
            <a:r>
              <a:rPr b="0" lang="zh-CN" sz="1800" spc="-1" strike="noStrike" baseline="-25000">
                <a:solidFill>
                  <a:srgbClr val="0000ff"/>
                </a:solidFill>
                <a:latin typeface="Arial"/>
                <a:ea typeface="华文细黑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+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例：生长发育中的身高与年龄和体重的关系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  <a:ea typeface="华文细黑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2120" y="2071800"/>
            <a:ext cx="743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线性相关的前提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服从独立等方差正态分布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x1, x2….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独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120" y="3057480"/>
            <a:ext cx="7445520" cy="3395880"/>
          </a:xfrm>
          <a:prstGeom prst="rect">
            <a:avLst/>
          </a:prstGeom>
          <a:solidFill>
            <a:srgbClr val="feebe2"/>
          </a:solidFill>
          <a:ln w="9360">
            <a:solidFill>
              <a:srgbClr val="fee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中的实现：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lm(y~x1+x2+….)   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检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: model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成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细黑"/>
              </a:rPr>
              <a:t>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9480" y="3716280"/>
            <a:ext cx="3961080" cy="1325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45814" r="78997" b="8010"/>
          <a:stretch/>
        </p:blipFill>
        <p:spPr>
          <a:xfrm>
            <a:off x="4859280" y="3862440"/>
            <a:ext cx="2305080" cy="2519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22707" r="55252" b="54191"/>
          <a:stretch/>
        </p:blipFill>
        <p:spPr>
          <a:xfrm>
            <a:off x="609480" y="5084640"/>
            <a:ext cx="3962520" cy="1297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14" name=""/>
          <p:cNvSpPr txBox="1"/>
          <p:nvPr/>
        </p:nvSpPr>
        <p:spPr>
          <a:xfrm>
            <a:off x="6659640" y="4869000"/>
            <a:ext cx="7700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细黑"/>
              </a:rPr>
              <a:t>？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细黑"/>
              <a:ea typeface="华文细黑"/>
            </a:endParaRPr>
          </a:p>
        </p:txBody>
      </p:sp>
      <p:sp>
        <p:nvSpPr>
          <p:cNvPr id="215" name=""/>
          <p:cNvSpPr/>
          <p:nvPr/>
        </p:nvSpPr>
        <p:spPr>
          <a:xfrm>
            <a:off x="7790040" y="579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Q&amp;A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anks</a:t>
            </a:r>
            <a:endParaRPr b="0" lang="en-US" sz="6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S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743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与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AS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比较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7200720" cy="287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90040" y="2124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安装和更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4340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版本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更新（每三个月更新一次）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pdate.packages(checkBuilt = TRUE, ask = FALSE)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# or install.packages(.packages(all = TRU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90040" y="228600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帮助系统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743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Help syste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help(topic), ??topic, help.search(‘topic’)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propos('topic'), help.start(), RSiteSearch('topic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Session setting and saving objec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File-”Change dir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File-”Load/Save Workspace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File-”Load/Save Histo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90040" y="244008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indow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下面的操作界面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3401"/>
          <a:stretch/>
        </p:blipFill>
        <p:spPr>
          <a:xfrm>
            <a:off x="684360" y="1052640"/>
            <a:ext cx="6688080" cy="511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90040" y="258768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包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3280" y="907920"/>
            <a:ext cx="6931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显示本地所有安装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包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packages(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Other packa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ran.r-projec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11553" r="0" b="3401"/>
          <a:stretch/>
        </p:blipFill>
        <p:spPr>
          <a:xfrm>
            <a:off x="684360" y="2997360"/>
            <a:ext cx="6624360" cy="338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880" y="5013360"/>
            <a:ext cx="8161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90040" y="2749680"/>
            <a:ext cx="133164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数据类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2720" y="907920"/>
            <a:ext cx="6696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基本数据类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数字，字符，布尔，因子，日期，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vector.n &lt;- c(1,4,7,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vector.c &lt;- c("a","a","b","d","c","a","b","b"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vector.f &lt;- factor(vector.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levels(vector.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高级数据类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矩阵，数据框，列表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matrix.a &lt;- matrix(100, ncol=10, byrow=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data.df &lt;- data.frame(x=1:3, y=c("a", "b", "c"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ist.a &lt;- list(x=c(1, 2, 3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y=c("a", "b", "c"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z=data.d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特殊值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失值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（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missing value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无限值 </a:t>
            </a: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(infinite value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NA, NaN, In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0040" y="2997360"/>
            <a:ext cx="133164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0:12:51Z</dcterms:created>
  <dc:creator>Sophia Zhang</dc:creator>
  <dc:description/>
  <dc:language>en-US</dc:language>
  <cp:lastModifiedBy>szhang</cp:lastModifiedBy>
  <dcterms:modified xsi:type="dcterms:W3CDTF">2010-11-15T02:24:11Z</dcterms:modified>
  <cp:revision>138</cp:revision>
  <dc:subject/>
  <dc:title>幻灯片 1</dc:title>
</cp:coreProperties>
</file>