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fshao" initials="f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0-11-13T17:30:30.515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move the slide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E19E-6806-45C0-86CE-AD0F7679A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764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4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1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764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4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11320" y="1773000"/>
            <a:ext cx="7678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764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4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11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764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4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1320" y="1773000"/>
            <a:ext cx="7678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7" descr="MangoSolutions_Logo"/>
          <p:cNvPicPr/>
          <p:nvPr/>
        </p:nvPicPr>
        <p:blipFill>
          <a:blip r:embed="rId2"/>
          <a:stretch/>
        </p:blipFill>
        <p:spPr>
          <a:xfrm>
            <a:off x="5910120" y="374760"/>
            <a:ext cx="2880000" cy="750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Mango_Footer_COL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ngo_Backdrop"/>
          <p:cNvPicPr/>
          <p:nvPr/>
        </p:nvPicPr>
        <p:blipFill>
          <a:blip r:embed="rId2"/>
          <a:srcRect l="0" t="7640" r="0" b="0"/>
          <a:stretch/>
        </p:blipFill>
        <p:spPr>
          <a:xfrm>
            <a:off x="0" y="1731960"/>
            <a:ext cx="9144000" cy="51260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Mango_Bar"/>
          <p:cNvPicPr/>
          <p:nvPr/>
        </p:nvPicPr>
        <p:blipFill>
          <a:blip r:embed="rId3"/>
          <a:stretch/>
        </p:blipFill>
        <p:spPr>
          <a:xfrm>
            <a:off x="0" y="395280"/>
            <a:ext cx="5743440" cy="2343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MangoSolutions_Logo"/>
          <p:cNvPicPr/>
          <p:nvPr/>
        </p:nvPicPr>
        <p:blipFill>
          <a:blip r:embed="rId4"/>
          <a:stretch/>
        </p:blipFill>
        <p:spPr>
          <a:xfrm>
            <a:off x="5910120" y="374760"/>
            <a:ext cx="2880000" cy="75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5257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R in Enterprise Environment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企业环境中的</a:t>
            </a:r>
            <a:r>
              <a:rPr b="1" lang="en-GB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endParaRPr b="0" lang="en-US" sz="26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16360" y="6381360"/>
            <a:ext cx="3960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邵凡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fsha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@mango-solutions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388080" y="2320920"/>
            <a:ext cx="321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14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日 第三届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hinaR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会议（上海）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256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27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  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3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13739" t="0" r="24425" b="43237"/>
          <a:stretch/>
        </p:blipFill>
        <p:spPr>
          <a:xfrm>
            <a:off x="539640" y="1413000"/>
            <a:ext cx="806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256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27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  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4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4764" t="4772" r="12726" b="29574"/>
          <a:stretch/>
        </p:blipFill>
        <p:spPr>
          <a:xfrm>
            <a:off x="539640" y="1486080"/>
            <a:ext cx="813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256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27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  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5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</a:rPr>
              <a:t>小结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语言的验证（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lidation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系统的整合能力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一个真实的故事（续）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4480" y="1700280"/>
            <a:ext cx="8381880" cy="3800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90040" y="5805360"/>
            <a:ext cx="70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* 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幻灯片截图来自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Andy Nicholls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在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日伦敦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用户组的演讲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ow I’m Selling R in GSK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有用的资源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5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伦敦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用户组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ttp://londonr.org/LondonR-20090331/Agenda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5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巴塞尔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用户组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ttp://baselr.org/Presentations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5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 for Financ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 -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ttp://www.rinfinance.com/agenda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1965240" cy="295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48200" y="1619280"/>
            <a:ext cx="39798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  <a:ea typeface="宋体"/>
              </a:rPr>
              <a:t>欢迎联系！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电话：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021 – 5178 1325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或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138 183 6653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邮件：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fshao@mango-solutions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地址：上海市肇嘉浜路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1065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号飞雕国际大厦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1604F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（徐家汇百思买楼上）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我（们）是谁？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16000" y="2637000"/>
            <a:ext cx="396072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成立于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2002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总部位于英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瑞士与中国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(2011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年美国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专长于：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/S+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编程与培训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Java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企业解决方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统计相关的软件开发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64000" y="1917720"/>
            <a:ext cx="24638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</a:rPr>
              <a:t>我们的客户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3700440" y="201924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3700440" y="201924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Picture 20" descr="AstraZenecaLogo"/>
          <p:cNvPicPr/>
          <p:nvPr/>
        </p:nvPicPr>
        <p:blipFill>
          <a:blip r:embed="rId1"/>
          <a:stretch/>
        </p:blipFill>
        <p:spPr>
          <a:xfrm>
            <a:off x="6227640" y="3141720"/>
            <a:ext cx="1536840" cy="46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"/>
          <p:cNvPicPr/>
          <p:nvPr/>
        </p:nvPicPr>
        <p:blipFill>
          <a:blip r:embed="rId2"/>
          <a:stretch/>
        </p:blipFill>
        <p:spPr>
          <a:xfrm>
            <a:off x="3753000" y="2617920"/>
            <a:ext cx="1798560" cy="34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"/>
          <p:cNvPicPr/>
          <p:nvPr/>
        </p:nvPicPr>
        <p:blipFill>
          <a:blip r:embed="rId3"/>
          <a:stretch/>
        </p:blipFill>
        <p:spPr>
          <a:xfrm>
            <a:off x="6637320" y="2575080"/>
            <a:ext cx="719280" cy="43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RocheLogo"/>
          <p:cNvPicPr/>
          <p:nvPr/>
        </p:nvPicPr>
        <p:blipFill>
          <a:blip r:embed="rId4"/>
          <a:stretch/>
        </p:blipFill>
        <p:spPr>
          <a:xfrm>
            <a:off x="1763640" y="3357720"/>
            <a:ext cx="741600" cy="39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108_GSK%20logo%204%20colour"/>
          <p:cNvPicPr/>
          <p:nvPr/>
        </p:nvPicPr>
        <p:blipFill>
          <a:blip r:embed="rId5"/>
          <a:stretch/>
        </p:blipFill>
        <p:spPr>
          <a:xfrm>
            <a:off x="1476360" y="2565360"/>
            <a:ext cx="122256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Astellas Pharma logo.svg"/>
          <p:cNvPicPr/>
          <p:nvPr/>
        </p:nvPicPr>
        <p:blipFill>
          <a:blip r:embed="rId6"/>
          <a:stretch/>
        </p:blipFill>
        <p:spPr>
          <a:xfrm>
            <a:off x="1187280" y="4869000"/>
            <a:ext cx="1513080" cy="41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7"/>
          <a:stretch/>
        </p:blipFill>
        <p:spPr>
          <a:xfrm>
            <a:off x="3803760" y="3309840"/>
            <a:ext cx="1695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8"/>
          <a:stretch/>
        </p:blipFill>
        <p:spPr>
          <a:xfrm>
            <a:off x="3924360" y="4056120"/>
            <a:ext cx="1511280" cy="525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9"/>
          <a:stretch/>
        </p:blipFill>
        <p:spPr>
          <a:xfrm>
            <a:off x="1403280" y="4221000"/>
            <a:ext cx="1295640" cy="23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10"/>
          <a:stretch/>
        </p:blipFill>
        <p:spPr>
          <a:xfrm>
            <a:off x="4140360" y="4941720"/>
            <a:ext cx="1008000" cy="39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11"/>
          <a:stretch/>
        </p:blipFill>
        <p:spPr>
          <a:xfrm>
            <a:off x="6588000" y="4869000"/>
            <a:ext cx="719280" cy="67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"/>
          <p:cNvPicPr/>
          <p:nvPr/>
        </p:nvPicPr>
        <p:blipFill>
          <a:blip r:embed="rId12"/>
          <a:stretch/>
        </p:blipFill>
        <p:spPr>
          <a:xfrm>
            <a:off x="6156360" y="4013280"/>
            <a:ext cx="1655640" cy="4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06920" y="57261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以及更多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一个真实</a:t>
            </a:r>
            <a:br>
              <a:rPr sz="3500"/>
            </a:b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的故事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26589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Dr. Andy Nicholls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2007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年加入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GS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做出推广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的努力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问题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(1) – 77.1 * 850 = ?</a:t>
            </a:r>
            <a:br>
              <a:rPr sz="3500"/>
            </a:b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开源软件可以信任吗？</a:t>
            </a:r>
            <a:endParaRPr b="0" lang="en-US" sz="24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3743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问题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(2) – R + Java + OpenBugs = ?</a:t>
            </a:r>
            <a:br>
              <a:rPr sz="3500"/>
            </a:b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可以和其他软件整合吗？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40370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内嵌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Java, RPy, RSRub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228600" indent="-22716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独立的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Serve, svSocket, RinRuby, R.rsp, rApache, R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2684520"/>
            <a:ext cx="2028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</a:t>
            </a:r>
            <a:br>
              <a:rPr sz="3100"/>
            </a:b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1</a:t>
            </a: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4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由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Mango 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和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GSK Verona IT 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共同开发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核心是流程整合：数据采集、建模、生成报告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建模：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NONMEM, BUG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报告：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, Jav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用到的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包：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lattice, predmo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35640" y="2781360"/>
            <a:ext cx="302400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6840" y="141264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</a:t>
            </a:r>
            <a:br>
              <a:rPr sz="3100"/>
            </a:b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2</a:t>
            </a: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4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3068640"/>
            <a:ext cx="216000" cy="3024360"/>
          </a:xfrm>
          <a:prstGeom prst="rect">
            <a:avLst/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1967040" y="30686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界面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1762200" y="3860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3645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429000"/>
            <a:ext cx="2232000" cy="576360"/>
          </a:xfrm>
          <a:prstGeom prst="rect">
            <a:avLst/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NONMEM/OpenBug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64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724280"/>
            <a:ext cx="934920" cy="1081080"/>
          </a:xfrm>
          <a:prstGeom prst="can">
            <a:avLst>
              <a:gd name="adj" fmla="val 25000"/>
            </a:avLst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文件共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6396120" y="280044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网格平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645000"/>
            <a:ext cx="1728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14560" y="4653000"/>
            <a:ext cx="15858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714560" y="3716280"/>
            <a:ext cx="115236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2560" y="3213000"/>
            <a:ext cx="1060560" cy="1728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64000" y="3357720"/>
            <a:ext cx="1008000" cy="576000"/>
          </a:xfrm>
          <a:prstGeom prst="rect">
            <a:avLst/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1009800" cy="7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2:11:37Z</dcterms:created>
  <dc:creator/>
  <dc:description>.</dc:description>
  <dc:language>en-US</dc:language>
  <cp:lastModifiedBy>fshao</cp:lastModifiedBy>
  <dcterms:modified xsi:type="dcterms:W3CDTF">2010-11-13T14:37:34Z</dcterms:modified>
  <cp:revision>205</cp:revision>
  <dc:subject/>
  <dc:title>Presentation title</dc:title>
</cp:coreProperties>
</file>