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BAA5-70F9-416B-A0C4-15C4B714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B1CF-628A-4FDF-807F-EECACE0B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B295-3DA5-4792-BC06-D5D5FAA53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1B1B-E056-4C0C-B0B4-F53CF669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F9F3-4AFB-44AF-B286-A0C7D60C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23EC-A0B3-400C-A5AD-8ED522F5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75B4-EF76-4359-B0CC-B57C1A47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A841-DC5D-42DC-B164-EF014DDD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081F-4327-463A-9107-3EB10BB8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EDF9-6667-4755-9C51-729F9D14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B81F-4671-46B9-8DE5-AC34865B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43BD-8842-40DE-9E16-D5DB5B5F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BEA2-1EC9-4F33-AA4C-F7FB10D2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1915-9F1B-4E5F-A8AE-E030E568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993A-B0B3-4B23-93AC-045E9B2C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81C3-F1E4-4766-BC25-9987D3F95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A895-B654-4809-A23B-1C6F0F94F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1226-DC48-409D-996F-679D773F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80A2-28CB-418B-876E-C9341243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36FB-4676-4A18-8E4B-87F7DE43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9AB8-40CA-4D81-935E-6A94868E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B1A7-3E7F-49E5-B50E-4FD2C7CB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EB2D-E15A-4D0C-9B20-9E950A57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FA67-7800-423C-95C6-8A8215C3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L01_4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FB6E-B965-41F0-AB0F-890BAA258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L01_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卫生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卫生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9D25-6E79-4CAB-80CB-DB56DEE27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卫生"/>
              </a:rPr>
              <a:t>libfann R binding </a:t>
            </a:r>
            <a:endParaRPr b="1" lang="en-US" sz="3600" spc="-1" strike="noStrike">
              <a:solidFill>
                <a:srgbClr val="000000"/>
              </a:solidFill>
              <a:latin typeface="卫生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快速神经网络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上的绑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例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rary(fan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x&lt;-c( 1, 1,-1,-1, 1,-1, 1,-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dim(x) &lt;- c(4,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y&lt;-c(-1,1,1,-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nn&lt;-fann_create(num_layers=3,layer1=2,layer2=2,layer3=1,num_neurons_hidden=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fann_SetOpt(ann,bit_fail_limit=0.35,train_stop_function="MSE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fann_SetOpt(ann,.......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fann_Commit(an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fann_train(ann,x,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fann_save(ann,"./xortemp.net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&lt;-fann_test(ann,x,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rfan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中的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Nncomon.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typedef struct FANNOPT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char *opt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nt typ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FANNCODE op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(void *)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} FannOp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annOpt.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annProc.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annData.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遗留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*NIX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版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list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类型的支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目前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R-ext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还不能解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ann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形化显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rfan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形化显示训练过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rfan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适用局限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训练时间长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工神经网络需要长时间的训练，有时可能使之变得不实用。大多数简单问题的网络训练需要至少上千次迭代，复杂问题的训练可能需要多达数万次迭代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需大量训练数据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只有少量输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输出数据，一般不考虑使用人工神经网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保证最佳结果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训练可能导致网络发生偏离，使之在一些操作区域内结果准确，而在其他区域则不准确。此外，在训练过程中，有可能偶尔陷入“局部最小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保证完全可靠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尽管这一点对所有的计算问题均适用，但对人工神经网络尤其如此。需要高度可靠的问题，在采用人工神经网络时必须小心谨慎。生物制药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Eric Xing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金融程序交易④、火控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结论：神经网络的隐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隐层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通常增加隐层数可以降低网络误差（也有文献认为不一定能有效降低），提高精度，但也使网络复杂化，从而增加了网络的训练时间和出现“过拟合”的倾向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ni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等早已证明：若输入层和输出层采用线性转换函数，隐层采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moi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转换函数，则含一个隐层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网络能够以任意精度逼近任何有理函数。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般地，靠增加隐层节点数来获得较低的误差，其训练效果要比增加隐层数更容易实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推荐阅读材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teffen Nissen Implementation of a Fast Artificial Neural Network Library (fan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nil K.Jain Jianchang Mao K.M Mohiuddin: Artificial Neural Network:: A Tutorial IEEE March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en Krose Patrick van der Smagt An introduction to Neural Networks eighth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JingTao YAO &amp;Chew Lim TAN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.1.1.18.687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Guidelines for Financial Forecasting with Neural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感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视神经传导分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317600" y="1600200"/>
            <a:ext cx="6508800" cy="4525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rot="10800000">
            <a:off x="8027640" y="2274480"/>
            <a:ext cx="7290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icture from  Simon. Thor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Nerual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76200" y="1600200"/>
            <a:ext cx="6589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ctivation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71640" y="1270080"/>
            <a:ext cx="779292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libfann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要特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开发、多层、易用、快速、多参数易调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支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NN BP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多种方法 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RPROP, Quickprop, Batch, Incremen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要语言种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d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ER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H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yth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Rub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Visual Prolog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计算相关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atla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ct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rfan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下载及安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获取软件包：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ttps://sourceforge.net/projects/rfann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*NIX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环境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cc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开发工具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安装命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R CMD INSTALL ./fann.tg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rfann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之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R 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ann_cre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ann_SetO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ann_o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ann_Com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ann_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ann_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ann_s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ann_re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ann_version_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rfan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参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1] "------------------------------------------------------------"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2] "network type [ LAYER | SHORTCUT ] Can't be set"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3] "network_type=FANN_NETTYPE_LAYER"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5] "------------------------------------------------------------"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6] "ann type [ Simple | Cascade | Expand | Sparse ] For Create"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9] "-------------------- Basic parameters --------------------"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10] "init_weight=Init"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11] "num_layers=2"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12] ""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13] "num_input=2"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14] "num_output=1"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15] "num_neurons_hidden=3"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16] "desired_error=0.002000"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17] "-------------------- Expand parameters --------------------"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18] "randomize_weight_high=0.350000"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19] "randomize_weight_low=0.350000"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20] "learning_rate=0.700000"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21] "connection_rate=0.200000"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22] "bit_fail_limit=0.010000"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23] "max_epochs=10000"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24] "epochs_between_reports=1000"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25] "learning_momentum=0.700000"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26] "------------------------------------------------------------"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27] "train algorithm: [ INCREMENTAL | BATCH | RPROP | QUICKPROP ]"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rfan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参数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30] "------------------------------------------------------------"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31] "error function: [ LINEAR | TANH ]"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32] "train_error_function=FANN_ERRORFUNC_TANH"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33] ""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34] "------------------------------------------------------------"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35] "stop function: [ MSE | BIT ]"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36] "train_stop_function=FANN_STOPFUNC_BIT"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37] ""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38] "-------------------- rprop parameters ---------------------"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39] "quickprop_decay=-0.000100"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40] "quickprop_mu=1.750000"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41] "rprop_increase_factor=1.200000"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42] "rprop_decrease_factor=0.500000"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43] "rprop_delta_min=0.000000"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44] "rprop_delta_max=50.000000"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45] "rprop_delta_zero=0.000000"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46] ""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47] "activation_steepness_hidden=2.000000"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48] "activation_steepness_output=4.000000"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49] "------------------------------------------------------------"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50] "Options below  [ LINEAR | THRESHOLD | THRESHOLD_SYMMETRIC ]"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51] "cont: [ SIGMOID| SIGMOID_STEPWISE| SIGMOID_SYMMETRIC | SIGMOID_SYMMETRIC_STEPWISE ]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52] "cont: [ GAUSSIAN| GAUSSIAN_SYMMETRIC | GAUSSIAN_STEPWISE ]"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53] "cont: [ ELLIOT | ELLIOT_SYMMETRIC"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54] "cont: [ LINEAR_PIECE | LINEAR_PIECE_SYMMETRIC ]"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55] "cont: [ SIN_SYMMETRIC| COS_SYMMETRIC | SIN | COS ]"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56] "------------------------------------------------------------"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57] "activation_function_hidden=FANN_SIGMOID_SYMMETRIC"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58] "activation_function_output=FANN_GAUSSIAN_SYMMETRIC"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5T17:49:32Z</dcterms:created>
  <dc:creator/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