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1320" y="461448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4648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764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432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132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764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432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11320" y="1773000"/>
            <a:ext cx="767880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648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11320" y="461448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4648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764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432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1132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764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432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11320" y="1773000"/>
            <a:ext cx="767880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648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9a533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221400" indent="-22032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432360" indent="-20952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634320" indent="-19980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846720" indent="-21060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846720" indent="-21060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846720" indent="-21060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" name="Picture 7" descr="MangoSolutions_Logo"/>
          <p:cNvPicPr/>
          <p:nvPr/>
        </p:nvPicPr>
        <p:blipFill>
          <a:blip r:embed="rId2"/>
          <a:stretch/>
        </p:blipFill>
        <p:spPr>
          <a:xfrm>
            <a:off x="5910120" y="374760"/>
            <a:ext cx="2880000" cy="7506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Mango_Footer_COL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Mango_Backdrop"/>
          <p:cNvPicPr/>
          <p:nvPr/>
        </p:nvPicPr>
        <p:blipFill>
          <a:blip r:embed="rId2"/>
          <a:srcRect l="0" t="7640" r="0" b="0"/>
          <a:stretch/>
        </p:blipFill>
        <p:spPr>
          <a:xfrm>
            <a:off x="0" y="1731960"/>
            <a:ext cx="9144000" cy="51260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Mango_Bar"/>
          <p:cNvPicPr/>
          <p:nvPr/>
        </p:nvPicPr>
        <p:blipFill>
          <a:blip r:embed="rId3"/>
          <a:stretch/>
        </p:blipFill>
        <p:spPr>
          <a:xfrm>
            <a:off x="0" y="395280"/>
            <a:ext cx="5743440" cy="2343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MangoSolutions_Logo"/>
          <p:cNvPicPr/>
          <p:nvPr/>
        </p:nvPicPr>
        <p:blipFill>
          <a:blip r:embed="rId4"/>
          <a:stretch/>
        </p:blipFill>
        <p:spPr>
          <a:xfrm>
            <a:off x="5910120" y="374760"/>
            <a:ext cx="2880000" cy="750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9a533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221400" indent="-22032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432360" indent="-20952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634320" indent="-19980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846720" indent="-21060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846720" indent="-21060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846720" indent="-21060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ango-solutions.com.cn/" TargetMode="External"/><Relationship Id="rId2" Type="http://schemas.openxmlformats.org/officeDocument/2006/relationships/hyperlink" Target="http://www.mango-solutions.com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5257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禽流感分析中的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R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MSToolkit, Rweibo, html5vis </a:t>
            </a:r>
            <a:r>
              <a:rPr b="1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包的介绍</a:t>
            </a:r>
            <a:endParaRPr b="0" lang="en-US" sz="18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24000" y="1773360"/>
            <a:ext cx="6192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李舰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(jli@mango-solutions.com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周扬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(yzhou@mango-solutions.com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新药研发中的数学模型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pic>
        <p:nvPicPr>
          <p:cNvPr id="85" name="Rectangle 3" descr=""/>
          <p:cNvPicPr/>
          <p:nvPr/>
        </p:nvPicPr>
        <p:blipFill>
          <a:blip r:embed="rId1"/>
          <a:stretch/>
        </p:blipFill>
        <p:spPr>
          <a:xfrm>
            <a:off x="1838160" y="2930400"/>
            <a:ext cx="6224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建模和模拟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2163600" y="2930400"/>
            <a:ext cx="557388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R</a:t>
            </a: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与</a:t>
            </a: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M&amp;S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1"/>
          <a:stretch/>
        </p:blipFill>
        <p:spPr>
          <a:xfrm>
            <a:off x="1803240" y="2930400"/>
            <a:ext cx="62931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MSToolkit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16000" y="26370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999"/>
              </a:lnSpc>
              <a:spcAft>
                <a:spcPts val="67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install.packa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"MSToolkit", repos = "http://R-Forge.R-project.org"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新药研发阶段的建模和模拟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临床实验数据的分析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9a533"/>
                </a:solidFill>
                <a:latin typeface="Trebuchet MS"/>
              </a:rPr>
              <a:t>Rweibo</a:t>
            </a:r>
            <a:br>
              <a:rPr sz="3500"/>
            </a:b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6370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999"/>
              </a:lnSpc>
              <a:spcAft>
                <a:spcPts val="67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install.packa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"Rweibo", repos = "http://R-Forge.R-project.org"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67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</a:rPr>
              <a:t>新浪微博的</a:t>
            </a:r>
            <a:r>
              <a:rPr b="0" lang="zh-CN" sz="1800" spc="-1" strike="noStrike">
                <a:solidFill>
                  <a:srgbClr val="000000"/>
                </a:solidFill>
                <a:latin typeface="Trebuchet MS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Trebuchet MS"/>
              </a:rPr>
              <a:t>语言</a:t>
            </a:r>
            <a:r>
              <a:rPr b="0" lang="zh-CN" sz="1800" spc="-1" strike="noStrike">
                <a:solidFill>
                  <a:srgbClr val="000000"/>
                </a:solidFill>
                <a:latin typeface="Trebuchet MS"/>
              </a:rPr>
              <a:t>AP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67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Rwordseg </a:t>
            </a: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：中文分词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67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tmcn</a:t>
            </a: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：中文处理和中文文本挖掘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ts val="2999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3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94280" cy="408924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3" descr=""/>
          <p:cNvPicPr/>
          <p:nvPr/>
        </p:nvPicPr>
        <p:blipFill>
          <a:blip r:embed="rId2"/>
          <a:stretch/>
        </p:blipFill>
        <p:spPr>
          <a:xfrm>
            <a:off x="4562640" y="1978200"/>
            <a:ext cx="4186080" cy="4178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63040"/>
            <a:ext cx="511344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词云</a:t>
            </a:r>
            <a:br>
              <a:rPr sz="3500"/>
            </a:b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9a533"/>
                </a:solidFill>
                <a:latin typeface="Trebuchet MS"/>
              </a:rPr>
              <a:t>html5vis</a:t>
            </a:r>
            <a:br>
              <a:rPr sz="3500"/>
            </a:b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26370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999"/>
              </a:lnSpc>
              <a:spcAft>
                <a:spcPts val="67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install.packa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“html5vis", repos = "http://R-Forge.R-project.org"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基于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R 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和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Javascript 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实现的动态交互图形库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Corrplot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、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motionChart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、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clusterPlot(ggplot-style)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、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googleMap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、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d3-based GeoGrap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11320" y="3949200"/>
            <a:ext cx="7678800" cy="22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f9a533"/>
                </a:solidFill>
                <a:uFillTx/>
                <a:latin typeface="Trebuchet MS"/>
                <a:ea typeface="宋体"/>
                <a:hlinkClick r:id="rId1"/>
              </a:rPr>
              <a:t>中文网站：</a:t>
            </a:r>
            <a:r>
              <a:rPr b="0" lang="en-GB" sz="2200" spc="-1" strike="noStrike" u="sng">
                <a:solidFill>
                  <a:srgbClr val="f9a533"/>
                </a:solidFill>
                <a:uFillTx/>
                <a:latin typeface="Trebuchet MS"/>
                <a:ea typeface="宋体"/>
                <a:hlinkClick r:id="rId2"/>
              </a:rPr>
              <a:t>www.mango-solutions.com.c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新浪微博：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Weibo.com/mangosolut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电话：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+86 (0)186 0212 1997 / +86(0)21 5178 1325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地址：上海市徐汇区肇嘉浜路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1065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号飞雕国际大厦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1607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763640" y="2349360"/>
            <a:ext cx="5791320" cy="99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2:11:37Z</dcterms:created>
  <dc:creator>Liz Matthews</dc:creator>
  <dc:description>Developed by Julea Hardy 06/2010.</dc:description>
  <dc:language>en-US</dc:language>
  <cp:lastModifiedBy>Yang Zhou</cp:lastModifiedBy>
  <dcterms:modified xsi:type="dcterms:W3CDTF">2013-05-23T07:10:30Z</dcterms:modified>
  <cp:revision>226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